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8.png" ContentType="image/png"/>
  <Override PartName="/ppt/media/image13.png" ContentType="image/png"/>
  <Override PartName="/ppt/media/image28.jpeg" ContentType="image/jpeg"/>
  <Override PartName="/ppt/media/image5.gif" ContentType="image/gif"/>
  <Override PartName="/ppt/media/image7.jpeg" ContentType="image/jpeg"/>
  <Override PartName="/ppt/media/image34.jpeg" ContentType="image/jpeg"/>
  <Override PartName="/ppt/media/image20.png" ContentType="image/png"/>
  <Override PartName="/ppt/media/image36.jpeg" ContentType="image/jpeg"/>
  <Override PartName="/ppt/media/image11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4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3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F327-C96A-48D7-AE3E-FC449CA9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33D-83E4-4413-83A9-EAA1A897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0BF-7A76-4134-86CC-0DC243BE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566A-3C80-4FF5-B28C-9FFDDB6C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F201-0C38-4B6F-9F42-C0DC849E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0AA6-E6BF-426B-89E0-AC8AC754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4DD9-FFB6-4A78-B2BD-FBF877ED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7737-3EC9-4BEA-AFCB-E2490CCB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FAB4-4DB0-4B48-9985-2EBFB8EB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3601-83F2-48EA-869A-B3F9F78A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531B-34CD-447B-B38E-E715D820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E5F4-4C1A-4A85-A4DA-C3D64A56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D7B0-2F70-4657-8851-F199DFE9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1CE3-3222-488B-8FC3-90C6B454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F503-B4AA-4895-A2C6-5603FB83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6A29-215B-44C3-BA11-50E5CAFE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DA52-2680-4273-A647-7A5BF932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992-27AC-4654-AE20-7D5C537A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5B83-598E-4377-97D8-7DE95E99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835-549B-4733-9FF8-C0CBB101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F5C-0522-4176-8E6F-653C4C40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2105-DB8B-4E54-B9A2-A40B3CD8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1D2-0666-4E59-BA74-501273C9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672-91C1-49F3-9B13-31BE3DEF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F51E-DB7B-44A1-A346-F94519B444E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DEDD-7797-448F-9F33-C351428A9AF2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304920" y="521280"/>
            <a:ext cx="86104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Comic Sans MS"/>
              </a:rPr>
              <a:t>«Бездомные собаки…</a:t>
            </a:r>
            <a:r>
              <a:rPr b="1" lang="ru-RU" sz="4000" spc="-1" strike="noStrike">
                <a:solidFill>
                  <a:srgbClr val="42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Comic Sans MS"/>
              </a:rPr>
              <a:t>Они  не злые  -  они  несчастны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715000" y="2590920"/>
            <a:ext cx="32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чениц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 «А»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ОУ СОШ №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урбанова Виолет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уководител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узьмина Гал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ван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i-main-pic" descr="Картинка 3 из 2220"/>
          <p:cNvPicPr/>
          <p:nvPr/>
        </p:nvPicPr>
        <p:blipFill>
          <a:blip r:embed="rId1"/>
          <a:stretch/>
        </p:blipFill>
        <p:spPr>
          <a:xfrm>
            <a:off x="152280" y="2209680"/>
            <a:ext cx="141444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3200400" y="762120"/>
            <a:ext cx="68904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67608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1116000" cy="89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3809880" y="685800"/>
            <a:ext cx="851040" cy="5763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152280" y="4114800"/>
            <a:ext cx="8763120" cy="2590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о случай, произошедший на правобережь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асноярска заставляе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 минимум, задуматься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к ли уж все бродячие Шарики плох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304920" y="800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очему люди бросают собак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i-main-pic" descr="Картинка 30 из 40980"/>
          <p:cNvPicPr/>
          <p:nvPr/>
        </p:nvPicPr>
        <p:blipFill>
          <a:blip r:embed="rId1"/>
          <a:stretch/>
        </p:blipFill>
        <p:spPr>
          <a:xfrm>
            <a:off x="228600" y="1676520"/>
            <a:ext cx="1112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Файл:Deddd.JPG"/>
          <p:cNvPicPr/>
          <p:nvPr/>
        </p:nvPicPr>
        <p:blipFill>
          <a:blip r:embed="rId1"/>
          <a:stretch/>
        </p:blipFill>
        <p:spPr>
          <a:xfrm>
            <a:off x="152280" y="152280"/>
            <a:ext cx="1836720" cy="13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300400" cy="1403640"/>
          </a:xfrm>
          <a:prstGeom prst="rect">
            <a:avLst/>
          </a:prstGeom>
          <a:ln w="0">
            <a:noFill/>
          </a:ln>
        </p:spPr>
      </p:pic>
      <p:pic>
        <p:nvPicPr>
          <p:cNvPr id="139" name="i-main-pic" descr="Картинка 228 из 40980"/>
          <p:cNvPicPr/>
          <p:nvPr/>
        </p:nvPicPr>
        <p:blipFill>
          <a:blip r:embed="rId2"/>
          <a:stretch/>
        </p:blipFill>
        <p:spPr>
          <a:xfrm>
            <a:off x="4800600" y="609480"/>
            <a:ext cx="1814400" cy="1187640"/>
          </a:xfrm>
          <a:prstGeom prst="rect">
            <a:avLst/>
          </a:prstGeom>
          <a:ln w="0">
            <a:noFill/>
          </a:ln>
        </p:spPr>
      </p:pic>
      <p:pic>
        <p:nvPicPr>
          <p:cNvPr id="140" name="i-main-pic" descr="Картинка 36 из 2220"/>
          <p:cNvPicPr/>
          <p:nvPr/>
        </p:nvPicPr>
        <p:blipFill>
          <a:blip r:embed="rId3"/>
          <a:stretch/>
        </p:blipFill>
        <p:spPr>
          <a:xfrm>
            <a:off x="4495680" y="3429000"/>
            <a:ext cx="2168640" cy="16556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669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9080" y="3657600"/>
            <a:ext cx="4282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обаки жду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того Человека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оторый стане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их ДРУГОМ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statiapismo"/>
          <p:cNvPicPr/>
          <p:nvPr/>
        </p:nvPicPr>
        <p:blipFill>
          <a:blip r:embed="rId1"/>
          <a:stretch/>
        </p:blipFill>
        <p:spPr>
          <a:xfrm>
            <a:off x="0" y="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-main-pic" descr="Картинка 4 из 2220"/>
          <p:cNvPicPr/>
          <p:nvPr/>
        </p:nvPicPr>
        <p:blipFill>
          <a:blip r:embed="rId1"/>
          <a:stretch/>
        </p:blipFill>
        <p:spPr>
          <a:xfrm>
            <a:off x="533520" y="1600200"/>
            <a:ext cx="1276200" cy="792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52280" y="4572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еста обитания беспризорных соба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 селе Китаевско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SDC10968"/>
          <p:cNvPicPr/>
          <p:nvPr/>
        </p:nvPicPr>
        <p:blipFill>
          <a:blip r:embed="rId1"/>
          <a:stretch/>
        </p:blipFill>
        <p:spPr>
          <a:xfrm>
            <a:off x="228600" y="0"/>
            <a:ext cx="1193760" cy="755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SDC10971"/>
          <p:cNvPicPr/>
          <p:nvPr/>
        </p:nvPicPr>
        <p:blipFill>
          <a:blip r:embed="rId2"/>
          <a:stretch/>
        </p:blipFill>
        <p:spPr>
          <a:xfrm>
            <a:off x="3657600" y="0"/>
            <a:ext cx="873000" cy="720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SDC10976"/>
          <p:cNvPicPr/>
          <p:nvPr/>
        </p:nvPicPr>
        <p:blipFill>
          <a:blip r:embed="rId3"/>
          <a:stretch/>
        </p:blipFill>
        <p:spPr>
          <a:xfrm>
            <a:off x="6248520" y="0"/>
            <a:ext cx="1331640" cy="98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SDC10989"/>
          <p:cNvPicPr/>
          <p:nvPr/>
        </p:nvPicPr>
        <p:blipFill>
          <a:blip r:embed="rId4"/>
          <a:stretch/>
        </p:blipFill>
        <p:spPr>
          <a:xfrm rot="21540000">
            <a:off x="5797080" y="2154240"/>
            <a:ext cx="1138320" cy="826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SDC10993"/>
          <p:cNvPicPr/>
          <p:nvPr/>
        </p:nvPicPr>
        <p:blipFill>
          <a:blip r:embed="rId5"/>
          <a:stretch/>
        </p:blipFill>
        <p:spPr>
          <a:xfrm>
            <a:off x="3124080" y="2209680"/>
            <a:ext cx="1087560" cy="9367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9"/>
          <p:cNvSpPr/>
          <p:nvPr/>
        </p:nvSpPr>
        <p:spPr>
          <a:xfrm>
            <a:off x="228600" y="4797360"/>
            <a:ext cx="876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0" descr="i?id=50550021&amp;tov=5"/>
          <p:cNvPicPr/>
          <p:nvPr/>
        </p:nvPicPr>
        <p:blipFill>
          <a:blip r:embed="rId6"/>
          <a:stretch/>
        </p:blipFill>
        <p:spPr>
          <a:xfrm>
            <a:off x="0" y="2209680"/>
            <a:ext cx="1068480" cy="828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1"/>
          <p:cNvSpPr/>
          <p:nvPr/>
        </p:nvSpPr>
        <p:spPr>
          <a:xfrm>
            <a:off x="0" y="4572000"/>
            <a:ext cx="9144000" cy="23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00"/>
                </a:solidFill>
                <a:latin typeface="Comic Sans MS"/>
              </a:rPr>
              <a:t>Мы очень хотим иметь свою семью, дом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00"/>
                </a:solidFill>
                <a:latin typeface="Comic Sans MS"/>
              </a:rPr>
              <a:t>полную миску еды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00"/>
                </a:solidFill>
                <a:latin typeface="Comic Sans MS"/>
              </a:rPr>
              <a:t>любить и быть любимыми!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00"/>
                </a:solidFill>
                <a:latin typeface="Comic Sans MS"/>
              </a:rPr>
              <a:t>Может именно Вы сможете подарить это счастье</a:t>
            </a:r>
            <a:r>
              <a:rPr b="1" lang="en-US" sz="2600" spc="-1" strike="noStrike">
                <a:solidFill>
                  <a:srgbClr val="66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685800" y="0"/>
            <a:ext cx="824544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опросы анк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Есть ли у тебя домашние животные (кошки, собаки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2. Хотел бы ты завести еще?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колько времени ты уделяешь ему в день?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) Все свободное врем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) Вообще не занимаюс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) Иногда, когда есть врем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уществует ли проблема бездомных животных?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5.  Где чаще всего вы видите бездомных животных?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) Бегают по дорог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) Прячутся в заброшенных сара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) Около магазин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) Вообще не встречал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Есть ли бездомные животные рядом с вашим домом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Какое чувство у тебя вызывают бездомные животные?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)  Жалость, сострада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)  Брезглив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) Никакое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8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едложите, как бороться с проблемой бездомных животных?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) Строить прию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) Не выкидыв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) Подкармливать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) Собрать и продат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) Взять дом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) Никак, не подходит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1981080" y="685800"/>
            <a:ext cx="48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Comic Sans MS"/>
              </a:rPr>
              <a:t>Вывод по опросу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746280" y="2629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517680" y="1676520"/>
            <a:ext cx="8113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00% считают, что существует пробл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здомных живот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Большинство (92% ) испытывают чувство жал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 бездомным живот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Основная масса (69% опрошенных) считаю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то надо открыть специальные прию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0" descr="i?id=2541740&amp;tov=8"/>
          <p:cNvPicPr/>
          <p:nvPr/>
        </p:nvPicPr>
        <p:blipFill>
          <a:blip r:embed="rId1"/>
          <a:stretch/>
        </p:blipFill>
        <p:spPr>
          <a:xfrm>
            <a:off x="6248520" y="396252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2280" y="1294920"/>
            <a:ext cx="88394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Вве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1.  Актуаль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2.  Цели и задач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3.  Методы исслед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Теоретическая част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1. Собака  и  человек  –  друзь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2.  Почему люди бросают собак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Практическая ча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1. Места обитания беспризорных собак в селе Китаевск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2. Отношение школьников и сельской администрации к проблеме бездомных живот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Заклю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 Пути решения пробле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I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Приложение (анкеты по опросу, справ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II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Литера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SDC10988"/>
          <p:cNvPicPr/>
          <p:nvPr/>
        </p:nvPicPr>
        <p:blipFill>
          <a:blip r:embed="rId1"/>
          <a:stretch/>
        </p:blipFill>
        <p:spPr>
          <a:xfrm>
            <a:off x="609480" y="1523880"/>
            <a:ext cx="2446560" cy="1584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212760" y="533520"/>
            <a:ext cx="877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стреча с главой администрации села Китаевск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ыганок Владимиром Николаевич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52280" y="1752480"/>
            <a:ext cx="883944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Подкармливаем  и  заботимся о бездомных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животны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Рассказываем  об этой проблеме друзьям и взрослы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На уроке русского языка мы писали сочинение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на тему: « Бездомные животные» и поместили их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в школьную газету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Ищем и находим хозяев для бездомных животных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на своих  улица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Составили примерный вариант письма в районную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газету «Авангард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838080" y="609480"/>
            <a:ext cx="68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Comic Sans MS"/>
              </a:rPr>
              <a:t>Пути решения проблем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ttp://img-fotki.yandex.ru/get/2708/gintari.7/0_22dee_e183691e_L"/>
          <p:cNvPicPr/>
          <p:nvPr/>
        </p:nvPicPr>
        <p:blipFill>
          <a:blip r:embed="rId1"/>
          <a:stretch/>
        </p:blipFill>
        <p:spPr>
          <a:xfrm>
            <a:off x="2666880" y="1828800"/>
            <a:ext cx="2279880" cy="2735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289080" y="457200"/>
            <a:ext cx="855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 в городе Кемерово бездомным собакам поставили памятник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228600" y="152280"/>
            <a:ext cx="4267080" cy="65534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лаза покинутой собак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не снятся ночью... как тут быть?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е обидеть может всякий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даже попросту уби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усть человек добрее будет!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е прихоть это, не пустяк.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нимательно вглядитесь люди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глаза покинутых собак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                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Эдуард Асад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6" descr="i?id=20557966&amp;tov=3"/>
          <p:cNvPicPr/>
          <p:nvPr/>
        </p:nvPicPr>
        <p:blipFill>
          <a:blip r:embed="rId1"/>
          <a:stretch/>
        </p:blipFill>
        <p:spPr>
          <a:xfrm>
            <a:off x="4572000" y="152280"/>
            <a:ext cx="1360440" cy="1008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bezdom_250x187"/>
          <p:cNvPicPr/>
          <p:nvPr/>
        </p:nvPicPr>
        <p:blipFill>
          <a:blip r:embed="rId2"/>
          <a:stretch/>
        </p:blipFill>
        <p:spPr>
          <a:xfrm>
            <a:off x="4572000" y="3478320"/>
            <a:ext cx="1281240" cy="936360"/>
          </a:xfrm>
          <a:prstGeom prst="rect">
            <a:avLst/>
          </a:prstGeom>
          <a:ln w="9360">
            <a:solidFill>
              <a:srgbClr val="999966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Comic Sans MS"/>
              </a:rPr>
              <a:t>Использованные ресурсы: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.Чаплина «Наш друг - собака», Москва, изд. Детская литература,199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«Все обо всем. Животные» Энциклопедия, Москва, изд. Астрель,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« Я познаю мир. Животные» Энциклопедия, Москва, АСТ,1998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азета «Комсомольская правда» от 7 февраля 20011 го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http://ru.wikipedia.org/wiki/Бездомные_живот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http://www.animalsprotectiontribune.ru/DokMir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формационно-аналитические материалы  "ОПЫТ ЗАРУБЕЖНЫХ СТРАН В РЕШЕНИИ ПРОБЛЕМЫ БЕЗДОМНЫХ ЖИВОТНЫХ (СОБАК И КОШЕК)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http://www.animalsprotectiontribune.ru/MgdObzor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http://457spb.ru/DswMedia/bezdomnyiejivotnyie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«Большая энциклопедия Кирилла и Мефодия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2590920" y="533520"/>
            <a:ext cx="40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Comic Sans MS"/>
              </a:rPr>
              <a:t>Актуальность</a:t>
            </a:r>
            <a:r>
              <a:rPr b="0" lang="ru-RU" sz="4000" spc="-1" strike="noStrike">
                <a:solidFill>
                  <a:srgbClr val="420000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838080" y="2133720"/>
            <a:ext cx="163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Животные страда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ами, а еще принося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ред люд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1728720" cy="1087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Картинка 3 из 18"/>
          <p:cNvPicPr/>
          <p:nvPr/>
        </p:nvPicPr>
        <p:blipFill>
          <a:blip r:embed="rId2"/>
          <a:stretch/>
        </p:blipFill>
        <p:spPr>
          <a:xfrm>
            <a:off x="5105520" y="1752480"/>
            <a:ext cx="84456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04920" y="533520"/>
            <a:ext cx="936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Comic Sans MS"/>
              </a:rPr>
              <a:t>Цели и задачи исследования</a:t>
            </a:r>
            <a:r>
              <a:rPr b="0" lang="ru-RU" sz="18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57200" y="1676520"/>
            <a:ext cx="71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20000"/>
                </a:solidFill>
                <a:latin typeface="Comic Sans MS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влечь к проблеме бездомных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нимание детей и взросл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80880" y="3218040"/>
            <a:ext cx="8447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20000"/>
                </a:solidFill>
                <a:latin typeface="Comic Sans MS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яснить общее состояние бездомных живот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учить состояние проблемы бездомных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 нас в се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Выяснить отношение жителей нашего села к проблеме бездомных живот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Организация пропаганды и создание агитационной  листов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Comic Sans MS"/>
              </a:rPr>
              <a:t>Методы исследования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57200" y="2261520"/>
            <a:ext cx="567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ямое натурное наблю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чет числ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про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нке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Машка"/>
          <p:cNvPicPr/>
          <p:nvPr/>
        </p:nvPicPr>
        <p:blipFill>
          <a:blip r:embed="rId1"/>
          <a:stretch/>
        </p:blipFill>
        <p:spPr>
          <a:xfrm>
            <a:off x="1066680" y="4267080"/>
            <a:ext cx="484200" cy="50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песик"/>
          <p:cNvPicPr/>
          <p:nvPr/>
        </p:nvPicPr>
        <p:blipFill>
          <a:blip r:embed="rId2"/>
          <a:stretch/>
        </p:blipFill>
        <p:spPr>
          <a:xfrm>
            <a:off x="5257800" y="3048120"/>
            <a:ext cx="1927080" cy="16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limon25"/>
          <p:cNvPicPr/>
          <p:nvPr/>
        </p:nvPicPr>
        <p:blipFill>
          <a:blip r:embed="rId1"/>
          <a:stretch/>
        </p:blipFill>
        <p:spPr>
          <a:xfrm>
            <a:off x="228600" y="533520"/>
            <a:ext cx="8763120" cy="6324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04920" y="6094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начала Бог создал человека,но,заметив 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лабость, дал ему собаку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. Туссене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i?id=20557966&amp;tov=3"/>
          <p:cNvPicPr/>
          <p:nvPr/>
        </p:nvPicPr>
        <p:blipFill>
          <a:blip r:embed="rId2"/>
          <a:stretch/>
        </p:blipFill>
        <p:spPr>
          <a:xfrm>
            <a:off x="380880" y="2133720"/>
            <a:ext cx="1370160" cy="1187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4952880" y="2743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5334120" y="2643120"/>
            <a:ext cx="358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Жизнь собаки - составная ча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ловечества, нельзя напис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сторию человека без истории собаки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ржи Марек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914400" y="3747960"/>
            <a:ext cx="693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Рисунок 19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1471680" cy="9903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28" descr=""/>
          <p:cNvPicPr/>
          <p:nvPr/>
        </p:nvPicPr>
        <p:blipFill>
          <a:blip r:embed="rId2"/>
          <a:stretch/>
        </p:blipFill>
        <p:spPr>
          <a:xfrm>
            <a:off x="5867280" y="533520"/>
            <a:ext cx="725760" cy="10080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1" descr=""/>
          <p:cNvPicPr/>
          <p:nvPr/>
        </p:nvPicPr>
        <p:blipFill>
          <a:blip r:embed="rId3"/>
          <a:stretch/>
        </p:blipFill>
        <p:spPr>
          <a:xfrm>
            <a:off x="152280" y="2876400"/>
            <a:ext cx="720720" cy="540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0" descr=""/>
          <p:cNvPicPr/>
          <p:nvPr/>
        </p:nvPicPr>
        <p:blipFill>
          <a:blip r:embed="rId4"/>
          <a:stretch/>
        </p:blipFill>
        <p:spPr>
          <a:xfrm>
            <a:off x="152280" y="533520"/>
            <a:ext cx="666720" cy="7207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25" descr=""/>
          <p:cNvPicPr/>
          <p:nvPr/>
        </p:nvPicPr>
        <p:blipFill>
          <a:blip r:embed="rId5"/>
          <a:stretch/>
        </p:blipFill>
        <p:spPr>
          <a:xfrm>
            <a:off x="2362320" y="533520"/>
            <a:ext cx="1008000" cy="65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51920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34" descr=""/>
          <p:cNvPicPr/>
          <p:nvPr/>
        </p:nvPicPr>
        <p:blipFill>
          <a:blip r:embed="rId2"/>
          <a:stretch/>
        </p:blipFill>
        <p:spPr>
          <a:xfrm>
            <a:off x="6095880" y="3733920"/>
            <a:ext cx="808200" cy="8287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37" descr=""/>
          <p:cNvPicPr/>
          <p:nvPr/>
        </p:nvPicPr>
        <p:blipFill>
          <a:blip r:embed="rId3"/>
          <a:stretch/>
        </p:blipFill>
        <p:spPr>
          <a:xfrm>
            <a:off x="6095880" y="152280"/>
            <a:ext cx="1338480" cy="1619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533520" y="3962520"/>
            <a:ext cx="4876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Comic Sans MS"/>
              </a:rPr>
              <a:t>Сколько сказано сл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Comic Sans MS"/>
              </a:rPr>
              <a:t>Может чья-нибудь муза уст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Comic Sans MS"/>
              </a:rPr>
              <a:t>Говорить о вой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Comic Sans MS"/>
              </a:rPr>
              <a:t>И тревожить солдатские сны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Comic Sans MS"/>
              </a:rPr>
              <a:t>Только кажется мн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Comic Sans MS"/>
              </a:rPr>
              <a:t>До обиды написано мал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Comic Sans MS"/>
              </a:rPr>
              <a:t>О собаках-бойца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Comic Sans MS"/>
              </a:rPr>
              <a:t>Защищавших нас в годы войны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1655640" cy="10684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52280" y="580860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именно такие героические собаки как Лайка оплатили собствен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бачьей шкурой будущие победы советской космической школ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11T05:53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