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FC5-EDC1-494F-A354-650646C9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555-CBC7-415F-A8CA-6F60172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15F-6EE0-4D32-83F7-C7A42F0A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DED-B967-4977-AAB0-E94CC2EF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3E9-3AC7-478F-B5F9-F15AC46D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214-C0A5-49F4-9218-11520A31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A60-700F-4419-950E-7AE0E2FC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FB4-B8C0-4EF6-8AEB-40A84FE0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227-4E10-4936-8606-D6D1829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1F7-26C1-474C-883C-67C01C0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A666-B23F-408B-8008-DE28D35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D18-8E9D-4401-AE01-0AE23FE5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19AD-C225-4C51-8029-C813981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8594-9C78-424E-9B83-AD17AF9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3AAF-3275-4ED9-A2FC-C264EE7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78E-41A7-4356-8361-22C3C95E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243C-72B1-4706-AC31-0E07D708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369-9DDD-4542-942F-B1BF851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9FF-7B35-4F5B-B4EC-5A6EA162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7B8-1BF2-4617-B9E5-1E5CC36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5A4-5F83-41AA-A505-2D4861C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4F6-D468-4BB4-9404-6150209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3C6-E2A0-4759-88D0-BD149E3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DCD-31EA-40EB-AE7F-DE2C03C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3E4-4502-4104-AA94-A52DA4998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AFE2-21DD-4E1A-9CA8-53F781200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одительские установки. Их влияние на развитие личност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Скрытое родительское «обучение» - родительские директив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евятая директива – «Не дела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Не делай сам – это опасно, я сделаю это за теб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зрослые дети испытывают мучительные трудности в начале каждого дела, это им не хватает д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дел 24 часов  в сут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есятая директива – «Не будь собо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Почему твой друг может,  а ты не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Будь похожим на 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 взрослых с такой директивой час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заниженная самооценка, депрессии  затя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диннадцатая директива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Не чувствуй себя хорош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 Не смотря на то, что у него была высокая температура, он пошел в школу и написал контрольную на пят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зникает ожидание – плохое самочувствие повысит ценность любого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дела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зрослый – это в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ам принадлежит право выбора -прямо с этого момен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аленькому эти директивы помогали вам приспособиться к требованиям больших и свободных люд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итуация изменилась- и вы можете сознательно поменять свои бессознательные установки, принятые в детств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директива – «не жив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Мне не нужен такой плохой мальчик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Глаза бы мои тебя не видели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Сколько тревог и лишений ты мне принес, появившись на свет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торая директива – «Не  будь ребенком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Пора повзрослеть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Ты уже не ребенок, чтобы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мните,если вы испытываете чувство вины при покупке себе что-нибудь вкусненькое,мороженое,к примеру,то это родительское наставление крепко засело в вашем сознан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тья директива – «Не раст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Мама тебя никогда не бросит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етское сознание расшифровыв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Я не имею права быть настолько самостоятельным,чтобы жить без родительской опе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зрослые продолжают долго жить со своими родителями, поскольку не мыслят свою жизнь без мамы(пап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етвертая директива – «Не дума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Ты что самая умная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Хватит рассуждать , делом занимайс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Дети испытывают глубинное недоверие к результатам своего умственного тру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ятая директива – «Не чувст-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уй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тот запрет относится и к собственно чувствам и к физическим ощуще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Как тебе не стыдно бояться бабочек,они же не кусаютс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Чаще всего под запретом оказываются эмоции гнева и страха, но они не исчезают и поэтому мы постоянно чувствуем себя раздраженными вместо того, чтобы признаться самому себе, что мы просто злимся на кого-то конкретног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Шестая директива – «Не достигай успех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 основе лежит бессознательная зависть родителей к успеху ребе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одители ведут «воспитательные» рассказы о том, как много они трудились, чтобы что-либо име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Те, кто получили эту директиву в детстве старательны и трудолюбивы, но их преследует «злой рок».Они и не догадываются, что это «штучки» бессознательног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едьмая директива - « Не будь лидером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Не высовывайс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Будь как все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Родители, как правило, берегут таким образом детей от зави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ыросшие дети пожизненно ходят в подчиненных и на работе и до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сьмая директива – «Не принадлеж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одители, сами имеющие проблемы в общении, видят в ребенке единственного дру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 общении со своим «единственным» всячески подчеркивают его непохожесть на других,причем всегда в положительном смысл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зрослый( с такой директивой) везде себя чувствует как бы «отдельно» и сам не понимает поч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16:54Z</dcterms:created>
  <dc:creator>Ерогина</dc:creator>
  <dc:description/>
  <dc:language>en-US</dc:language>
  <cp:lastModifiedBy>Ерогина</cp:lastModifiedBy>
  <dcterms:modified xsi:type="dcterms:W3CDTF">2009-03-26T12:51:02Z</dcterms:modified>
  <cp:revision>6</cp:revision>
  <dc:subject/>
  <dc:title>Родительские директивы</dc:title>
</cp:coreProperties>
</file>