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A4E-61FA-4832-8D37-0684824F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818-D6CE-4879-8657-09BE7D9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262-BFA4-4218-B341-2008785B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458-844B-49D9-A23B-9A88534B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1CA5-6DB5-46C1-AA84-67F6518F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B3CD-D7F0-492C-8736-81D322F6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E772-BB5E-4DA6-B63C-49D0CA96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352-DCA6-4044-A91B-5972691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1EB-7B9F-4ABD-AAED-B66D33DA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BDC-5B0C-4B73-B23C-0ABF24B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805A-4520-4FB1-A990-F82765A0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959-D77D-4BFD-BFBB-20BFF5E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BC16-4FC4-4876-9AB7-458CA8A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F5E0-B66F-4CB7-BBD3-4666940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BFE0-9C24-40B7-9FE3-48843C5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7597-5437-4417-8804-FC6724F0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D23F-9FF2-489A-A210-44403508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FA63-64E1-4CDA-8F9E-B36F22C6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896A-09EB-40DA-A2DE-32555A07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1308-8608-42CE-8E55-62431469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6D1E-74E1-4CC7-8257-066ABF6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DEAC-757B-4EE8-BEB8-B7EFCCC6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913-0D75-490C-BF46-15006B69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0F41-6498-4E70-BC41-6A8463DB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F032-B7EA-4E52-8FA2-F75EA56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4B01-2712-4042-8F33-93D5636E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39DF-E555-4748-B145-B0DFFA6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E643-1E7F-4851-91F0-1785451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6D47-2C4F-4E43-AB8F-9F810B75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1B58-167A-4221-B9FD-0BD93BE1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7C5-4D7D-433E-93F2-31DE9662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524-41BB-4A46-9FDB-5FD3F30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5BB-244E-4EA6-B9F0-4B2A2E1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5A3-2572-4351-9D26-E7C6A60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FB0-F109-47FA-AC61-202AFC7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A88-2365-4E43-B8FE-7BCF381C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DE9-0B8B-44FF-AA43-CFE9461D0F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8C34-EACA-4FAA-BDDA-CA771019AD2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F51-623E-49FF-8D27-FE344AC1A7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omic Sans MS"/>
              </a:rPr>
              <a:t>Повторяем: все о спиртах!</a:t>
            </a:r>
            <a:br>
              <a:rPr sz="6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расный цвет  -1балл;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Comic Sans MS"/>
              </a:rPr>
              <a:t>синий цвет -2 балла;</a:t>
            </a:r>
            <a:br>
              <a:rPr sz="3600"/>
            </a:br>
            <a:r>
              <a:rPr b="1" lang="ru-RU" sz="3600" spc="-1" strike="noStrike">
                <a:solidFill>
                  <a:srgbClr val="00cc00"/>
                </a:solidFill>
                <a:latin typeface="Comic Sans MS"/>
              </a:rPr>
              <a:t>зеленый цвет – 3 балла.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40"/>
          <p:cNvSpPr/>
          <p:nvPr/>
        </p:nvSpPr>
        <p:spPr>
          <a:xfrm>
            <a:off x="4643280" y="3429000"/>
            <a:ext cx="4248360" cy="1857240"/>
          </a:xfrm>
          <a:prstGeom prst="cloudCallout">
            <a:avLst>
              <a:gd name="adj1" fmla="val -41592"/>
              <a:gd name="adj2" fmla="val -85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применяются спир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1">
            <a:hlinkClick r:id="rId1" action="ppaction://hlinksldjump"/>
          </p:cNvPr>
          <p:cNvSpPr/>
          <p:nvPr/>
        </p:nvSpPr>
        <p:spPr>
          <a:xfrm>
            <a:off x="4857840" y="3571920"/>
            <a:ext cx="4313160" cy="2071800"/>
          </a:xfrm>
          <a:custGeom>
            <a:avLst/>
            <a:gdLst>
              <a:gd name="textAreaLeft" fmla="*/ 134280 w 4313160"/>
              <a:gd name="textAreaRight" fmla="*/ 4178880 w 4313160"/>
              <a:gd name="textAreaTop" fmla="*/ 134280 h 2071800"/>
              <a:gd name="textAreaBottom" fmla="*/ 1937520 h 2071800"/>
            </a:gdLst>
            <a:ahLst/>
            <a:rect l="textAreaLeft" t="textAreaTop" r="textAreaRight" b="textAreaBottom"/>
            <a:pathLst>
              <a:path w="44964" h="21600">
                <a:moveTo>
                  <a:pt x="0" y="0"/>
                </a:moveTo>
                <a:lnTo>
                  <a:pt x="44964" y="0"/>
                </a:lnTo>
                <a:lnTo>
                  <a:pt x="44964" y="21600"/>
                </a:lnTo>
                <a:lnTo>
                  <a:pt x="0" y="21600"/>
                </a:lnTo>
                <a:close/>
              </a:path>
              <a:path fill="lightenLess" w="44964" h="21600">
                <a:moveTo>
                  <a:pt x="0" y="0"/>
                </a:moveTo>
                <a:lnTo>
                  <a:pt x="44964" y="0"/>
                </a:lnTo>
                <a:lnTo>
                  <a:pt x="43564" y="1400"/>
                </a:lnTo>
                <a:lnTo>
                  <a:pt x="1400" y="1400"/>
                </a:lnTo>
                <a:close/>
              </a:path>
              <a:path fill="darken" w="44964" h="21600">
                <a:moveTo>
                  <a:pt x="44964" y="0"/>
                </a:moveTo>
                <a:lnTo>
                  <a:pt x="44964" y="21600"/>
                </a:lnTo>
                <a:lnTo>
                  <a:pt x="43564" y="20200"/>
                </a:lnTo>
                <a:lnTo>
                  <a:pt x="43564" y="1400"/>
                </a:lnTo>
                <a:close/>
              </a:path>
              <a:path fill="darkenLess" w="44964" h="21600">
                <a:moveTo>
                  <a:pt x="44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64" y="20200"/>
                </a:lnTo>
                <a:close/>
              </a:path>
              <a:path fill="lighten" w="44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14" name="AutoShape 40"/>
          <p:cNvSpPr/>
          <p:nvPr/>
        </p:nvSpPr>
        <p:spPr>
          <a:xfrm>
            <a:off x="611280" y="3429000"/>
            <a:ext cx="4389480" cy="1643040"/>
          </a:xfrm>
          <a:prstGeom prst="cloudCallout">
            <a:avLst>
              <a:gd name="adj1" fmla="val 60240"/>
              <a:gd name="adj2" fmla="val -89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е название пропантри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1">
            <a:hlinkClick r:id="rId1" action="ppaction://hlinksldjump"/>
          </p:cNvPr>
          <p:cNvSpPr/>
          <p:nvPr/>
        </p:nvSpPr>
        <p:spPr>
          <a:xfrm>
            <a:off x="3071880" y="3857760"/>
            <a:ext cx="2857320" cy="1500120"/>
          </a:xfrm>
          <a:custGeom>
            <a:avLst/>
            <a:gdLst>
              <a:gd name="textAreaLeft" fmla="*/ 97200 w 2857320"/>
              <a:gd name="textAreaRight" fmla="*/ 2760120 w 285732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41137" h="21600">
                <a:moveTo>
                  <a:pt x="0" y="0"/>
                </a:moveTo>
                <a:lnTo>
                  <a:pt x="41137" y="0"/>
                </a:lnTo>
                <a:lnTo>
                  <a:pt x="41137" y="21600"/>
                </a:lnTo>
                <a:lnTo>
                  <a:pt x="0" y="21600"/>
                </a:lnTo>
                <a:close/>
              </a:path>
              <a:path fill="lightenLess" w="41137" h="21600">
                <a:moveTo>
                  <a:pt x="0" y="0"/>
                </a:moveTo>
                <a:lnTo>
                  <a:pt x="41137" y="0"/>
                </a:lnTo>
                <a:lnTo>
                  <a:pt x="39737" y="1400"/>
                </a:lnTo>
                <a:lnTo>
                  <a:pt x="1400" y="1400"/>
                </a:lnTo>
                <a:close/>
              </a:path>
              <a:path fill="darken" w="41137" h="21600">
                <a:moveTo>
                  <a:pt x="41137" y="0"/>
                </a:moveTo>
                <a:lnTo>
                  <a:pt x="41137" y="21600"/>
                </a:lnTo>
                <a:lnTo>
                  <a:pt x="39737" y="20200"/>
                </a:lnTo>
                <a:lnTo>
                  <a:pt x="39737" y="1400"/>
                </a:lnTo>
                <a:close/>
              </a:path>
              <a:path fill="darkenLess" w="41137" h="21600">
                <a:moveTo>
                  <a:pt x="41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37" y="20200"/>
                </a:lnTo>
                <a:close/>
              </a:path>
              <a:path fill="lighten" w="41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17" name="AutoShape 40"/>
          <p:cNvSpPr/>
          <p:nvPr/>
        </p:nvSpPr>
        <p:spPr>
          <a:xfrm>
            <a:off x="2843280" y="3429000"/>
            <a:ext cx="4248000" cy="2000160"/>
          </a:xfrm>
          <a:prstGeom prst="cloudCallout">
            <a:avLst>
              <a:gd name="adj1" fmla="val 71972"/>
              <a:gd name="adj2" fmla="val -7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процесс принято называть спиртовым брож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1">
            <a:hlinkClick r:id="rId1" action="ppaction://hlinksldjump"/>
          </p:cNvPr>
          <p:cNvSpPr/>
          <p:nvPr/>
        </p:nvSpPr>
        <p:spPr>
          <a:xfrm>
            <a:off x="3143160" y="3214800"/>
            <a:ext cx="4000680" cy="2643120"/>
          </a:xfrm>
          <a:custGeom>
            <a:avLst/>
            <a:gdLst>
              <a:gd name="textAreaLeft" fmla="*/ 171000 w 4000680"/>
              <a:gd name="textAreaRight" fmla="*/ 3829680 w 4000680"/>
              <a:gd name="textAreaTop" fmla="*/ 171000 h 2643120"/>
              <a:gd name="textAreaBottom" fmla="*/ 2472120 h 2643120"/>
            </a:gdLst>
            <a:ahLst/>
            <a:rect l="textAreaLeft" t="textAreaTop" r="textAreaRight" b="textAreaBottom"/>
            <a:pathLst>
              <a:path w="32693" h="21600">
                <a:moveTo>
                  <a:pt x="0" y="0"/>
                </a:moveTo>
                <a:lnTo>
                  <a:pt x="32693" y="0"/>
                </a:lnTo>
                <a:lnTo>
                  <a:pt x="32693" y="21600"/>
                </a:lnTo>
                <a:lnTo>
                  <a:pt x="0" y="21600"/>
                </a:lnTo>
                <a:close/>
              </a:path>
              <a:path fill="lightenLess" w="32693" h="21600">
                <a:moveTo>
                  <a:pt x="0" y="0"/>
                </a:moveTo>
                <a:lnTo>
                  <a:pt x="32693" y="0"/>
                </a:lnTo>
                <a:lnTo>
                  <a:pt x="31293" y="1400"/>
                </a:lnTo>
                <a:lnTo>
                  <a:pt x="1400" y="1400"/>
                </a:lnTo>
                <a:close/>
              </a:path>
              <a:path fill="darken" w="32693" h="21600">
                <a:moveTo>
                  <a:pt x="32693" y="0"/>
                </a:moveTo>
                <a:lnTo>
                  <a:pt x="32693" y="21600"/>
                </a:lnTo>
                <a:lnTo>
                  <a:pt x="31293" y="20200"/>
                </a:lnTo>
                <a:lnTo>
                  <a:pt x="31293" y="1400"/>
                </a:lnTo>
                <a:close/>
              </a:path>
              <a:path fill="darkenLess" w="32693" h="21600">
                <a:moveTo>
                  <a:pt x="32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3" y="20200"/>
                </a:lnTo>
                <a:close/>
              </a:path>
              <a:path fill="lighten" w="32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20" name="AutoShape 40"/>
          <p:cNvSpPr/>
          <p:nvPr/>
        </p:nvSpPr>
        <p:spPr>
          <a:xfrm>
            <a:off x="4500720" y="3860640"/>
            <a:ext cx="4248000" cy="1640160"/>
          </a:xfrm>
          <a:prstGeom prst="cloudCallout">
            <a:avLst>
              <a:gd name="adj1" fmla="val -119583"/>
              <a:gd name="adj2" fmla="val -51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м впервые был открыт метиловый спир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1">
            <a:hlinkClick r:id="rId1" action="ppaction://hlinksldjump"/>
          </p:cNvPr>
          <p:cNvSpPr/>
          <p:nvPr/>
        </p:nvSpPr>
        <p:spPr>
          <a:xfrm>
            <a:off x="4929120" y="4000680"/>
            <a:ext cx="3500640" cy="1571400"/>
          </a:xfrm>
          <a:custGeom>
            <a:avLst/>
            <a:gdLst>
              <a:gd name="textAreaLeft" fmla="*/ 101520 w 3500640"/>
              <a:gd name="textAreaRight" fmla="*/ 3399120 w 3500640"/>
              <a:gd name="textAreaTop" fmla="*/ 101520 h 1571400"/>
              <a:gd name="textAreaBottom" fmla="*/ 1469880 h 1571400"/>
            </a:gdLst>
            <a:ahLst/>
            <a:rect l="textAreaLeft" t="textAreaTop" r="textAreaRight" b="textAreaBottom"/>
            <a:pathLst>
              <a:path w="48113" h="21600">
                <a:moveTo>
                  <a:pt x="0" y="0"/>
                </a:moveTo>
                <a:lnTo>
                  <a:pt x="48113" y="0"/>
                </a:lnTo>
                <a:lnTo>
                  <a:pt x="48113" y="21600"/>
                </a:lnTo>
                <a:lnTo>
                  <a:pt x="0" y="21600"/>
                </a:lnTo>
                <a:close/>
              </a:path>
              <a:path fill="lightenLess" w="48113" h="21600">
                <a:moveTo>
                  <a:pt x="0" y="0"/>
                </a:moveTo>
                <a:lnTo>
                  <a:pt x="48113" y="0"/>
                </a:lnTo>
                <a:lnTo>
                  <a:pt x="46713" y="1400"/>
                </a:lnTo>
                <a:lnTo>
                  <a:pt x="1400" y="1400"/>
                </a:lnTo>
                <a:close/>
              </a:path>
              <a:path fill="darken" w="48113" h="21600">
                <a:moveTo>
                  <a:pt x="48113" y="0"/>
                </a:moveTo>
                <a:lnTo>
                  <a:pt x="48113" y="21600"/>
                </a:lnTo>
                <a:lnTo>
                  <a:pt x="46713" y="20200"/>
                </a:lnTo>
                <a:lnTo>
                  <a:pt x="46713" y="1400"/>
                </a:lnTo>
                <a:close/>
              </a:path>
              <a:path fill="darkenLess" w="48113" h="21600">
                <a:moveTo>
                  <a:pt x="48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13" y="20200"/>
                </a:lnTo>
                <a:close/>
              </a:path>
              <a:path fill="lighten" w="48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23" name="AutoShape 40"/>
          <p:cNvSpPr/>
          <p:nvPr/>
        </p:nvSpPr>
        <p:spPr>
          <a:xfrm>
            <a:off x="4500720" y="3860640"/>
            <a:ext cx="3786120" cy="1354320"/>
          </a:xfrm>
          <a:prstGeom prst="cloudCallout">
            <a:avLst>
              <a:gd name="adj1" fmla="val -76231"/>
              <a:gd name="adj2" fmla="val -60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ндиол – спирт или кисл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1">
            <a:hlinkClick r:id="rId1" action="ppaction://hlinksldjump"/>
          </p:cNvPr>
          <p:cNvSpPr/>
          <p:nvPr/>
        </p:nvSpPr>
        <p:spPr>
          <a:xfrm>
            <a:off x="4643280" y="2857680"/>
            <a:ext cx="4500720" cy="2786040"/>
          </a:xfrm>
          <a:custGeom>
            <a:avLst/>
            <a:gdLst>
              <a:gd name="textAreaLeft" fmla="*/ 180360 w 4500720"/>
              <a:gd name="textAreaRight" fmla="*/ 4320360 w 4500720"/>
              <a:gd name="textAreaTop" fmla="*/ 180360 h 2786040"/>
              <a:gd name="textAreaBottom" fmla="*/ 2605680 h 2786040"/>
            </a:gdLst>
            <a:ahLst/>
            <a:rect l="textAreaLeft" t="textAreaTop" r="textAreaRight" b="textAreaBottom"/>
            <a:pathLst>
              <a:path w="34892" h="21600">
                <a:moveTo>
                  <a:pt x="0" y="0"/>
                </a:moveTo>
                <a:lnTo>
                  <a:pt x="34892" y="0"/>
                </a:lnTo>
                <a:lnTo>
                  <a:pt x="34892" y="21600"/>
                </a:lnTo>
                <a:lnTo>
                  <a:pt x="0" y="21600"/>
                </a:lnTo>
                <a:close/>
              </a:path>
              <a:path fill="lightenLess" w="34892" h="21600">
                <a:moveTo>
                  <a:pt x="0" y="0"/>
                </a:moveTo>
                <a:lnTo>
                  <a:pt x="34892" y="0"/>
                </a:lnTo>
                <a:lnTo>
                  <a:pt x="33492" y="1400"/>
                </a:lnTo>
                <a:lnTo>
                  <a:pt x="1400" y="1400"/>
                </a:lnTo>
                <a:close/>
              </a:path>
              <a:path fill="darken" w="34892" h="21600">
                <a:moveTo>
                  <a:pt x="34892" y="0"/>
                </a:moveTo>
                <a:lnTo>
                  <a:pt x="34892" y="21600"/>
                </a:lnTo>
                <a:lnTo>
                  <a:pt x="33492" y="20200"/>
                </a:lnTo>
                <a:lnTo>
                  <a:pt x="33492" y="1400"/>
                </a:lnTo>
                <a:close/>
              </a:path>
              <a:path fill="darkenLess" w="34892" h="21600">
                <a:moveTo>
                  <a:pt x="34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2" y="20200"/>
                </a:lnTo>
                <a:close/>
              </a:path>
              <a:path fill="lighten" w="34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0"/>
          <p:cNvSpPr/>
          <p:nvPr/>
        </p:nvSpPr>
        <p:spPr>
          <a:xfrm>
            <a:off x="179280" y="3789360"/>
            <a:ext cx="4248360" cy="1639800"/>
          </a:xfrm>
          <a:prstGeom prst="cloudCallout">
            <a:avLst>
              <a:gd name="adj1" fmla="val 82810"/>
              <a:gd name="adj2" fmla="val -5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впервые синтезировал метиловый спир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1"/>
          <p:cNvSpPr/>
          <p:nvPr/>
        </p:nvSpPr>
        <p:spPr>
          <a:xfrm>
            <a:off x="1214280" y="3357720"/>
            <a:ext cx="3214800" cy="2071440"/>
          </a:xfrm>
          <a:custGeom>
            <a:avLst/>
            <a:gdLst>
              <a:gd name="textAreaLeft" fmla="*/ 133920 w 3214800"/>
              <a:gd name="textAreaRight" fmla="*/ 3080880 w 3214800"/>
              <a:gd name="textAreaTop" fmla="*/ 133920 h 2071440"/>
              <a:gd name="textAreaBottom" fmla="*/ 1937520 h 2071440"/>
            </a:gdLst>
            <a:ahLst/>
            <a:rect l="textAreaLeft" t="textAreaTop" r="textAreaRight" b="textAreaBottom"/>
            <a:pathLst>
              <a:path w="33520" h="21600">
                <a:moveTo>
                  <a:pt x="0" y="0"/>
                </a:moveTo>
                <a:lnTo>
                  <a:pt x="33520" y="0"/>
                </a:lnTo>
                <a:lnTo>
                  <a:pt x="33520" y="21600"/>
                </a:lnTo>
                <a:lnTo>
                  <a:pt x="0" y="21600"/>
                </a:lnTo>
                <a:close/>
              </a:path>
              <a:path fill="lightenLess" w="33520" h="21600">
                <a:moveTo>
                  <a:pt x="0" y="0"/>
                </a:moveTo>
                <a:lnTo>
                  <a:pt x="33520" y="0"/>
                </a:lnTo>
                <a:lnTo>
                  <a:pt x="32120" y="1400"/>
                </a:lnTo>
                <a:lnTo>
                  <a:pt x="1400" y="1400"/>
                </a:lnTo>
                <a:close/>
              </a:path>
              <a:path fill="darken" w="33520" h="21600">
                <a:moveTo>
                  <a:pt x="33520" y="0"/>
                </a:moveTo>
                <a:lnTo>
                  <a:pt x="33520" y="21600"/>
                </a:lnTo>
                <a:lnTo>
                  <a:pt x="32120" y="20200"/>
                </a:lnTo>
                <a:lnTo>
                  <a:pt x="32120" y="1400"/>
                </a:lnTo>
                <a:close/>
              </a:path>
              <a:path fill="darkenLess" w="33520" h="21600">
                <a:moveTo>
                  <a:pt x="33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20" y="20200"/>
                </a:lnTo>
                <a:close/>
              </a:path>
              <a:path fill="lighten" w="33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29" name="AutoShape 40"/>
          <p:cNvSpPr/>
          <p:nvPr/>
        </p:nvSpPr>
        <p:spPr>
          <a:xfrm>
            <a:off x="395280" y="333360"/>
            <a:ext cx="4248000" cy="1381320"/>
          </a:xfrm>
          <a:prstGeom prst="cloudCallout">
            <a:avLst>
              <a:gd name="adj1" fmla="val 116555"/>
              <a:gd name="adj2" fmla="val 54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те гомологи этан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1"/>
          <p:cNvSpPr/>
          <p:nvPr/>
        </p:nvSpPr>
        <p:spPr>
          <a:xfrm>
            <a:off x="0" y="500040"/>
            <a:ext cx="4429080" cy="2357640"/>
          </a:xfrm>
          <a:custGeom>
            <a:avLst/>
            <a:gdLst>
              <a:gd name="textAreaLeft" fmla="*/ 152640 w 4429080"/>
              <a:gd name="textAreaRight" fmla="*/ 4276440 w 4429080"/>
              <a:gd name="textAreaTop" fmla="*/ 152640 h 2357640"/>
              <a:gd name="textAreaBottom" fmla="*/ 2205000 h 2357640"/>
            </a:gdLst>
            <a:ahLst/>
            <a:rect l="textAreaLeft" t="textAreaTop" r="textAreaRight" b="textAreaBottom"/>
            <a:pathLst>
              <a:path w="40575" h="21600">
                <a:moveTo>
                  <a:pt x="0" y="0"/>
                </a:moveTo>
                <a:lnTo>
                  <a:pt x="40575" y="0"/>
                </a:lnTo>
                <a:lnTo>
                  <a:pt x="40575" y="21600"/>
                </a:lnTo>
                <a:lnTo>
                  <a:pt x="0" y="21600"/>
                </a:lnTo>
                <a:close/>
              </a:path>
              <a:path fill="lightenLess" w="40575" h="21600">
                <a:moveTo>
                  <a:pt x="0" y="0"/>
                </a:moveTo>
                <a:lnTo>
                  <a:pt x="40575" y="0"/>
                </a:lnTo>
                <a:lnTo>
                  <a:pt x="39175" y="1400"/>
                </a:lnTo>
                <a:lnTo>
                  <a:pt x="1400" y="1400"/>
                </a:lnTo>
                <a:close/>
              </a:path>
              <a:path fill="darken" w="40575" h="21600">
                <a:moveTo>
                  <a:pt x="40575" y="0"/>
                </a:moveTo>
                <a:lnTo>
                  <a:pt x="40575" y="21600"/>
                </a:lnTo>
                <a:lnTo>
                  <a:pt x="39175" y="20200"/>
                </a:lnTo>
                <a:lnTo>
                  <a:pt x="39175" y="1400"/>
                </a:lnTo>
                <a:close/>
              </a:path>
              <a:path fill="darkenLess" w="40575" h="21600">
                <a:moveTo>
                  <a:pt x="40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5" y="20200"/>
                </a:lnTo>
                <a:close/>
              </a:path>
              <a:path fill="lighten" w="40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32" name="AutoShape 40"/>
          <p:cNvSpPr/>
          <p:nvPr/>
        </p:nvSpPr>
        <p:spPr>
          <a:xfrm>
            <a:off x="1979640" y="333360"/>
            <a:ext cx="4248000" cy="2736720"/>
          </a:xfrm>
          <a:prstGeom prst="cloudCallout">
            <a:avLst>
              <a:gd name="adj1" fmla="val -68310"/>
              <a:gd name="adj2" fmla="val 91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продукт образуется в результате взаимодействия спиртов  с оксидом меди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1"/>
          <p:cNvSpPr/>
          <p:nvPr/>
        </p:nvSpPr>
        <p:spPr>
          <a:xfrm>
            <a:off x="2071800" y="571680"/>
            <a:ext cx="3857400" cy="2214360"/>
          </a:xfrm>
          <a:custGeom>
            <a:avLst/>
            <a:gdLst>
              <a:gd name="textAreaLeft" fmla="*/ 143280 w 3857400"/>
              <a:gd name="textAreaRight" fmla="*/ 3714120 w 3857400"/>
              <a:gd name="textAreaTop" fmla="*/ 143280 h 2214360"/>
              <a:gd name="textAreaBottom" fmla="*/ 2071080 h 2214360"/>
            </a:gdLst>
            <a:ahLst/>
            <a:rect l="textAreaLeft" t="textAreaTop" r="textAreaRight" b="textAreaBottom"/>
            <a:pathLst>
              <a:path w="37624" h="21600">
                <a:moveTo>
                  <a:pt x="0" y="0"/>
                </a:moveTo>
                <a:lnTo>
                  <a:pt x="37624" y="0"/>
                </a:lnTo>
                <a:lnTo>
                  <a:pt x="37624" y="21600"/>
                </a:lnTo>
                <a:lnTo>
                  <a:pt x="0" y="21600"/>
                </a:lnTo>
                <a:close/>
              </a:path>
              <a:path fill="lightenLess" w="37624" h="21600">
                <a:moveTo>
                  <a:pt x="0" y="0"/>
                </a:moveTo>
                <a:lnTo>
                  <a:pt x="37624" y="0"/>
                </a:lnTo>
                <a:lnTo>
                  <a:pt x="36225" y="1400"/>
                </a:lnTo>
                <a:lnTo>
                  <a:pt x="1400" y="1400"/>
                </a:lnTo>
                <a:close/>
              </a:path>
              <a:path fill="darken" w="37624" h="21600">
                <a:moveTo>
                  <a:pt x="37624" y="0"/>
                </a:moveTo>
                <a:lnTo>
                  <a:pt x="37624" y="21600"/>
                </a:lnTo>
                <a:lnTo>
                  <a:pt x="36225" y="20200"/>
                </a:lnTo>
                <a:lnTo>
                  <a:pt x="36225" y="1400"/>
                </a:lnTo>
                <a:close/>
              </a:path>
              <a:path fill="darkenLess" w="37624" h="21600">
                <a:moveTo>
                  <a:pt x="37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25" y="20200"/>
                </a:lnTo>
                <a:close/>
              </a:path>
              <a:path fill="lighten" w="37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35" name="AutoShape 40"/>
          <p:cNvSpPr/>
          <p:nvPr/>
        </p:nvSpPr>
        <p:spPr>
          <a:xfrm>
            <a:off x="395280" y="333360"/>
            <a:ext cx="4248000" cy="2736720"/>
          </a:xfrm>
          <a:prstGeom prst="cloudCallout">
            <a:avLst>
              <a:gd name="adj1" fmla="val 7023"/>
              <a:gd name="adj2" fmla="val 9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остров в переводе с латинского означает «Мед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38" name="AutoShape 40"/>
          <p:cNvSpPr/>
          <p:nvPr/>
        </p:nvSpPr>
        <p:spPr>
          <a:xfrm>
            <a:off x="395280" y="333360"/>
            <a:ext cx="3462480" cy="1595520"/>
          </a:xfrm>
          <a:prstGeom prst="cloudCallout">
            <a:avLst>
              <a:gd name="adj1" fmla="val 44504"/>
              <a:gd name="adj2" fmla="val 93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акие элементы входят в состав спиртов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1"/>
          <p:cNvSpPr/>
          <p:nvPr/>
        </p:nvSpPr>
        <p:spPr>
          <a:xfrm>
            <a:off x="714240" y="928800"/>
            <a:ext cx="3071880" cy="1428480"/>
          </a:xfrm>
          <a:custGeom>
            <a:avLst/>
            <a:gdLst>
              <a:gd name="textAreaLeft" fmla="*/ 92520 w 3071880"/>
              <a:gd name="textAreaRight" fmla="*/ 2979360 w 3071880"/>
              <a:gd name="textAreaTop" fmla="*/ 92520 h 1428480"/>
              <a:gd name="textAreaBottom" fmla="*/ 1335960 h 1428480"/>
            </a:gdLst>
            <a:ahLst/>
            <a:rect l="textAreaLeft" t="textAreaTop" r="textAreaRight" b="textAreaBottom"/>
            <a:pathLst>
              <a:path w="46444" h="21600">
                <a:moveTo>
                  <a:pt x="0" y="0"/>
                </a:moveTo>
                <a:lnTo>
                  <a:pt x="46444" y="0"/>
                </a:lnTo>
                <a:lnTo>
                  <a:pt x="46444" y="21600"/>
                </a:lnTo>
                <a:lnTo>
                  <a:pt x="0" y="21600"/>
                </a:lnTo>
                <a:close/>
              </a:path>
              <a:path fill="lightenLess" w="46444" h="21600">
                <a:moveTo>
                  <a:pt x="0" y="0"/>
                </a:moveTo>
                <a:lnTo>
                  <a:pt x="46444" y="0"/>
                </a:lnTo>
                <a:lnTo>
                  <a:pt x="45044" y="1400"/>
                </a:lnTo>
                <a:lnTo>
                  <a:pt x="1400" y="1400"/>
                </a:lnTo>
                <a:close/>
              </a:path>
              <a:path fill="darken" w="46444" h="21600">
                <a:moveTo>
                  <a:pt x="46444" y="0"/>
                </a:moveTo>
                <a:lnTo>
                  <a:pt x="46444" y="21600"/>
                </a:lnTo>
                <a:lnTo>
                  <a:pt x="45044" y="20200"/>
                </a:lnTo>
                <a:lnTo>
                  <a:pt x="45044" y="1400"/>
                </a:lnTo>
                <a:close/>
              </a:path>
              <a:path fill="darkenLess" w="46444" h="21600">
                <a:moveTo>
                  <a:pt x="46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44" y="20200"/>
                </a:lnTo>
                <a:close/>
              </a:path>
              <a:path fill="lighten" w="46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94" name="AutoShape 90">
            <a:hlinkClick r:id="rId25" action="ppaction://hlinksldjump"/>
          </p:cNvPr>
          <p:cNvSpPr/>
          <p:nvPr/>
        </p:nvSpPr>
        <p:spPr>
          <a:xfrm>
            <a:off x="3708360" y="2781360"/>
            <a:ext cx="1727280" cy="12952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41" name="AutoShape 40"/>
          <p:cNvSpPr/>
          <p:nvPr/>
        </p:nvSpPr>
        <p:spPr>
          <a:xfrm>
            <a:off x="395280" y="333360"/>
            <a:ext cx="4248000" cy="2736720"/>
          </a:xfrm>
          <a:prstGeom prst="cloudCallout">
            <a:avLst>
              <a:gd name="adj1" fmla="val 89425"/>
              <a:gd name="adj2" fmla="val 94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продукты образуются при горении спир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1"/>
          <p:cNvSpPr/>
          <p:nvPr/>
        </p:nvSpPr>
        <p:spPr>
          <a:xfrm>
            <a:off x="0" y="0"/>
            <a:ext cx="4429080" cy="2928960"/>
          </a:xfrm>
          <a:custGeom>
            <a:avLst/>
            <a:gdLst>
              <a:gd name="textAreaLeft" fmla="*/ 189720 w 4429080"/>
              <a:gd name="textAreaRight" fmla="*/ 4239360 w 4429080"/>
              <a:gd name="textAreaTop" fmla="*/ 189720 h 2928960"/>
              <a:gd name="textAreaBottom" fmla="*/ 2739240 h 2928960"/>
            </a:gdLst>
            <a:ahLst/>
            <a:rect l="textAreaLeft" t="textAreaTop" r="textAreaRight" b="textAreaBottom"/>
            <a:pathLst>
              <a:path w="32661" h="21600">
                <a:moveTo>
                  <a:pt x="0" y="0"/>
                </a:moveTo>
                <a:lnTo>
                  <a:pt x="32661" y="0"/>
                </a:lnTo>
                <a:lnTo>
                  <a:pt x="32661" y="21600"/>
                </a:lnTo>
                <a:lnTo>
                  <a:pt x="0" y="21600"/>
                </a:lnTo>
                <a:close/>
              </a:path>
              <a:path fill="lightenLess" w="32661" h="21600">
                <a:moveTo>
                  <a:pt x="0" y="0"/>
                </a:moveTo>
                <a:lnTo>
                  <a:pt x="32661" y="0"/>
                </a:lnTo>
                <a:lnTo>
                  <a:pt x="31262" y="1400"/>
                </a:lnTo>
                <a:lnTo>
                  <a:pt x="1400" y="1400"/>
                </a:lnTo>
                <a:close/>
              </a:path>
              <a:path fill="darken" w="32661" h="21600">
                <a:moveTo>
                  <a:pt x="32661" y="0"/>
                </a:moveTo>
                <a:lnTo>
                  <a:pt x="32661" y="21600"/>
                </a:lnTo>
                <a:lnTo>
                  <a:pt x="31262" y="20200"/>
                </a:lnTo>
                <a:lnTo>
                  <a:pt x="31262" y="1400"/>
                </a:lnTo>
                <a:close/>
              </a:path>
              <a:path fill="darkenLess" w="32661" h="21600">
                <a:moveTo>
                  <a:pt x="3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62" y="20200"/>
                </a:lnTo>
                <a:close/>
              </a:path>
              <a:path fill="lighten" w="3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44" name="AutoShape 40"/>
          <p:cNvSpPr/>
          <p:nvPr/>
        </p:nvSpPr>
        <p:spPr>
          <a:xfrm>
            <a:off x="395280" y="333360"/>
            <a:ext cx="4248000" cy="2736720"/>
          </a:xfrm>
          <a:prstGeom prst="cloudCallout">
            <a:avLst>
              <a:gd name="adj1" fmla="val 114986"/>
              <a:gd name="adj2" fmla="val 9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ловый спирт легче или тяжелее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1"/>
          <p:cNvSpPr/>
          <p:nvPr/>
        </p:nvSpPr>
        <p:spPr>
          <a:xfrm>
            <a:off x="0" y="785880"/>
            <a:ext cx="4429080" cy="2286000"/>
          </a:xfrm>
          <a:custGeom>
            <a:avLst/>
            <a:gdLst>
              <a:gd name="textAreaLeft" fmla="*/ 147960 w 4429080"/>
              <a:gd name="textAreaRight" fmla="*/ 4281120 w 442908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41846" h="21600">
                <a:moveTo>
                  <a:pt x="0" y="0"/>
                </a:moveTo>
                <a:lnTo>
                  <a:pt x="41846" y="0"/>
                </a:lnTo>
                <a:lnTo>
                  <a:pt x="41846" y="21600"/>
                </a:lnTo>
                <a:lnTo>
                  <a:pt x="0" y="21600"/>
                </a:lnTo>
                <a:close/>
              </a:path>
              <a:path fill="lightenLess" w="41846" h="21600">
                <a:moveTo>
                  <a:pt x="0" y="0"/>
                </a:moveTo>
                <a:lnTo>
                  <a:pt x="41846" y="0"/>
                </a:lnTo>
                <a:lnTo>
                  <a:pt x="40446" y="1400"/>
                </a:lnTo>
                <a:lnTo>
                  <a:pt x="1400" y="1400"/>
                </a:lnTo>
                <a:close/>
              </a:path>
              <a:path fill="darken" w="41846" h="21600">
                <a:moveTo>
                  <a:pt x="41846" y="0"/>
                </a:moveTo>
                <a:lnTo>
                  <a:pt x="41846" y="21600"/>
                </a:lnTo>
                <a:lnTo>
                  <a:pt x="40446" y="20200"/>
                </a:lnTo>
                <a:lnTo>
                  <a:pt x="40446" y="1400"/>
                </a:lnTo>
                <a:close/>
              </a:path>
              <a:path fill="darkenLess" w="41846" h="21600">
                <a:moveTo>
                  <a:pt x="41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6" y="20200"/>
                </a:lnTo>
                <a:close/>
              </a:path>
              <a:path fill="lighten" w="41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47" name="AutoShape 40"/>
          <p:cNvSpPr/>
          <p:nvPr/>
        </p:nvSpPr>
        <p:spPr>
          <a:xfrm>
            <a:off x="2916360" y="404640"/>
            <a:ext cx="4248000" cy="2737080"/>
          </a:xfrm>
          <a:prstGeom prst="cloudCallout">
            <a:avLst>
              <a:gd name="adj1" fmla="val -90657"/>
              <a:gd name="adj2" fmla="val 136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ой спирт получают из синтез –газ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1"/>
          <p:cNvSpPr/>
          <p:nvPr/>
        </p:nvSpPr>
        <p:spPr>
          <a:xfrm>
            <a:off x="2857680" y="428760"/>
            <a:ext cx="4429080" cy="2786040"/>
          </a:xfrm>
          <a:custGeom>
            <a:avLst/>
            <a:gdLst>
              <a:gd name="textAreaLeft" fmla="*/ 180360 w 4429080"/>
              <a:gd name="textAreaRight" fmla="*/ 4248720 w 4429080"/>
              <a:gd name="textAreaTop" fmla="*/ 180360 h 2786040"/>
              <a:gd name="textAreaBottom" fmla="*/ 2605680 h 2786040"/>
            </a:gdLst>
            <a:ahLst/>
            <a:rect l="textAreaLeft" t="textAreaTop" r="textAreaRight" b="textAreaBottom"/>
            <a:pathLst>
              <a:path w="34337" h="21600">
                <a:moveTo>
                  <a:pt x="0" y="0"/>
                </a:moveTo>
                <a:lnTo>
                  <a:pt x="34337" y="0"/>
                </a:lnTo>
                <a:lnTo>
                  <a:pt x="34337" y="21600"/>
                </a:lnTo>
                <a:lnTo>
                  <a:pt x="0" y="21600"/>
                </a:lnTo>
                <a:close/>
              </a:path>
              <a:path fill="lightenLess" w="34337" h="21600">
                <a:moveTo>
                  <a:pt x="0" y="0"/>
                </a:moveTo>
                <a:lnTo>
                  <a:pt x="34337" y="0"/>
                </a:lnTo>
                <a:lnTo>
                  <a:pt x="32937" y="1400"/>
                </a:lnTo>
                <a:lnTo>
                  <a:pt x="1400" y="1400"/>
                </a:lnTo>
                <a:close/>
              </a:path>
              <a:path fill="darken" w="34337" h="21600">
                <a:moveTo>
                  <a:pt x="34337" y="0"/>
                </a:moveTo>
                <a:lnTo>
                  <a:pt x="34337" y="21600"/>
                </a:lnTo>
                <a:lnTo>
                  <a:pt x="32937" y="20200"/>
                </a:lnTo>
                <a:lnTo>
                  <a:pt x="32937" y="1400"/>
                </a:lnTo>
                <a:close/>
              </a:path>
              <a:path fill="darkenLess" w="34337" h="21600">
                <a:moveTo>
                  <a:pt x="3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37" y="20200"/>
                </a:lnTo>
                <a:close/>
              </a:path>
              <a:path fill="lighten" w="3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50" name="AutoShape 40"/>
          <p:cNvSpPr/>
          <p:nvPr/>
        </p:nvSpPr>
        <p:spPr>
          <a:xfrm>
            <a:off x="2916360" y="857160"/>
            <a:ext cx="4248000" cy="2500560"/>
          </a:xfrm>
          <a:prstGeom prst="cloudCallout">
            <a:avLst>
              <a:gd name="adj1" fmla="val -51046"/>
              <a:gd name="adj2" fmla="val 138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ь применения метилового спи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1"/>
          <p:cNvSpPr/>
          <p:nvPr/>
        </p:nvSpPr>
        <p:spPr>
          <a:xfrm>
            <a:off x="3357720" y="357120"/>
            <a:ext cx="4929120" cy="4071960"/>
          </a:xfrm>
          <a:custGeom>
            <a:avLst/>
            <a:gdLst>
              <a:gd name="textAreaLeft" fmla="*/ 263880 w 4929120"/>
              <a:gd name="textAreaRight" fmla="*/ 4665240 w 4929120"/>
              <a:gd name="textAreaTop" fmla="*/ 263880 h 4071960"/>
              <a:gd name="textAreaBottom" fmla="*/ 3808080 h 4071960"/>
            </a:gdLst>
            <a:ahLst/>
            <a:rect l="textAreaLeft" t="textAreaTop" r="textAreaRight" b="textAreaBottom"/>
            <a:pathLst>
              <a:path w="26146" h="21600">
                <a:moveTo>
                  <a:pt x="0" y="0"/>
                </a:moveTo>
                <a:lnTo>
                  <a:pt x="26146" y="0"/>
                </a:lnTo>
                <a:lnTo>
                  <a:pt x="26146" y="21600"/>
                </a:lnTo>
                <a:lnTo>
                  <a:pt x="0" y="21600"/>
                </a:lnTo>
                <a:close/>
              </a:path>
              <a:path fill="lightenLess" w="26146" h="21600">
                <a:moveTo>
                  <a:pt x="0" y="0"/>
                </a:moveTo>
                <a:lnTo>
                  <a:pt x="26146" y="0"/>
                </a:lnTo>
                <a:lnTo>
                  <a:pt x="24747" y="1400"/>
                </a:lnTo>
                <a:lnTo>
                  <a:pt x="1400" y="1400"/>
                </a:lnTo>
                <a:close/>
              </a:path>
              <a:path fill="darken" w="26146" h="21600">
                <a:moveTo>
                  <a:pt x="26146" y="0"/>
                </a:moveTo>
                <a:lnTo>
                  <a:pt x="26146" y="21600"/>
                </a:lnTo>
                <a:lnTo>
                  <a:pt x="24747" y="20200"/>
                </a:lnTo>
                <a:lnTo>
                  <a:pt x="24747" y="1400"/>
                </a:lnTo>
                <a:close/>
              </a:path>
              <a:path fill="darkenLess" w="26146" h="21600">
                <a:moveTo>
                  <a:pt x="26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7" y="20200"/>
                </a:lnTo>
                <a:close/>
              </a:path>
              <a:path fill="lighten" w="26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53" name="AutoShape 40"/>
          <p:cNvSpPr/>
          <p:nvPr/>
        </p:nvSpPr>
        <p:spPr>
          <a:xfrm>
            <a:off x="2916360" y="404640"/>
            <a:ext cx="4584600" cy="2453040"/>
          </a:xfrm>
          <a:prstGeom prst="cloudCallout">
            <a:avLst>
              <a:gd name="adj1" fmla="val -7995"/>
              <a:gd name="adj2" fmla="val 13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-метилбутанол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омером пентанола-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1"/>
          <p:cNvSpPr/>
          <p:nvPr/>
        </p:nvSpPr>
        <p:spPr>
          <a:xfrm>
            <a:off x="3429000" y="428760"/>
            <a:ext cx="4357800" cy="2500200"/>
          </a:xfrm>
          <a:custGeom>
            <a:avLst/>
            <a:gdLst>
              <a:gd name="textAreaLeft" fmla="*/ 162000 w 4357800"/>
              <a:gd name="textAreaRight" fmla="*/ 4195800 w 4357800"/>
              <a:gd name="textAreaTop" fmla="*/ 162000 h 2500200"/>
              <a:gd name="textAreaBottom" fmla="*/ 2338200 h 2500200"/>
            </a:gdLst>
            <a:ahLst/>
            <a:rect l="textAreaLeft" t="textAreaTop" r="textAreaRight" b="textAreaBottom"/>
            <a:pathLst>
              <a:path w="37646" h="21600">
                <a:moveTo>
                  <a:pt x="0" y="0"/>
                </a:moveTo>
                <a:lnTo>
                  <a:pt x="37646" y="0"/>
                </a:lnTo>
                <a:lnTo>
                  <a:pt x="37646" y="21600"/>
                </a:lnTo>
                <a:lnTo>
                  <a:pt x="0" y="21600"/>
                </a:lnTo>
                <a:close/>
              </a:path>
              <a:path fill="lightenLess" w="37646" h="21600">
                <a:moveTo>
                  <a:pt x="0" y="0"/>
                </a:moveTo>
                <a:lnTo>
                  <a:pt x="37646" y="0"/>
                </a:lnTo>
                <a:lnTo>
                  <a:pt x="36246" y="1400"/>
                </a:lnTo>
                <a:lnTo>
                  <a:pt x="1400" y="1400"/>
                </a:lnTo>
                <a:close/>
              </a:path>
              <a:path fill="darken" w="37646" h="21600">
                <a:moveTo>
                  <a:pt x="37646" y="0"/>
                </a:moveTo>
                <a:lnTo>
                  <a:pt x="37646" y="21600"/>
                </a:lnTo>
                <a:lnTo>
                  <a:pt x="36246" y="20200"/>
                </a:lnTo>
                <a:lnTo>
                  <a:pt x="36246" y="1400"/>
                </a:lnTo>
                <a:close/>
              </a:path>
              <a:path fill="darkenLess" w="37646" h="21600">
                <a:moveTo>
                  <a:pt x="37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46" y="20200"/>
                </a:lnTo>
                <a:close/>
              </a:path>
              <a:path fill="lighten" w="37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56" name="AutoShape 40"/>
          <p:cNvSpPr/>
          <p:nvPr/>
        </p:nvSpPr>
        <p:spPr>
          <a:xfrm>
            <a:off x="2916360" y="404640"/>
            <a:ext cx="4513320" cy="3453120"/>
          </a:xfrm>
          <a:prstGeom prst="cloudCallout">
            <a:avLst>
              <a:gd name="adj1" fmla="val 31615"/>
              <a:gd name="adj2" fmla="val 138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наиболее известные спирты, применяемые в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1"/>
          <p:cNvSpPr/>
          <p:nvPr/>
        </p:nvSpPr>
        <p:spPr>
          <a:xfrm>
            <a:off x="3786120" y="500040"/>
            <a:ext cx="5357880" cy="1928880"/>
          </a:xfrm>
          <a:custGeom>
            <a:avLst/>
            <a:gdLst>
              <a:gd name="textAreaLeft" fmla="*/ 124920 w 5357880"/>
              <a:gd name="textAreaRight" fmla="*/ 5232960 w 5357880"/>
              <a:gd name="textAreaTop" fmla="*/ 124920 h 1928880"/>
              <a:gd name="textAreaBottom" fmla="*/ 1803960 h 192888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2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2" y="20200"/>
                </a:lnTo>
                <a:lnTo>
                  <a:pt x="58592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2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59" name="AutoShape 40"/>
          <p:cNvSpPr/>
          <p:nvPr/>
        </p:nvSpPr>
        <p:spPr>
          <a:xfrm>
            <a:off x="2916360" y="404640"/>
            <a:ext cx="4248000" cy="1810080"/>
          </a:xfrm>
          <a:prstGeom prst="cloudCallout">
            <a:avLst>
              <a:gd name="adj1" fmla="val 73768"/>
              <a:gd name="adj2" fmla="val 138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какими веществами реагирует этано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1"/>
          <p:cNvSpPr/>
          <p:nvPr/>
        </p:nvSpPr>
        <p:spPr>
          <a:xfrm>
            <a:off x="3500280" y="500040"/>
            <a:ext cx="3357720" cy="3429000"/>
          </a:xfrm>
          <a:custGeom>
            <a:avLst/>
            <a:gdLst>
              <a:gd name="textAreaLeft" fmla="*/ 217440 w 3357720"/>
              <a:gd name="textAreaRight" fmla="*/ 3140280 w 3357720"/>
              <a:gd name="textAreaTop" fmla="*/ 217440 h 3429000"/>
              <a:gd name="textAreaBottom" fmla="*/ 3211560 h 3429000"/>
            </a:gdLst>
            <a:ahLst/>
            <a:rect l="textAreaLeft" t="textAreaTop" r="textAreaRight" b="textAreaBottom"/>
            <a:pathLst>
              <a:path w="21600" h="22058">
                <a:moveTo>
                  <a:pt x="0" y="0"/>
                </a:moveTo>
                <a:lnTo>
                  <a:pt x="21600" y="0"/>
                </a:lnTo>
                <a:lnTo>
                  <a:pt x="21600" y="22058"/>
                </a:lnTo>
                <a:lnTo>
                  <a:pt x="0" y="22058"/>
                </a:lnTo>
                <a:close/>
              </a:path>
              <a:path fill="lightenLess" w="21600" h="220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8">
                <a:moveTo>
                  <a:pt x="21600" y="0"/>
                </a:moveTo>
                <a:lnTo>
                  <a:pt x="21600" y="22058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8">
                <a:moveTo>
                  <a:pt x="21600" y="22058"/>
                </a:moveTo>
                <a:lnTo>
                  <a:pt x="0" y="22058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8">
                <a:moveTo>
                  <a:pt x="0" y="220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96" name="AutoShape 40"/>
          <p:cNvSpPr/>
          <p:nvPr/>
        </p:nvSpPr>
        <p:spPr>
          <a:xfrm>
            <a:off x="3419640" y="2708280"/>
            <a:ext cx="4248000" cy="1720800"/>
          </a:xfrm>
          <a:prstGeom prst="cloudCallout">
            <a:avLst>
              <a:gd name="adj1" fmla="val -96486"/>
              <a:gd name="adj2" fmla="val -10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многоатомные спирты отличаются от одноатомн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98" name="AutoShape 40"/>
          <p:cNvSpPr/>
          <p:nvPr/>
        </p:nvSpPr>
        <p:spPr>
          <a:xfrm>
            <a:off x="3419640" y="2708280"/>
            <a:ext cx="4248000" cy="1792440"/>
          </a:xfrm>
          <a:prstGeom prst="cloudCallout">
            <a:avLst>
              <a:gd name="adj1" fmla="val -55643"/>
              <a:gd name="adj2" fmla="val -10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акую формулу имеет этиловый спирт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00" name="AutoShape 40"/>
          <p:cNvSpPr/>
          <p:nvPr/>
        </p:nvSpPr>
        <p:spPr>
          <a:xfrm>
            <a:off x="3348000" y="3213000"/>
            <a:ext cx="4581720" cy="1930680"/>
          </a:xfrm>
          <a:prstGeom prst="cloudCallout">
            <a:avLst>
              <a:gd name="adj1" fmla="val -12893"/>
              <a:gd name="adj2" fmla="val -123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ункциональная груп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02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26421"/>
              <a:gd name="adj2" fmla="val -1193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ое из веществ не является многоатомным спирт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Этиленглик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Глю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лицер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пропанол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04" name="AutoShape 40"/>
          <p:cNvSpPr/>
          <p:nvPr/>
        </p:nvSpPr>
        <p:spPr>
          <a:xfrm>
            <a:off x="3348000" y="3213000"/>
            <a:ext cx="4248360" cy="1573200"/>
          </a:xfrm>
          <a:prstGeom prst="cloudCallout">
            <a:avLst>
              <a:gd name="adj1" fmla="val 56055"/>
              <a:gd name="adj2" fmla="val -118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формула спи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1">
            <a:hlinkClick r:id="rId1" action="ppaction://hlinksldjump"/>
          </p:cNvPr>
          <p:cNvSpPr/>
          <p:nvPr/>
        </p:nvSpPr>
        <p:spPr>
          <a:xfrm>
            <a:off x="5357880" y="3500280"/>
            <a:ext cx="3143160" cy="2357640"/>
          </a:xfrm>
          <a:custGeom>
            <a:avLst/>
            <a:gdLst>
              <a:gd name="textAreaLeft" fmla="*/ 152640 w 3143160"/>
              <a:gd name="textAreaRight" fmla="*/ 2990520 w 3143160"/>
              <a:gd name="textAreaTop" fmla="*/ 152640 h 2357640"/>
              <a:gd name="textAreaBottom" fmla="*/ 2205000 h 235764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07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-93981"/>
              <a:gd name="adj2" fmla="val -78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общее название солей одноатомных спир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09" name="AutoShape 40"/>
          <p:cNvSpPr/>
          <p:nvPr/>
        </p:nvSpPr>
        <p:spPr>
          <a:xfrm>
            <a:off x="4214880" y="3429000"/>
            <a:ext cx="4676760" cy="2714760"/>
          </a:xfrm>
          <a:prstGeom prst="cloudCallout">
            <a:avLst>
              <a:gd name="adj1" fmla="val -85875"/>
              <a:gd name="adj2" fmla="val -86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ение спирта –экзо- или эндотермическая реакц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4:54Z</dcterms:created>
  <dc:creator>Юрий Ширяев</dc:creator>
  <dc:description/>
  <dc:language>en-US</dc:language>
  <cp:lastModifiedBy>я</cp:lastModifiedBy>
  <dcterms:modified xsi:type="dcterms:W3CDTF">2012-02-07T17:56:06Z</dcterms:modified>
  <cp:revision>37</cp:revision>
  <dc:subject/>
  <dc:title>Слайд 1</dc:title>
</cp:coreProperties>
</file>