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69D-7CF8-4917-8B7E-0500BDD7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1D5A-46A9-4C59-BBEA-E347D145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25E-73FA-41A9-9F7B-DBC348F8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C69-562E-41D1-8837-1C1833D6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68D-2653-4812-85CF-D312D0BC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D7B-5EBD-4BF7-8FF9-FE3706E8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382-A170-4E7C-9EF8-D7DB400A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174-A059-4CB5-977F-16B89D4A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51D-DEC3-48EC-99EC-28D8DA53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77B0-0C02-4BF2-8061-E61BD570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DE2-3134-4D7E-BFB4-69754543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B5B-06D6-43DD-8EFA-B87B2737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8E8F-3D04-4FEC-B1A0-983CD6504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152280" y="990720"/>
            <a:ext cx="8839080" cy="3429000"/>
            <a:chOff x="152280" y="990720"/>
            <a:chExt cx="8839080" cy="3429000"/>
          </a:xfrm>
        </p:grpSpPr>
        <p:sp>
          <p:nvSpPr>
            <p:cNvPr id="87" name=""/>
            <p:cNvSpPr/>
            <p:nvPr/>
          </p:nvSpPr>
          <p:spPr>
            <a:xfrm>
              <a:off x="3581280" y="2362320"/>
              <a:ext cx="685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67080" y="2362320"/>
              <a:ext cx="685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52880" y="2362320"/>
              <a:ext cx="685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8080" y="3048120"/>
              <a:ext cx="685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23880" y="3048120"/>
              <a:ext cx="685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9680" y="3048120"/>
              <a:ext cx="685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95480" y="3048120"/>
              <a:ext cx="685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3048120"/>
              <a:ext cx="685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280" y="3048120"/>
              <a:ext cx="685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7080" y="3048120"/>
              <a:ext cx="685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52880" y="3048120"/>
              <a:ext cx="685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09680" y="3733920"/>
              <a:ext cx="685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3733920"/>
              <a:ext cx="685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81280" y="3733920"/>
              <a:ext cx="685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67080" y="3733920"/>
              <a:ext cx="685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52280" y="990720"/>
              <a:ext cx="8839080" cy="2057400"/>
              <a:chOff x="152280" y="990720"/>
              <a:chExt cx="8839080" cy="2057400"/>
            </a:xfrm>
          </p:grpSpPr>
          <p:sp>
            <p:nvSpPr>
              <p:cNvPr id="103" name=""/>
              <p:cNvSpPr/>
              <p:nvPr/>
            </p:nvSpPr>
            <p:spPr>
              <a:xfrm>
                <a:off x="6324480" y="1676520"/>
                <a:ext cx="6858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10280" y="1676520"/>
                <a:ext cx="6858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96080" y="1676520"/>
                <a:ext cx="6858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05560" y="1676520"/>
                <a:ext cx="6858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152280" y="990720"/>
                <a:ext cx="6172200" cy="2057400"/>
                <a:chOff x="152280" y="990720"/>
                <a:chExt cx="6172200" cy="205740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2895480" y="990720"/>
                  <a:ext cx="3429000" cy="685800"/>
                  <a:chOff x="2895480" y="990720"/>
                  <a:chExt cx="3429000" cy="68580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2895480" y="990720"/>
                    <a:ext cx="68580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581280" y="990720"/>
                    <a:ext cx="68580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4267080" y="990720"/>
                    <a:ext cx="68580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4952880" y="990720"/>
                    <a:ext cx="68580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5638680" y="990720"/>
                    <a:ext cx="68580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2895480" y="1676520"/>
                  <a:ext cx="3429000" cy="685800"/>
                  <a:chOff x="2895480" y="1676520"/>
                  <a:chExt cx="3429000" cy="6858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2895480" y="1676520"/>
                    <a:ext cx="68580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581280" y="1676520"/>
                    <a:ext cx="68580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4267080" y="1676520"/>
                    <a:ext cx="68580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952880" y="1676520"/>
                    <a:ext cx="68580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5638680" y="1676520"/>
                    <a:ext cx="68580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152280" y="2362320"/>
                  <a:ext cx="3429000" cy="685800"/>
                  <a:chOff x="152280" y="2362320"/>
                  <a:chExt cx="3429000" cy="6858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152280" y="2362320"/>
                    <a:ext cx="68580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838080" y="2362320"/>
                    <a:ext cx="68580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523880" y="2362320"/>
                    <a:ext cx="68580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2209680" y="2362320"/>
                    <a:ext cx="68580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2895480" y="2362320"/>
                    <a:ext cx="685800" cy="68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26" name=""/>
          <p:cNvSpPr/>
          <p:nvPr/>
        </p:nvSpPr>
        <p:spPr>
          <a:xfrm>
            <a:off x="3048120" y="1066680"/>
            <a:ext cx="68580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Arial"/>
              </a:rPr>
              <a:t>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Arial"/>
              </a:rPr>
              <a:t>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Arial"/>
              </a:rPr>
              <a:t>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Arial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10666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    Р    О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17524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  Ш   К    А   Н    Ч    И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4382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   У    З   Н          Ч   И 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1240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   Е    Р    Е          А   Х 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8098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          С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276720" y="457200"/>
            <a:ext cx="2971800" cy="20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59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838080" y="228600"/>
            <a:ext cx="746784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вотные степи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2666880" cy="1770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7314" t="0" r="0" b="0"/>
          <a:stretch/>
        </p:blipFill>
        <p:spPr>
          <a:xfrm>
            <a:off x="5105520" y="4383000"/>
            <a:ext cx="29718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62320" y="304920"/>
            <a:ext cx="429552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f52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секомые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2f52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76920" y="4267080"/>
            <a:ext cx="2819160" cy="187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3255840" cy="44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876920" y="1676520"/>
            <a:ext cx="2819160" cy="198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9320" y="6095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52ff"/>
                </a:solidFill>
                <a:latin typeface="Arial"/>
              </a:rPr>
              <a:t>кобы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35053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52ff"/>
                </a:solidFill>
                <a:latin typeface="Arial"/>
              </a:rPr>
              <a:t>кузне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60199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52ff"/>
                </a:solidFill>
                <a:latin typeface="Arial"/>
              </a:rPr>
              <a:t>шм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666880" y="304920"/>
            <a:ext cx="3581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тицы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67280" y="4235400"/>
            <a:ext cx="2438640" cy="1925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2895480" cy="217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334120" y="1371600"/>
            <a:ext cx="3047760" cy="2281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09480" y="4114800"/>
            <a:ext cx="174492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895480" y="426708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3581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куроп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берк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3657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лу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ор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дро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666880" y="304920"/>
            <a:ext cx="3581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ызуны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943600" y="13716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19320" y="4419720"/>
            <a:ext cx="2666880" cy="198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791320" y="4572000"/>
            <a:ext cx="2209680" cy="182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990720" y="1371600"/>
            <a:ext cx="3124080" cy="2519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28800" y="6248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с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38098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сус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6248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хом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37339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мы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666880" y="304920"/>
            <a:ext cx="3581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ищники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29200" y="4156200"/>
            <a:ext cx="2819520" cy="2044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2819520" cy="2255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57200" y="1447920"/>
            <a:ext cx="4008600" cy="4143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280" y="5562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л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60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кор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3047760" cy="2871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800600" cy="2806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14400" y="5029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кулан                                  сайг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8</cp:lastModifiedBy>
  <dcterms:modified xsi:type="dcterms:W3CDTF">2009-02-17T11:34:5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