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C54-92BC-40AE-8BA6-0652DAAB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A43-7309-4956-87B5-EA6F9BE7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5A0-553B-4705-8DF5-5BD49B22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AF2-1861-4C9F-B350-B8A37041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DED-3824-4188-8D47-6CBA1EA4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0D36-92F9-4CA6-BB27-DC76F050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29F4-C595-4AA7-8869-4A44DDAC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A77A-5A3E-4CDA-9C39-06850A3A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F35E-AF91-4551-995E-BEE37852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9767-7E81-4545-9998-E58ECDF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4F0A-42A0-48A0-A078-8EC87B69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291-4102-4F02-AB1B-36896B6C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D7F4-35C5-43F1-8451-536BC924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B835-1EEB-4EA5-8B3D-28949B3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E9AC-7D75-42C4-8EB9-56092715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1211-AAB4-4C31-A7F4-42D1341E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E32F-C38A-4201-8C2C-917668E6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74F-6871-4C1F-A266-BD0ECD3D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5A3-6EC3-4D04-A080-920ED10C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9C7-AE30-4069-8267-C3EF9C91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FD6-A49C-4A30-88BD-F4B73A4A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34D-7C20-4E81-8EBB-2475CE44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1C8-D91A-4034-8E2B-6598D131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234-B1F2-4ED0-8C3F-3CEE4B3B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16AA-9A65-44ED-AC2A-0BDF9CDE753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A74F-3C02-4B02-95B2-7B6ADF535B6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Театры города Каза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Учитель русского языка и литературы МБОУ Нурминская  СОШ Балтасинского района Р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Калимуллина Рамзия Шарифулл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Татарский академический театр имени Г.Камала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4392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Татарский государственный театр  драмы и комедии имени К. Тинчурина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3887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Государственный академический русский Большой драматический театр имени В.И.Качалова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424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Татарский академический театр оперы и балета 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мени М.Джалиля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89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Государственный театр юного зрителя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имени Г.Кариева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537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Татарский государственный театр кукол «Экият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17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6:34:40Z</dcterms:created>
  <dc:creator>Рамзия</dc:creator>
  <dc:description/>
  <dc:language>en-US</dc:language>
  <cp:lastModifiedBy>Рамзия</cp:lastModifiedBy>
  <dcterms:modified xsi:type="dcterms:W3CDTF">2012-02-11T17:06:05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