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9F9-E8DB-41A6-A646-5BF3706E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E3C-8939-4AFE-BF5A-E70C6C39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73D-60E1-4586-9291-BE9161E2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B519-861E-4E86-9076-37074F7C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E3C1-584D-4F6D-A793-C87E1D27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FCA8-B015-49A9-8740-76DB888D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7895-27CA-400A-961C-B0BDAD15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6DAB-272B-4BD8-BCD5-85D2E240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2C6B-5FB8-4714-A22D-98677C8D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DD3D-233A-4AAC-81B2-E6B095F0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1010-A678-4C01-A02D-3296635B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B52-8B12-49B2-889E-7FCD9A07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6305-8855-42D0-BF56-734773EB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04F2-2B16-4E5D-A007-F2633CF6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9B67-3CAE-4ADB-8432-DB2B8604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EDD9-4F65-4CF1-BDEA-713C3F8A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6336-498E-4A79-B117-A3224225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CE9-19AF-439E-B70C-65032274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594B-3DE8-46A5-BED8-6EDDE5BF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8FA-9A8C-45B8-BBB9-16DB9E11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AA7-578B-4412-96D2-9C492554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02D-0FE6-40E1-AED2-B4EF45F1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8AF-A174-4F33-9166-2B0EAD5B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575-3B3E-4B0B-8F63-D2C6508E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BFEA-E03B-48A8-A185-FE3D5FC2C0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3DAC-43AF-4DD8-9717-FDE6DD4B4A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79640" y="292392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Буквы </a:t>
            </a:r>
            <a:r>
              <a:rPr b="0" lang="ru-RU" sz="3700" spc="-1" strike="noStrike">
                <a:solidFill>
                  <a:srgbClr val="cc0000"/>
                </a:solidFill>
                <a:latin typeface="Verdana"/>
              </a:rPr>
              <a:t>н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3700" spc="-1" strike="noStrike">
                <a:solidFill>
                  <a:srgbClr val="cc0000"/>
                </a:solidFill>
                <a:latin typeface="Verdana"/>
              </a:rPr>
              <a:t>нн 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в именах прилагательных, образованных от имен существительных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Лебед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и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ый           лебед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ож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а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ый            кож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8000" y="2637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924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7236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411280" y="213372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213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276360" y="4292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0720" y="4508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4365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35640" y="4365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79640" y="3715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3716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4508640"/>
            <a:ext cx="2887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27280" y="2852640"/>
            <a:ext cx="2160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Запомнить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текл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ян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лов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ян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ерев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ян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268360" y="1989000"/>
            <a:ext cx="358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4221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3068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340000" y="4221000"/>
            <a:ext cx="358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24000" y="3068640"/>
            <a:ext cx="358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5084640"/>
            <a:ext cx="432000" cy="0"/>
          </a:xfrm>
          <a:prstGeom prst="line">
            <a:avLst/>
          </a:prstGeom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3933720"/>
            <a:ext cx="360360" cy="0"/>
          </a:xfrm>
          <a:prstGeom prst="line">
            <a:avLst/>
          </a:prstGeom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2924280"/>
            <a:ext cx="431640" cy="0"/>
          </a:xfrm>
          <a:prstGeom prst="line">
            <a:avLst/>
          </a:prstGeom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Экскурси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он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ый         экскурс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олом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ен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ый          солома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716360" y="2565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276720" y="206028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206064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2924280"/>
            <a:ext cx="503280" cy="0"/>
          </a:xfrm>
          <a:prstGeom prst="line">
            <a:avLst/>
          </a:prstGeom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2852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284720" y="429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4581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700360" y="371592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59280" y="371628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6360" y="4581360"/>
            <a:ext cx="503280" cy="0"/>
          </a:xfrm>
          <a:prstGeom prst="line">
            <a:avLst/>
          </a:prstGeom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Запомнить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етр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е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ый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о    безветр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ен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195640" y="263664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2637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3429000"/>
            <a:ext cx="360360" cy="0"/>
          </a:xfrm>
          <a:prstGeom prst="line">
            <a:avLst/>
          </a:prstGeom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580000" y="3716280"/>
            <a:ext cx="43200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3716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4508640"/>
            <a:ext cx="433440" cy="0"/>
          </a:xfrm>
          <a:prstGeom prst="line">
            <a:avLst/>
          </a:prstGeom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Осен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й         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осень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Туман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ый         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тума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41964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342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0" y="321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21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556000" y="2708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0360" y="270828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0" y="3429000"/>
            <a:ext cx="503280" cy="0"/>
          </a:xfrm>
          <a:prstGeom prst="line">
            <a:avLst/>
          </a:prstGeom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780000" y="4292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458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771640" y="386064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38606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4581360"/>
            <a:ext cx="574920" cy="0"/>
          </a:xfrm>
          <a:prstGeom prst="line">
            <a:avLst/>
          </a:prstGeom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Спасибо за урок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9:34:56Z</dcterms:created>
  <dc:creator>SPEEDxp</dc:creator>
  <dc:description/>
  <dc:language>en-US</dc:language>
  <cp:lastModifiedBy>SPEEDxp</cp:lastModifiedBy>
  <dcterms:modified xsi:type="dcterms:W3CDTF">2010-11-10T17:51:17Z</dcterms:modified>
  <cp:revision>3</cp:revision>
  <dc:subject/>
  <dc:title>Тема урока:</dc:title>
</cp:coreProperties>
</file>