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D5B8-572E-4AFB-B11C-0071A450F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5D61-0E31-4B0E-ABB0-492643E45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EB88-1CF7-4E06-9CA7-013597F5D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F357-E88F-45CF-A923-EBE662B22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7DB45-1C8A-480C-BF26-391E63AE9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944DF-3842-4BA9-B54D-F88567414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50A35-5364-4A35-A42E-EA6A0D132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FD02A-1B1F-4B26-BB20-892973099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421BE-8222-4A17-B006-CEB2078F0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B22F9-8B4D-445E-B3C1-D558BACDD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1928B-EDC3-4F4F-B8FD-2799D198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944E-71B2-4C96-AFFB-0DB69333A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7EE81-E692-4F47-B398-5283FD66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40B98-40EC-44A3-AE7B-B6B4687E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09646-A58B-4328-B737-3AF7715D4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589E9-232C-45DD-BBF8-45E18EE38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269F5-FDF6-41F8-833A-AC5978138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D67ABD-8AF5-4E0B-8A56-190D5DA1A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E7E2B6-ABF1-4889-9D24-0C2460A37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539C54-AB46-4119-8B0C-742F91CA7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45F676-1C8D-411E-95B0-1501168ED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4DD875-1BD2-424D-A2CB-C6337D21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C596-E189-411A-A577-9AA3233F4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40EB81-B34F-46F0-A51F-9051CF966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B317CC-F674-402D-B9BE-E6AC6C8C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F93A2B-9DD6-4A3E-B262-358E8DF6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B341C8-0564-4EAE-8F3C-94A80C45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32B92A-02D9-4435-B220-E08D86B1E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1E25F8-BB8E-48F6-82D3-5F409D378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B90C31-0E21-415B-A4D3-8638E7FB4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90708-F51F-49D9-B0EC-F3FEDA3C5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3251E-9017-4AFE-A6BD-7E759E005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4C680-CD5B-49DB-B63B-FF3C05574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39B2-04B3-4F2B-A820-FA0874B55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A3F92-AFF4-465B-9656-70056E5DA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78B5D-A2B8-4737-8DD3-C320F7A33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EDC14-6735-4BE6-A536-EF7374AE0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50009-FC65-4681-A16F-8111800B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98DB5-0664-47E9-9EC4-91AF67A3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6F32F-8673-4EA7-BAD6-D38CF2B2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C41C6-98E9-4845-BEB3-E6451B6C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EC09C-57FE-4698-B4A8-5166AC4B4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F0FDD-52A8-411E-8F22-3EC138F93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F1EFB6-AF3B-4A85-BE78-353FDA6B7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FF39-B6F1-4C09-91D8-ED43D2F05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FE84C5-ABB7-4506-99ED-6D694B80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1FACC7-67BB-48D9-B874-4CB7197D6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605333-1C1E-48B3-8CFF-F9C9ABE48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0A5E63-BC2B-4A0F-A91B-8F0D27516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603F47-9DD6-49A3-8FE8-72EA72D7F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94A17D-CC5A-44CE-80EE-25C04B7B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B0F5C5-F638-4F82-B9E2-7BC39304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3E2CF4-565D-450C-A21D-8E2CA3A3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B5538B-044D-43A7-99AC-E2A33C6BB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405DD5-8F02-479C-B3E4-BBB2D3374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34F8-3BEA-4ABE-B339-CC02AF5F5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4E7072-3883-4571-9491-5852F51A1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2164E7-9A16-4026-9186-86E21635C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4EC260-BB4A-4A0E-A4A6-03E8AE387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62D876-E929-47D6-A619-03F0C73D9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0BB071-BA99-4648-90D3-C4FE4DDA6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AF1CD0-7E8A-408E-AD12-F97FDD807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65135A-20D6-4C8C-81BF-CA93D9E8A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E95964-6328-427D-9A55-F36DE568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10257B-D25B-456C-BA86-8C299541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0EF5D8-AFCB-471C-ACD4-084D8E54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7F0D-A6FE-4446-ACDF-DAAD8710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7D516D-0DEA-419E-B4E7-6C4DD220C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097110-9D19-4D1D-A862-0605E31E6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6C54B9-88A9-4312-B5D1-E0716F62A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4F6E37-E3D4-46EF-A95F-8038F364A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3AA829-7B16-4563-9DFE-EBDEAED4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9AE3B7-ACFB-40C0-9936-E3158B78D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CE118F-701C-45A3-AD5F-DCB51879E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304CBE-4577-47C0-8E27-5ADE00FDB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5C8FBB-50A0-413E-B9D5-18BA1C49B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5CAC4D-52F5-48C9-9E61-477F9874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FDE6-7BCB-439E-B9C1-E4E93796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383316-8632-4D41-ADB6-A6F07F54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9ED1A3-4FC1-4B9C-B374-7AB604542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C3EC1D-2964-4C1C-9EBB-A4C424A08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17DFC7-E6F0-4909-BD2B-C800B2ACE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7C915E-FD54-4413-BC70-B51DB3129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7346-A042-410D-A03F-691F4430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04998-24D7-418C-BE4B-418F68679D1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603E6-4E3A-49C6-8278-B484CE08CCD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13170-862E-4986-A000-963F1A8A2FA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5DDEE-823F-456A-A23F-C52537F979C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19868-A2B7-4EA7-B0F6-3FBC322FA01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7438B-8FF5-4818-8AA6-D1141AE2272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43E2C-EE8E-4DBE-A2B5-28AF166F08C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68000" y="105264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entury Schoolbook"/>
              </a:rPr>
              <a:t>«ТОРОПЫЖКА  </a:t>
            </a:r>
            <a:br>
              <a:rPr sz="4800"/>
            </a:br>
            <a:r>
              <a:rPr b="1" lang="en-US" sz="4800" spc="-1" strike="noStrike">
                <a:solidFill>
                  <a:srgbClr val="ff0000"/>
                </a:solidFill>
                <a:latin typeface="Century Schoolbook"/>
              </a:rPr>
              <a:t>НА УЛИЦЕ»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3492360" y="5734080"/>
            <a:ext cx="1206720" cy="93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2011г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"/>
          <p:cNvSpPr/>
          <p:nvPr/>
        </p:nvSpPr>
        <p:spPr>
          <a:xfrm>
            <a:off x="3564000" y="2997360"/>
            <a:ext cx="48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лассный час по правилам дорожного дви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427640" y="4076640"/>
            <a:ext cx="4176720" cy="10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подаватель-организатор ОБ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имназии «Дмитр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Баринова Елена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0" name="Рисунок 3" descr="skazki-0037.jpg"/>
          <p:cNvPicPr/>
          <p:nvPr/>
        </p:nvPicPr>
        <p:blipFill>
          <a:blip r:embed="rId1"/>
          <a:stretch/>
        </p:blipFill>
        <p:spPr>
          <a:xfrm>
            <a:off x="571680" y="214200"/>
            <a:ext cx="8001000" cy="6429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3" name="Рисунок 3" descr="skazki-0038.jpg"/>
          <p:cNvPicPr/>
          <p:nvPr/>
        </p:nvPicPr>
        <p:blipFill>
          <a:blip r:embed="rId1"/>
          <a:stretch/>
        </p:blipFill>
        <p:spPr>
          <a:xfrm>
            <a:off x="571680" y="571680"/>
            <a:ext cx="8035920" cy="5715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6" name="Рисунок 3" descr="skazki-0039.jpg"/>
          <p:cNvPicPr/>
          <p:nvPr/>
        </p:nvPicPr>
        <p:blipFill>
          <a:blip r:embed="rId1"/>
          <a:stretch/>
        </p:blipFill>
        <p:spPr>
          <a:xfrm>
            <a:off x="571680" y="452520"/>
            <a:ext cx="7858080" cy="5952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6" name="Содержимое 3" descr="skazki-0029.jpg"/>
          <p:cNvPicPr/>
          <p:nvPr/>
        </p:nvPicPr>
        <p:blipFill>
          <a:blip r:embed="rId1"/>
          <a:stretch/>
        </p:blipFill>
        <p:spPr>
          <a:xfrm>
            <a:off x="1714680" y="1571760"/>
            <a:ext cx="4940280" cy="4873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9" name="Рисунок 3" descr="skazki-0030.jpg"/>
          <p:cNvPicPr/>
          <p:nvPr/>
        </p:nvPicPr>
        <p:blipFill>
          <a:blip r:embed="rId1"/>
          <a:stretch/>
        </p:blipFill>
        <p:spPr>
          <a:xfrm>
            <a:off x="428760" y="542880"/>
            <a:ext cx="8143920" cy="5886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2" name="Рисунок 3" descr="skazki-0031.jpg"/>
          <p:cNvPicPr/>
          <p:nvPr/>
        </p:nvPicPr>
        <p:blipFill>
          <a:blip r:embed="rId1"/>
          <a:stretch/>
        </p:blipFill>
        <p:spPr>
          <a:xfrm>
            <a:off x="571680" y="0"/>
            <a:ext cx="814356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5" name="Рисунок 3" descr="skazki-0032.jpg"/>
          <p:cNvPicPr/>
          <p:nvPr/>
        </p:nvPicPr>
        <p:blipFill>
          <a:blip r:embed="rId1"/>
          <a:stretch/>
        </p:blipFill>
        <p:spPr>
          <a:xfrm>
            <a:off x="571680" y="614520"/>
            <a:ext cx="7858080" cy="5743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8" name="Рисунок 3" descr="skazki-0033.jpg"/>
          <p:cNvPicPr/>
          <p:nvPr/>
        </p:nvPicPr>
        <p:blipFill>
          <a:blip r:embed="rId1"/>
          <a:stretch/>
        </p:blipFill>
        <p:spPr>
          <a:xfrm>
            <a:off x="428760" y="662040"/>
            <a:ext cx="8143920" cy="569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1" name="Рисунок 3" descr="skazki-0034.jpg"/>
          <p:cNvPicPr/>
          <p:nvPr/>
        </p:nvPicPr>
        <p:blipFill>
          <a:blip r:embed="rId1"/>
          <a:stretch/>
        </p:blipFill>
        <p:spPr>
          <a:xfrm>
            <a:off x="428760" y="642960"/>
            <a:ext cx="8072280" cy="5643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4" name="Рисунок 3" descr="skazki-0035.jpg"/>
          <p:cNvPicPr/>
          <p:nvPr/>
        </p:nvPicPr>
        <p:blipFill>
          <a:blip r:embed="rId1"/>
          <a:stretch/>
        </p:blipFill>
        <p:spPr>
          <a:xfrm>
            <a:off x="500040" y="1033560"/>
            <a:ext cx="8061480" cy="5181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7" name="Рисунок 3" descr="skazki-0036.jpg"/>
          <p:cNvPicPr/>
          <p:nvPr/>
        </p:nvPicPr>
        <p:blipFill>
          <a:blip r:embed="rId1"/>
          <a:stretch/>
        </p:blipFill>
        <p:spPr>
          <a:xfrm>
            <a:off x="500040" y="642960"/>
            <a:ext cx="8143920" cy="5786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305</cp:lastModifiedBy>
  <dcterms:modified xsi:type="dcterms:W3CDTF">2012-02-11T12:19:16Z</dcterms:modified>
  <cp:revision>11</cp:revision>
  <dc:subject/>
  <dc:title>Слайд 1</dc:title>
</cp:coreProperties>
</file>