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4.png" ContentType="image/png"/>
  <Override PartName="/ppt/media/image12.wmf" ContentType="image/x-wmf"/>
  <Override PartName="/ppt/media/image33.jpeg" ContentType="image/jpeg"/>
  <Override PartName="/ppt/media/image27.jpeg" ContentType="image/jpeg"/>
  <Override PartName="/ppt/media/image16.jpeg" ContentType="image/jpeg"/>
  <Override PartName="/ppt/media/image5.wmf" ContentType="image/x-wmf"/>
  <Override PartName="/ppt/media/image10.png" ContentType="image/png"/>
  <Override PartName="/ppt/media/image35.jpeg" ContentType="image/jpeg"/>
  <Override PartName="/ppt/media/image31.jpeg" ContentType="image/jpeg"/>
  <Override PartName="/ppt/media/image34.jpeg" ContentType="image/jpeg"/>
  <Override PartName="/ppt/media/image36.png" ContentType="image/png"/>
  <Override PartName="/ppt/media/image37.jpeg" ContentType="image/jpeg"/>
  <Override PartName="/ppt/media/image32.jpeg" ContentType="image/jpeg"/>
  <Override PartName="/ppt/media/image38.jpeg" ContentType="image/jpeg"/>
  <Override PartName="/ppt/media/image4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0.jpeg" ContentType="image/jpeg"/>
  <Override PartName="/ppt/media/image7.wmf" ContentType="image/x-wmf"/>
  <Override PartName="/ppt/media/image11.png" ContentType="image/png"/>
  <Override PartName="/ppt/media/image40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38B5-A596-4585-AA83-87B94E73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C37E-6C27-4A45-9529-BB86719E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C5A-0A1E-480C-8740-BE89172E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2576-BEDA-4828-86AC-A43F515B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9BA8-8095-49D4-86CE-946D5F37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3A61-FF2E-43EE-A9EA-8A191D7D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93A-5CF3-4520-9219-4F21BF48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E93E-738C-40BD-B820-B8F19D7F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39C3-2874-4FF3-9FCE-0E73D3DD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229-6C2C-42AE-B800-36F95730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1230-9D60-4068-BBF9-47EFCB13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637F-F04E-4795-AD0B-D105C84D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49D1-35ED-4855-A20B-43E4676EB0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hyperlink" Target="http://www.odinblag.ru/_ph/47/2/243382809.jpg" TargetMode="External"/><Relationship Id="rId4" Type="http://schemas.openxmlformats.org/officeDocument/2006/relationships/image" Target="../media/image33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12.wmf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hyperlink" Target="http://www.artbesedka.ru/7/7-1.jpg" TargetMode="External"/><Relationship Id="rId8" Type="http://schemas.openxmlformats.org/officeDocument/2006/relationships/image" Target="../media/image30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549360"/>
            <a:ext cx="6480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Impact"/>
              </a:rPr>
              <a:t>Технология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Impact"/>
              </a:rPr>
              <a:t>(технический труд)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4869000"/>
            <a:ext cx="56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98760" y="5938920"/>
            <a:ext cx="128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508720" y="3429000"/>
            <a:ext cx="3297240" cy="1655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a1d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entury Schoolbook"/>
              </a:rPr>
              <a:t>Автор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a1d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a1d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entury Schoolbook"/>
              </a:rPr>
              <a:t>Сибогатулин Равиль Гаязови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a1d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a1d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entury Schoolbook"/>
              </a:rPr>
              <a:t>учитель технологии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a1d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a1d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entury Schoolbook"/>
              </a:rPr>
              <a:t>высшая категор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a1d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a1d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entury Schoolbook"/>
              </a:rPr>
              <a:t>МОУ " СОШ № 117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a1d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 rot="20067000">
            <a:off x="696600" y="3639600"/>
            <a:ext cx="1542960" cy="281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843280" y="2637000"/>
            <a:ext cx="1601640" cy="201744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276720" y="6021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2600"/>
                </a:solidFill>
                <a:latin typeface="Arial"/>
              </a:rPr>
              <a:t>г.Снежинск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367160" y="1414440"/>
            <a:ext cx="47768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турная резьба не отличается особой сложностью от других видов резьбы, но потребует уже хорошего владения резцом, большего внимания и хорошего понимания и восприятия характера выполняемого сюжета. По своей сути контурная резьба представляет собой углубленный рисунок, выполненный сплошными выемками в виде линий различной геометрии и глубины. Отсутствие рельефа при контурной резьбе лишает ее некоторой выразительности, поэтому очень важно правильно выбрать глубину и ширину линий, формируемых сплошными выемками различных конфигура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048200" cy="4889520"/>
          </a:xfrm>
          <a:prstGeom prst="rect">
            <a:avLst/>
          </a:prstGeom>
          <a:ln w="76320">
            <a:solidFill>
              <a:srgbClr val="3a1d00"/>
            </a:solidFill>
            <a:miter/>
          </a:ln>
        </p:spPr>
      </p:pic>
      <p:sp>
        <p:nvSpPr>
          <p:cNvPr id="124" name=""/>
          <p:cNvSpPr txBox="1"/>
          <p:nvPr/>
        </p:nvSpPr>
        <p:spPr>
          <a:xfrm>
            <a:off x="1476360" y="476280"/>
            <a:ext cx="65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a1d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Контурная резьба </a:t>
            </a:r>
            <a:endParaRPr b="1" lang="en-US" sz="1800" spc="1" strike="noStrike">
              <a:ln w="19080">
                <a:solidFill>
                  <a:srgbClr val="3a1d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640" y="4723200"/>
            <a:ext cx="784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1d00"/>
                </a:solidFill>
                <a:latin typeface="Arial"/>
              </a:rPr>
              <a:t>Основной признак этой резьбы - удаление фона, пропиливание заготовки насквоз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1d00"/>
                </a:solidFill>
                <a:latin typeface="Arial"/>
              </a:rPr>
              <a:t>Широкое распространение прорезная резьба получила из-за того, что наименее трудоемка, проста по технике исполнения и поэтому доступна любому, даже дет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3600360" cy="3000600"/>
          </a:xfrm>
          <a:prstGeom prst="rect">
            <a:avLst/>
          </a:prstGeom>
          <a:ln w="76320">
            <a:solidFill>
              <a:srgbClr val="3a1d00"/>
            </a:solidFill>
            <a:miter/>
          </a:ln>
        </p:spPr>
      </p:pic>
      <p:pic>
        <p:nvPicPr>
          <p:cNvPr id="128" name="i-main-pic" descr="Картинка 124 из 974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341360"/>
            <a:ext cx="3456000" cy="2971800"/>
          </a:xfrm>
          <a:prstGeom prst="rect">
            <a:avLst/>
          </a:prstGeom>
          <a:ln w="76320">
            <a:solidFill>
              <a:srgbClr val="3a1d00"/>
            </a:solidFill>
            <a:miter/>
          </a:ln>
        </p:spPr>
      </p:pic>
      <p:sp>
        <p:nvSpPr>
          <p:cNvPr id="129" name=""/>
          <p:cNvSpPr txBox="1"/>
          <p:nvPr/>
        </p:nvSpPr>
        <p:spPr>
          <a:xfrm>
            <a:off x="1692360" y="404640"/>
            <a:ext cx="509580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a1d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Прорезная резьба </a:t>
            </a:r>
            <a:endParaRPr b="1" lang="en-US" sz="1800" spc="1" strike="noStrike">
              <a:ln w="19080">
                <a:solidFill>
                  <a:srgbClr val="3a1d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905120" y="2819520"/>
            <a:ext cx="1761840" cy="253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164360" y="4581360"/>
            <a:ext cx="1622520" cy="1727280"/>
          </a:xfrm>
          <a:prstGeom prst="rect">
            <a:avLst/>
          </a:prstGeom>
          <a:ln w="9360">
            <a:solidFill>
              <a:srgbClr val="4c2600"/>
            </a:solidFill>
            <a:miter/>
          </a:ln>
        </p:spPr>
      </p:pic>
      <p:pic>
        <p:nvPicPr>
          <p:cNvPr id="133" name="i-main-pic" descr="Картинка 49 из 9746"/>
          <p:cNvPicPr/>
          <p:nvPr/>
        </p:nvPicPr>
        <p:blipFill>
          <a:blip r:embed="rId4"/>
          <a:stretch/>
        </p:blipFill>
        <p:spPr>
          <a:xfrm>
            <a:off x="228600" y="609480"/>
            <a:ext cx="1801800" cy="2141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Красивая резьба по дереву (19 фото)"/>
          <p:cNvPicPr/>
          <p:nvPr/>
        </p:nvPicPr>
        <p:blipFill>
          <a:blip r:embed="rId5"/>
          <a:stretch/>
        </p:blipFill>
        <p:spPr>
          <a:xfrm>
            <a:off x="7164360" y="1052640"/>
            <a:ext cx="1738440" cy="3240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Красивая резьба по дереву (19 фото)"/>
          <p:cNvPicPr/>
          <p:nvPr/>
        </p:nvPicPr>
        <p:blipFill>
          <a:blip r:embed="rId6"/>
          <a:stretch/>
        </p:blipFill>
        <p:spPr>
          <a:xfrm>
            <a:off x="228600" y="3048120"/>
            <a:ext cx="1293840" cy="3213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2268360" y="40464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Скульптурная резьба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37" name=""/>
          <p:cNvSpPr/>
          <p:nvPr/>
        </p:nvSpPr>
        <p:spPr>
          <a:xfrm>
            <a:off x="3995640" y="1630080"/>
            <a:ext cx="3243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1d00"/>
                </a:solidFill>
                <a:latin typeface="Arial"/>
              </a:rPr>
              <a:t>Скульптурная, или объёмная резьба, характеризуется тем, что в ней рельефное изображение частично или полностью отделяется от фона, превращаясь в скульптуру. В отличии от одностороннего изображения  объекта в плоскорельефной  и рельефной резьбе объект изображается всесторон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219320" y="4419720"/>
            <a:ext cx="3413160" cy="1915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Картинка 54 из 111"/>
          <p:cNvPicPr/>
          <p:nvPr/>
        </p:nvPicPr>
        <p:blipFill>
          <a:blip r:embed="rId3"/>
          <a:stretch/>
        </p:blipFill>
        <p:spPr>
          <a:xfrm>
            <a:off x="6400800" y="990720"/>
            <a:ext cx="2289240" cy="2400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г.Самара, ул. Ярмарочная, д.27"/>
          <p:cNvPicPr/>
          <p:nvPr/>
        </p:nvPicPr>
        <p:blipFill>
          <a:blip r:embed="rId4"/>
          <a:stretch/>
        </p:blipFill>
        <p:spPr>
          <a:xfrm>
            <a:off x="228600" y="1066680"/>
            <a:ext cx="2041560" cy="3070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г.Самара, ул. Красноармейская, д.92"/>
          <p:cNvPicPr/>
          <p:nvPr/>
        </p:nvPicPr>
        <p:blipFill>
          <a:blip r:embed="rId5"/>
          <a:stretch/>
        </p:blipFill>
        <p:spPr>
          <a:xfrm>
            <a:off x="5715000" y="4038480"/>
            <a:ext cx="2373480" cy="2521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03640" y="1053360"/>
            <a:ext cx="2938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емы выполнения прорезной резьбы очень просты, поэтому с древних времен она широко распространена, особенно в украшении деревянных домов (домовая резьб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давна Урал славен своими масте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42920" y="260280"/>
            <a:ext cx="6553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a1d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Домовая резьба</a:t>
            </a:r>
            <a:endParaRPr b="1" lang="en-US" sz="1800" spc="1" strike="noStrike">
              <a:ln w="19080">
                <a:solidFill>
                  <a:srgbClr val="3a1d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flipH="1" rot="21553800">
            <a:off x="0" y="0"/>
            <a:ext cx="2627280" cy="1631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rot="10800000">
            <a:off x="0" y="5373360"/>
            <a:ext cx="2627280" cy="1484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 flipH="1" rot="10800000">
            <a:off x="6658920" y="5444640"/>
            <a:ext cx="2484360" cy="141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588000" y="0"/>
            <a:ext cx="2556000" cy="1584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826920" y="1700280"/>
            <a:ext cx="75758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"Художественная обработка древесины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Геометрическая резьба"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419640" y="501336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6 клас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24360" y="620640"/>
            <a:ext cx="129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Тем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-160560" y="41040"/>
            <a:ext cx="4520160" cy="6411960"/>
            <a:chOff x="-160560" y="41040"/>
            <a:chExt cx="4520160" cy="6411960"/>
          </a:xfrm>
        </p:grpSpPr>
        <p:sp>
          <p:nvSpPr>
            <p:cNvPr id="59" name=""/>
            <p:cNvSpPr/>
            <p:nvPr/>
          </p:nvSpPr>
          <p:spPr>
            <a:xfrm rot="20341200">
              <a:off x="374400" y="538200"/>
              <a:ext cx="3449520" cy="3628800"/>
            </a:xfrm>
            <a:prstGeom prst="cloudCallout">
              <a:avLst>
                <a:gd name="adj1" fmla="val -5203"/>
                <a:gd name="adj2" fmla="val 31763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755640" y="695880"/>
              <a:ext cx="2879640" cy="57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3780000" y="404640"/>
            <a:ext cx="647640" cy="3745080"/>
          </a:xfrm>
          <a:custGeom>
            <a:avLst/>
            <a:gdLst>
              <a:gd name="textAreaLeft" fmla="*/ 0 w 647640"/>
              <a:gd name="textAreaRight" fmla="*/ 234000 w 64764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4149720"/>
            <a:ext cx="504720" cy="1366920"/>
          </a:xfrm>
          <a:custGeom>
            <a:avLst/>
            <a:gdLst>
              <a:gd name="textAreaLeft" fmla="*/ 0 w 504720"/>
              <a:gd name="textAreaRight" fmla="*/ 182160 w 50472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5516640"/>
            <a:ext cx="503280" cy="720720"/>
          </a:xfrm>
          <a:custGeom>
            <a:avLst/>
            <a:gdLst>
              <a:gd name="textAreaLeft" fmla="*/ 0 w 503280"/>
              <a:gd name="textAreaRight" fmla="*/ 181800 w 503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6237360"/>
            <a:ext cx="1873080" cy="0"/>
          </a:xfrm>
          <a:prstGeom prst="line">
            <a:avLst/>
          </a:prstGeom>
          <a:ln w="19080">
            <a:solidFill>
              <a:srgbClr val="9900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5516640"/>
            <a:ext cx="1873080" cy="0"/>
          </a:xfrm>
          <a:prstGeom prst="line">
            <a:avLst/>
          </a:prstGeom>
          <a:ln w="19080">
            <a:solidFill>
              <a:srgbClr val="9900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4149720"/>
            <a:ext cx="1873080" cy="0"/>
          </a:xfrm>
          <a:prstGeom prst="line">
            <a:avLst/>
          </a:prstGeom>
          <a:ln w="19080">
            <a:solidFill>
              <a:srgbClr val="9900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404640"/>
            <a:ext cx="1873440" cy="0"/>
          </a:xfrm>
          <a:prstGeom prst="line">
            <a:avLst/>
          </a:prstGeom>
          <a:ln w="19080">
            <a:solidFill>
              <a:srgbClr val="9900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427640" y="4292640"/>
            <a:ext cx="64908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rrington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0" y="5516640"/>
            <a:ext cx="50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rrington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 flipH="1" rot="1056600">
            <a:off x="4355640" y="404640"/>
            <a:ext cx="3751200" cy="4148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5219640" y="1341360"/>
            <a:ext cx="107964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rrington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72" name=""/>
          <p:cNvSpPr txBox="1"/>
          <p:nvPr/>
        </p:nvSpPr>
        <p:spPr>
          <a:xfrm rot="20569200">
            <a:off x="236160" y="1755720"/>
            <a:ext cx="84978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4c2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помним!</a:t>
            </a:r>
            <a:endParaRPr b="1" lang="en-US" sz="1800" spc="1" strike="noStrike">
              <a:ln w="28440">
                <a:solidFill>
                  <a:srgbClr val="4c26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00720" y="1916280"/>
            <a:ext cx="19922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25751" dir="18900000" blurRad="0" rotWithShape="0">
                    <a:srgbClr val="663300">
                      <a:alpha val="50000"/>
                    </a:srgbClr>
                  </a:outerShdw>
                </a:effectLst>
                <a:latin typeface="Impact"/>
              </a:rPr>
              <a:t>Крон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25751" dir="18900000" blurRad="0" rotWithShape="0">
                  <a:srgbClr val="6633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00720" y="4437000"/>
            <a:ext cx="1992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25751" dir="18900000" blurRad="0" rotWithShape="0">
                    <a:srgbClr val="663300">
                      <a:alpha val="50000"/>
                    </a:srgbClr>
                  </a:outerShdw>
                </a:effectLst>
                <a:latin typeface="Impact"/>
              </a:rPr>
              <a:t>Ствол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25751" dir="18900000" blurRad="0" rotWithShape="0">
                  <a:srgbClr val="6633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720" y="5589720"/>
            <a:ext cx="19922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25751" dir="18900000" blurRad="0" rotWithShape="0">
                    <a:srgbClr val="663300">
                      <a:alpha val="50000"/>
                    </a:srgbClr>
                  </a:outerShdw>
                </a:effectLst>
                <a:latin typeface="Impact"/>
              </a:rPr>
              <a:t>Корен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25751" dir="18900000" blurRad="0" rotWithShape="0">
                  <a:srgbClr val="6633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 rot="20649600">
            <a:off x="890640" y="1935000"/>
            <a:ext cx="77724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им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1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xit" presetID="53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36760" y="1484280"/>
            <a:ext cx="5907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усском народном творчестве издавна особое место занимала деревянная резьба. Это нашло отражение в старинных песнях, былинах: " Во тёмном бору богатый дом стоит, весь убран, приукрашен", или "Крыльчушко красное, с точёными балясами, с переходами брусчатыми"! Деревянные узоры на русских избах как застывшая прекрасная музыка, как песня о любви к родному дому, к отчему кра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ревянной резьбой украшали карнизы фронтонов, слуховые окна, фризовые доски, наличники и ставни окон, крыльцо, ворота, калитки. И сейчас отчётливо видно пристрастие наших предков к украшению своего дома деревянным кружевом. Оно делало его ценным памятником архитектуры, в котором сочетались простота форм, естественность с разнообразием приёмов выполнения различных видов резьбы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ры леса сопровождали русского человека на протяжении всей жизни. Изба и сани, лубяная зыбка и деревянная игрушка, ложка и прялка- всё было сделано из дере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гатые и разнообразные традиции деревянной резьбы складывались веками и имеют свои особенности в разных районах бескрайней России - на Севере и на Поволжье, в Сибири и на Урал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258920" y="0"/>
            <a:ext cx="6624360" cy="1413000"/>
            <a:chOff x="1258920" y="0"/>
            <a:chExt cx="6624360" cy="1413000"/>
          </a:xfrm>
        </p:grpSpPr>
        <p:sp>
          <p:nvSpPr>
            <p:cNvPr id="81" name=""/>
            <p:cNvSpPr/>
            <p:nvPr/>
          </p:nvSpPr>
          <p:spPr>
            <a:xfrm>
              <a:off x="1258920" y="0"/>
              <a:ext cx="6624360" cy="141300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1617480" y="321840"/>
              <a:ext cx="6181920" cy="77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3500000" blurRad="0" rotWithShape="0">
                      <a:srgbClr val="663300">
                        <a:alpha val="50000"/>
                      </a:srgbClr>
                    </a:outerShdw>
                  </a:effectLst>
                  <a:latin typeface="Arial"/>
                </a:rPr>
                <a:t>История резьбы по дереву</a:t>
              </a:r>
              <a:endPara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663300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79280" y="1628640"/>
            <a:ext cx="2857680" cy="2190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179280" y="4149720"/>
            <a:ext cx="2880000" cy="21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427640" y="1486080"/>
            <a:ext cx="4336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удожественная резьба по дереву на Урале вошла широко в наш повседневный уклад жизни. Мастерство резчиков по дереву не теряет былой значимости, а наоборот, является предметом внимания и восхищения. Произведения мастеров-резчиков отлично сочетаются с современными достижениями научного прогресса. Резьбу по дереву можно встретить, практически, в любых городах или селах Южного Урала. Что наглядно подтверждает это Бажовский фестиваль народного творчества, который ежегодно проходит в Челябинской област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2819160" cy="2300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2971800" cy="2114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826920" y="189000"/>
            <a:ext cx="725832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удожественная резьба по дереву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Южном Урале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4360" y="767520"/>
            <a:ext cx="403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ягкие лиственные породы (липа, ива, осина, тополь, ольха, каштан)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Лиственные породы средней твердости (береза, вяз, ильм, карагач)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Твердые лиственные породы (дуб, бук, клен, ясень, платан, самшит)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Твердая древесина фруктовых деревьев (яблоня, груша, черешня, вишня, рябина, орех)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Мягкие хвойные породы (ель, кедр, сосна, пихта)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Твердые хвойные породы (лиственница, можжевельник, тис, кипарис)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Иноземные породы деревьев (махагони, макаре, мовинга, белинга, эбеновое дерево, секвойя, палисанд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83200" y="1052640"/>
            <a:ext cx="3544920" cy="4752720"/>
          </a:xfrm>
          <a:prstGeom prst="rect">
            <a:avLst/>
          </a:prstGeom>
          <a:ln w="76320">
            <a:solidFill>
              <a:srgbClr val="3a1d00"/>
            </a:solidFill>
            <a:miter/>
          </a:ln>
        </p:spPr>
      </p:pic>
      <p:sp>
        <p:nvSpPr>
          <p:cNvPr id="93" name=""/>
          <p:cNvSpPr txBox="1"/>
          <p:nvPr/>
        </p:nvSpPr>
        <p:spPr>
          <a:xfrm>
            <a:off x="971640" y="260280"/>
            <a:ext cx="6567480" cy="4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a1d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ОРОДЫ ДЕРЕВЬЕВ</a:t>
            </a:r>
            <a:endParaRPr b="1" lang="en-US" sz="1800" spc="1" strike="noStrike">
              <a:ln w="19080">
                <a:solidFill>
                  <a:srgbClr val="3a1d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3457440" cy="3457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rcRect l="0" t="13294" r="0" b="7677"/>
          <a:stretch/>
        </p:blipFill>
        <p:spPr>
          <a:xfrm flipH="1" rot="12815400">
            <a:off x="322920" y="3284280"/>
            <a:ext cx="4037040" cy="2878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rcRect l="0" t="14173" r="0" b="7087"/>
          <a:stretch/>
        </p:blipFill>
        <p:spPr>
          <a:xfrm rot="8412000">
            <a:off x="5122440" y="3109320"/>
            <a:ext cx="4030560" cy="275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rcRect l="0" t="14042" r="0" b="8294"/>
          <a:stretch/>
        </p:blipFill>
        <p:spPr>
          <a:xfrm flipH="1" rot="1602000">
            <a:off x="4940280" y="572760"/>
            <a:ext cx="4016520" cy="2795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rcRect l="0" t="12677" r="0" b="6864"/>
          <a:stretch/>
        </p:blipFill>
        <p:spPr>
          <a:xfrm rot="19205400">
            <a:off x="250920" y="549000"/>
            <a:ext cx="4060800" cy="3055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 rot="19153200">
            <a:off x="5791320" y="4365360"/>
            <a:ext cx="33526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Рельефная 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резьба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01" name=""/>
          <p:cNvSpPr txBox="1"/>
          <p:nvPr/>
        </p:nvSpPr>
        <p:spPr>
          <a:xfrm rot="1933200">
            <a:off x="511200" y="4532400"/>
            <a:ext cx="309564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Скульптурная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резьба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02" name=""/>
          <p:cNvSpPr txBox="1"/>
          <p:nvPr/>
        </p:nvSpPr>
        <p:spPr>
          <a:xfrm rot="19127400">
            <a:off x="684360" y="1125360"/>
            <a:ext cx="295272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Прорезная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резьба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03" name=""/>
          <p:cNvSpPr txBox="1"/>
          <p:nvPr/>
        </p:nvSpPr>
        <p:spPr>
          <a:xfrm rot="1579200">
            <a:off x="5514480" y="1165320"/>
            <a:ext cx="32958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Геометрическая 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резьба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35280" y="2637000"/>
            <a:ext cx="2089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Вид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резьб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6" name=""/>
          <p:cNvSpPr txBox="1"/>
          <p:nvPr/>
        </p:nvSpPr>
        <p:spPr>
          <a:xfrm>
            <a:off x="826920" y="115920"/>
            <a:ext cx="76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4c2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Геометрическая резьба</a:t>
            </a:r>
            <a:endParaRPr b="1" lang="en-US" sz="1800" spc="1" strike="noStrike">
              <a:ln w="28440">
                <a:solidFill>
                  <a:srgbClr val="4c2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971800" y="762120"/>
            <a:ext cx="2592360" cy="1726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048120" y="4343400"/>
            <a:ext cx="2447640" cy="2154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659640" y="3500280"/>
            <a:ext cx="2179440" cy="2907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50920" y="2565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1d00"/>
                </a:solidFill>
                <a:latin typeface="Arial"/>
              </a:rPr>
              <a:t>Это самый доступный по простоте и технологичности (пос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1d00"/>
                </a:solidFill>
                <a:latin typeface="Arial"/>
              </a:rPr>
              <a:t>прорезной) вид резьбы по дереву. По своей сути геометрическая резьба - это повторяющиеся в определенной композиции клинорезные вые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228600" y="1523880"/>
            <a:ext cx="1773360" cy="4645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6400800" y="685800"/>
            <a:ext cx="24843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48000" y="981000"/>
            <a:ext cx="1873440" cy="2514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300720" y="3860640"/>
            <a:ext cx="2519280" cy="2508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940360" y="981000"/>
            <a:ext cx="2952720" cy="2276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95280" y="907920"/>
            <a:ext cx="1933560" cy="280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276720" y="3645000"/>
            <a:ext cx="2477880" cy="2809800"/>
          </a:xfrm>
          <a:prstGeom prst="rect">
            <a:avLst/>
          </a:prstGeom>
          <a:ln w="0">
            <a:noFill/>
          </a:ln>
        </p:spPr>
      </p:pic>
      <p:pic>
        <p:nvPicPr>
          <p:cNvPr id="119" name="i-main-pic" descr="Картинка 22 из 974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4000" y="3860640"/>
            <a:ext cx="2309760" cy="2737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258920" y="115920"/>
            <a:ext cx="66247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Рельефная резьба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11T21:28:4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