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125-3F53-42E6-BCF0-5B85050E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4FD-6398-4F7A-89CD-CB1B6F4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5B0-5EB4-4CBA-A6D8-9C926D57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24C-43C0-4467-A827-01D5E68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976-A4DA-465A-9F08-E2469AE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9C5-CD15-40CA-AEB3-E0EBEE5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1A1-BD0D-497C-ACCB-B9A39DF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EE1-2302-4150-AEA7-00D1468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DB8-C424-4E27-9F97-8CD02E44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DF3-52C1-4D29-95A6-A483BF2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A37-BF5F-4CC2-BA93-EE3CD8A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CD0-D377-4B55-BA1B-B821C2D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ED9-30AC-4CCE-A845-BC455146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sba.ru/_pu/0/87917.jpg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aboostyle.com/News_img/geometric2.jpg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а 62 из 3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3538440" cy="489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а 82 из 3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557360"/>
            <a:ext cx="4013280" cy="489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9000"/>
            <a:ext cx="7210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Азбука геометрической резьб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16720" cy="374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26920" y="260280"/>
            <a:ext cx="74581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Элементы геометрической резьбы</a:t>
            </a:r>
            <a:endParaRPr b="0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867280" y="5805360"/>
            <a:ext cx="676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6. Лучи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48360" y="5805360"/>
            <a:ext cx="68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7. Ромбы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5805360"/>
            <a:ext cx="19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5. Четырёхугольники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03280" y="5877000"/>
            <a:ext cx="1009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4. Фонарик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19640" y="5157720"/>
            <a:ext cx="2533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3. Треугольник с зубчиками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4000" y="5229360"/>
            <a:ext cx="84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2. Глазок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32000" y="5229360"/>
            <a:ext cx="1466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1. Треугольники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5327640" cy="4992480"/>
          </a:xfrm>
          <a:prstGeom prst="rect">
            <a:avLst/>
          </a:prstGeom>
          <a:ln w="38160">
            <a:solidFill>
              <a:srgbClr val="3a1d00"/>
            </a:solidFill>
            <a:miter/>
          </a:ln>
        </p:spPr>
      </p:pic>
      <p:graphicFrame>
        <p:nvGraphicFramePr>
          <p:cNvPr id="57" name=""/>
          <p:cNvGraphicFramePr/>
          <p:nvPr/>
        </p:nvGraphicFramePr>
        <p:xfrm>
          <a:off x="2627280" y="2301840"/>
          <a:ext cx="3889440" cy="36504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627280" y="40384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 txBox="1"/>
          <p:nvPr/>
        </p:nvSpPr>
        <p:spPr>
          <a:xfrm>
            <a:off x="539640" y="260280"/>
            <a:ext cx="8209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нструменты для ручной художественной резьбы: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12000" y="3068640"/>
            <a:ext cx="259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Стамески-клюкар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12000" y="3645000"/>
            <a:ext cx="25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Стамески-уго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2000" y="4292640"/>
            <a:ext cx="259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Стамеска цераз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67280" y="4941720"/>
            <a:ext cx="302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лоские стамески-кося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12000" y="2421000"/>
            <a:ext cx="266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Желобчатые стаме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0360" y="1773360"/>
            <a:ext cx="2819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лоские прямые стаме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11280" y="333360"/>
            <a:ext cx="78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метка и вырезание контуров резьбы</a:t>
            </a:r>
            <a:endParaRPr b="1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1844640"/>
            <a:ext cx="6264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Надрезание выемок поперёк волок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резание выемок вдоль волок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Рисунок розетки с геометрической рез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>
            <a:lum contrast="12000"/>
          </a:blip>
          <a:srcRect l="12781" t="25469" r="61728" b="40543"/>
          <a:stretch/>
        </p:blipFill>
        <p:spPr>
          <a:xfrm>
            <a:off x="468360" y="1700280"/>
            <a:ext cx="1584360" cy="1584360"/>
          </a:xfrm>
          <a:prstGeom prst="rect">
            <a:avLst/>
          </a:prstGeom>
          <a:ln w="38160">
            <a:solidFill>
              <a:srgbClr val="3a1d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5">
            <a:lum contrast="12000"/>
          </a:blip>
          <a:srcRect l="35042" t="21256" r="36308" b="40543"/>
          <a:stretch/>
        </p:blipFill>
        <p:spPr>
          <a:xfrm>
            <a:off x="468360" y="3429000"/>
            <a:ext cx="1582560" cy="1511280"/>
          </a:xfrm>
          <a:prstGeom prst="rect">
            <a:avLst/>
          </a:prstGeom>
          <a:ln w="38160">
            <a:solidFill>
              <a:srgbClr val="3a1d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>
            <a:lum contrast="12000"/>
          </a:blip>
          <a:srcRect l="66924" t="17041" r="1194" b="36237"/>
          <a:stretch/>
        </p:blipFill>
        <p:spPr>
          <a:xfrm>
            <a:off x="468360" y="5084640"/>
            <a:ext cx="1623960" cy="1513080"/>
          </a:xfrm>
          <a:prstGeom prst="rect">
            <a:avLst/>
          </a:prstGeom>
          <a:ln w="38160">
            <a:solidFill>
              <a:srgbClr val="3a1d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116000" y="404640"/>
            <a:ext cx="655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а безопасност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1484280"/>
            <a:ext cx="70563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Стамески – опасный режущий инструмент. Обращаться с ними надо остор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е держать левую руку вблизи режущего инстр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е прилагать больших усилий при резании стаме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Если при работе необходимо ударять по ручке стамески, то держать её надо в левой руке, а киянку – в пр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Хранить стамески в ящике верстака или в шкафу на вырезках в рей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Каждому инструменту определить своё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11T21:27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