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B28-5ECB-4B33-902F-1EF3A141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5E7-8596-446A-AC45-5A686CC8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5A8-0A53-4A12-A2DC-044A402B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DD6-584F-4B8C-ABFA-A8725C34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5B2-3012-414E-B7F5-D00998B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466-4349-4348-98AD-A601A58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8F8-783E-47D6-93CA-02733B1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30F-2067-4C42-9D35-908228CD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1C9-CD8F-461C-90CB-86CCC10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D7C-86E9-411A-A544-B4CDF43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E3D-05B1-4ECE-9A39-90E3148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D67-3314-46CC-8EA8-A5945FC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991-3EA1-4423-98A0-4357D00C8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hyperlink" Target="http://www.uf.uz/pict/45073907f2f38524b1990131f28a2019.jpg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architector.dp.ua/images/catalog/arts/doska_sketchup8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rchitector.dp.ua/images/catalog/arts/doska_sketchup8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3200" t="38037" r="0" b="31008"/>
          <a:stretch/>
        </p:blipFill>
        <p:spPr>
          <a:xfrm>
            <a:off x="5003640" y="4869000"/>
            <a:ext cx="158436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00000" y="404640"/>
            <a:ext cx="720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ёмы резания</a:t>
            </a:r>
            <a:endParaRPr b="1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rcRect l="71390" t="12683" r="0" b="59550"/>
          <a:stretch/>
        </p:blipFill>
        <p:spPr>
          <a:xfrm>
            <a:off x="395280" y="494172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42857" t="38037" r="24990" b="31008"/>
          <a:stretch/>
        </p:blipFill>
        <p:spPr>
          <a:xfrm>
            <a:off x="4932360" y="3213000"/>
            <a:ext cx="1800360" cy="130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rcRect l="44084" t="9497" r="27471" b="61910"/>
          <a:stretch/>
        </p:blipFill>
        <p:spPr>
          <a:xfrm>
            <a:off x="324000" y="321300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>
            <a:lum contrast="54000"/>
          </a:blip>
          <a:srcRect l="5393" t="26182" r="71429" b="33368"/>
          <a:stretch/>
        </p:blipFill>
        <p:spPr>
          <a:xfrm>
            <a:off x="900000" y="1268280"/>
            <a:ext cx="1209960" cy="158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627280" y="1773360"/>
            <a:ext cx="5222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Захват и положение инструмента при резьбе</a:t>
            </a:r>
            <a:endParaRPr b="0" lang="en-US" sz="2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14172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дной рукой с наклоном ножа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941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дной рукой с наклоном ножа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328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ложение косяка в конце ре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508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вумя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9360">
            <a:solidFill>
              <a:srgbClr val="4c26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684360" y="333360"/>
            <a:ext cx="7920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ан работы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о выполнению резьбы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3645000"/>
            <a:ext cx="6840720" cy="2494080"/>
          </a:xfrm>
          <a:prstGeom prst="rect">
            <a:avLst/>
          </a:prstGeom>
          <a:noFill/>
          <a:ln w="7632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бери вид резьбы. Подбери за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Нанеси рисунок на за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Закрепи заготовку на верстаке, подбери инстр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полни резь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2 из 9746">
            <a:hlinkClick r:id="rId7"/>
          </p:cNvPr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5435640" y="1274760"/>
            <a:ext cx="3097080" cy="2386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Картинка 118 из 330">
            <a:hlinkClick r:id="rId9"/>
          </p:cNvPr>
          <p:cNvPicPr/>
          <p:nvPr/>
        </p:nvPicPr>
        <p:blipFill>
          <a:blip r:embed="rId10"/>
          <a:srcRect l="0" t="0" r="0" b="5502"/>
          <a:stretch/>
        </p:blipFill>
        <p:spPr>
          <a:xfrm>
            <a:off x="611280" y="1341360"/>
            <a:ext cx="2952720" cy="2184480"/>
          </a:xfrm>
          <a:prstGeom prst="rect">
            <a:avLst/>
          </a:prstGeom>
          <a:ln w="28440">
            <a:solidFill>
              <a:srgbClr val="bc5e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118 из 330">
            <a:hlinkClick r:id="rId2"/>
          </p:cNvPr>
          <p:cNvPicPr/>
          <p:nvPr/>
        </p:nvPicPr>
        <p:blipFill>
          <a:blip r:embed="rId3"/>
          <a:srcRect l="0" t="0" r="0" b="5502"/>
          <a:stretch/>
        </p:blipFill>
        <p:spPr>
          <a:xfrm>
            <a:off x="2340000" y="2133720"/>
            <a:ext cx="486720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00000" y="333360"/>
            <a:ext cx="7344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ктическая работа 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Эскиз геометрической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зьбы по дереву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84120" y="3016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92360" y="189000"/>
            <a:ext cx="69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репление полученных знаний</a:t>
            </a:r>
            <a:endParaRPr b="1" lang="en-US" sz="1800" spc="1" strike="noStrike">
              <a:ln w="2844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700280"/>
            <a:ext cx="7200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 какими видами резьбы ты познакоми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Чем характерен каждый вид резь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к и чем размечают заготовки для резь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В какой последовательности вырезают треугольные выем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к следует держать инструме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9380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0671800">
            <a:off x="536040" y="1977840"/>
            <a:ext cx="78426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урок !</a:t>
            </a:r>
            <a:endParaRPr b="1" lang="en-US" sz="1800" spc="1" strike="noStrike">
              <a:ln w="3816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rot="20878800">
            <a:off x="1476000" y="4653000"/>
            <a:ext cx="1898640" cy="1568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55640" y="404640"/>
            <a:ext cx="2978280" cy="151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64000" y="40053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11T21:30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