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2.jpeg" ContentType="image/jpeg"/>
  <Override PartName="/ppt/media/image7.jpeg" ContentType="image/jpeg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5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1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6DC-273C-4C86-86BA-B204C440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6F3-95A7-4402-9426-F528FC39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2DC-E4C5-468D-AD6F-C93D4722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184-BE94-4B77-A457-248CC79A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A65-E375-4871-A7D2-81938D18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C27-E223-4FE2-AB40-D816A850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259-644D-487B-82A9-A4D4BED4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B73-106E-4435-A017-373E9F34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1DF-3A8B-487B-A3F6-FE0AD907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0AF-BECD-401C-8CD6-0873D63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789-CBDB-43A5-8313-47CB9F2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F3F-AF70-42E6-ADA3-D54228E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9F7-F188-49E0-AD84-3FCDB152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276800"/>
            <a:ext cx="3276720" cy="2581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24360" y="3645000"/>
            <a:ext cx="222408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32720" y="3068640"/>
            <a:ext cx="1854000" cy="1460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1125360"/>
            <a:ext cx="2664000" cy="1081440"/>
          </a:xfrm>
          <a:prstGeom prst="cloudCallout">
            <a:avLst>
              <a:gd name="adj1" fmla="val 12870"/>
              <a:gd name="adj2" fmla="val 5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052640"/>
            <a:ext cx="3527640" cy="1728720"/>
          </a:xfrm>
          <a:prstGeom prst="cloudCallout">
            <a:avLst>
              <a:gd name="adj1" fmla="val 5310"/>
              <a:gd name="adj2" fmla="val 7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476280"/>
            <a:ext cx="2808000" cy="1368360"/>
          </a:xfrm>
          <a:prstGeom prst="cloudCallout">
            <a:avLst>
              <a:gd name="adj1" fmla="val -43726"/>
              <a:gd name="adj2" fmla="val 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413000"/>
            <a:ext cx="3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32000" y="1700280"/>
            <a:ext cx="20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12682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69228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ё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51280" y="620640"/>
            <a:ext cx="289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11640" y="112536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59280" y="549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80000" y="1628640"/>
            <a:ext cx="228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300720" y="17002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77080" y="1413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308720" y="1989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028000" y="1341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468360" y="18900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203640" y="5084640"/>
            <a:ext cx="1047600" cy="1105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3419640" y="4437000"/>
            <a:ext cx="1047600" cy="1104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6227640" y="4076640"/>
            <a:ext cx="104796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8388360" y="3068640"/>
            <a:ext cx="10476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1112760"/>
            <a:ext cx="4448160" cy="5745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 rot="20831400">
            <a:off x="1037880" y="1472760"/>
            <a:ext cx="5197320" cy="17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4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0920" y="907920"/>
            <a:ext cx="14400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380360" y="2276640"/>
            <a:ext cx="126684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88000" y="2276640"/>
            <a:ext cx="93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35280" y="5300640"/>
            <a:ext cx="13683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852640"/>
            <a:ext cx="129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11640" y="4581360"/>
            <a:ext cx="13683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508720" y="333360"/>
            <a:ext cx="115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236000" y="4941720"/>
            <a:ext cx="1439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75" name=""/>
          <p:cNvCxnSpPr>
            <a:stCxn id="67" idx="3"/>
            <a:endCxn id="68" idx="0"/>
          </p:cNvCxnSpPr>
          <p:nvPr/>
        </p:nvCxnSpPr>
        <p:spPr>
          <a:xfrm>
            <a:off x="3490560" y="1380960"/>
            <a:ext cx="4523400" cy="9583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1" idx="3"/>
            <a:endCxn id="72" idx="1"/>
          </p:cNvCxnSpPr>
          <p:nvPr/>
        </p:nvCxnSpPr>
        <p:spPr>
          <a:xfrm>
            <a:off x="1690200" y="3429000"/>
            <a:ext cx="2521800" cy="1626480"/>
          </a:xfrm>
          <a:prstGeom prst="straightConnector1">
            <a:avLst/>
          </a:prstGeom>
          <a:ln w="540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3" idx="2"/>
            <a:endCxn id="74" idx="0"/>
          </p:cNvCxnSpPr>
          <p:nvPr/>
        </p:nvCxnSpPr>
        <p:spPr>
          <a:xfrm>
            <a:off x="6084720" y="1275840"/>
            <a:ext cx="1872720" cy="3731400"/>
          </a:xfrm>
          <a:prstGeom prst="straightConnector1">
            <a:avLst/>
          </a:prstGeom>
          <a:ln w="4752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9" idx="1"/>
            <a:endCxn id="70" idx="0"/>
          </p:cNvCxnSpPr>
          <p:nvPr/>
        </p:nvCxnSpPr>
        <p:spPr>
          <a:xfrm flipH="1">
            <a:off x="2518920" y="2709720"/>
            <a:ext cx="2269440" cy="265788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0652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5877000"/>
            <a:ext cx="181116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292640"/>
            <a:ext cx="1871640" cy="10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4437000"/>
            <a:ext cx="122400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4437000"/>
            <a:ext cx="1150920" cy="936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4437000"/>
            <a:ext cx="1224000" cy="93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43640" y="4437000"/>
            <a:ext cx="115092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40720" y="4437000"/>
            <a:ext cx="115092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50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96360" y="50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3933720"/>
            <a:ext cx="216000" cy="358920"/>
          </a:xfrm>
          <a:custGeom>
            <a:avLst/>
            <a:gdLst>
              <a:gd name="textAreaLeft" fmla="*/ 47520 w 216000"/>
              <a:gd name="textAreaRight" fmla="*/ 168480 w 216000"/>
              <a:gd name="textAreaTop" fmla="*/ 78840 h 358920"/>
              <a:gd name="textAreaBottom" fmla="*/ 2800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3573360"/>
            <a:ext cx="143964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0436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429000"/>
            <a:ext cx="431640" cy="14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008000" cy="95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 rot="5400000">
            <a:off x="2763720" y="4805280"/>
            <a:ext cx="4064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3912480" y="4807800"/>
            <a:ext cx="411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5400000">
            <a:off x="5343480" y="48178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6783120" y="4818240"/>
            <a:ext cx="431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3789360"/>
            <a:ext cx="57636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55436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од кувшинками в ти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Где не очень мел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Ходят важные л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Шириной с таре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8ac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92360" y="1125360"/>
            <a:ext cx="19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148360" y="1197000"/>
            <a:ext cx="208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08360" y="2708280"/>
            <a:ext cx="19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835280" y="4581360"/>
            <a:ext cx="2087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580000" y="4581360"/>
            <a:ext cx="18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7885080" y="0"/>
            <a:ext cx="10652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5581800"/>
            <a:ext cx="1733400" cy="127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4436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речке плавали лещ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о чего же хоро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Лещик – пап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Лещик – 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 конечно малы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речке плавали лещ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0652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35280" y="836640"/>
            <a:ext cx="1944720" cy="238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2305080" cy="210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96000" y="3068640"/>
            <a:ext cx="1552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5877000"/>
            <a:ext cx="181116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292640"/>
            <a:ext cx="1871640" cy="10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4437000"/>
            <a:ext cx="122400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437000"/>
            <a:ext cx="1150920" cy="936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4437000"/>
            <a:ext cx="1224000" cy="93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4437000"/>
            <a:ext cx="115092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4437000"/>
            <a:ext cx="115092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0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50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3933720"/>
            <a:ext cx="216000" cy="358920"/>
          </a:xfrm>
          <a:custGeom>
            <a:avLst/>
            <a:gdLst>
              <a:gd name="textAreaLeft" fmla="*/ 47520 w 216000"/>
              <a:gd name="textAreaRight" fmla="*/ 168480 w 216000"/>
              <a:gd name="textAreaTop" fmla="*/ 78840 h 358920"/>
              <a:gd name="textAreaBottom" fmla="*/ 2800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3573360"/>
            <a:ext cx="143964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0436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5373720"/>
            <a:ext cx="2887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036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5373720"/>
            <a:ext cx="2890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429000"/>
            <a:ext cx="431640" cy="14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008000" cy="9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5400000">
            <a:off x="2763720" y="4805280"/>
            <a:ext cx="4064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 rot="5400000">
            <a:off x="3912480" y="4807800"/>
            <a:ext cx="411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 rot="5400000">
            <a:off x="5343480" y="48178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6783120" y="4818240"/>
            <a:ext cx="431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3789360"/>
            <a:ext cx="57636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56000" y="1916280"/>
            <a:ext cx="18003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0.04278 L 0.34253 0.35746 E">
                                      <p:cBhvr>
                                        <p:cTn id="9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4:46:45Z</dcterms:created>
  <dc:creator>лежнина</dc:creator>
  <dc:description/>
  <dc:language>en-US</dc:language>
  <cp:lastModifiedBy>лежнина</cp:lastModifiedBy>
  <dcterms:modified xsi:type="dcterms:W3CDTF">2009-01-25T17:16:27Z</dcterms:modified>
  <cp:revision>3</cp:revision>
  <dc:subject/>
  <dc:title>Слайд 1</dc:title>
</cp:coreProperties>
</file>