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B70-113B-44BF-9C35-858D2FA2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9FD-7F42-48C9-BDFE-FA0B017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FEF-C501-488F-AD88-EF543664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80D-8606-4C14-ADC1-B462A958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2A1-5DF6-495F-8482-CA65D4FC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1A3-2C34-4271-9549-DBE8813F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074-8999-4A55-AC8A-4F1F0BEF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DC0-53A2-4F0B-9084-3062AB6B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AB5-4388-42AD-9C8E-51CEBE8C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95E-049D-41CC-B0B4-FB57F0C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C4D-335C-47F2-8B09-D4DEDF8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CE9-7D8D-46C8-8F12-689A2A7F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68F7-E32F-46F3-995C-DE5ADEA4D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5" descr="0913df474829d79b28ac5d94cf41a01f.jpeg"/>
          <p:cNvPicPr/>
          <p:nvPr/>
        </p:nvPicPr>
        <p:blipFill>
          <a:blip r:embed="rId1"/>
          <a:stretch/>
        </p:blipFill>
        <p:spPr>
          <a:xfrm>
            <a:off x="0" y="0"/>
            <a:ext cx="9690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салют"/>
          <p:cNvPicPr/>
          <p:nvPr/>
        </p:nvPicPr>
        <p:blipFill>
          <a:blip r:embed="rId1"/>
          <a:stretch/>
        </p:blipFill>
        <p:spPr>
          <a:xfrm>
            <a:off x="0" y="22320"/>
            <a:ext cx="9685440" cy="6835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324000" y="530064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24000" y="5013360"/>
            <a:ext cx="91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 Black"/>
              </a:rPr>
              <a:t>9 мая   19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день победы.wma" descr=""/>
          <p:cNvPicPr/>
          <p:nvPr/>
        </p:nvPicPr>
        <p:blipFill>
          <a:blip r:embed="rId2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376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олда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0" name="Обрезанные журавли_0003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690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800px-Moscow_-_Tomb_of_the_Unknown_Soldier_-_Eternal_flame"/>
          <p:cNvPicPr/>
          <p:nvPr/>
        </p:nvPicPr>
        <p:blipFill>
          <a:blip r:embed="rId1"/>
          <a:stretch/>
        </p:blipFill>
        <p:spPr>
          <a:xfrm>
            <a:off x="-541440" y="-100080"/>
            <a:ext cx="10512360" cy="7002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-324000" y="6381720"/>
            <a:ext cx="10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 твое неизвестно, подвиг твой бессмер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резанные журавли.wma" descr=""/>
          <p:cNvPicPr/>
          <p:nvPr/>
        </p:nvPicPr>
        <p:blipFill>
          <a:blip r:embed="rId2"/>
          <a:stretch/>
        </p:blipFill>
        <p:spPr>
          <a:xfrm>
            <a:off x="9468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857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risunok243_350x466"/>
          <p:cNvPicPr/>
          <p:nvPr/>
        </p:nvPicPr>
        <p:blipFill>
          <a:blip r:embed="rId2"/>
          <a:stretch/>
        </p:blipFill>
        <p:spPr>
          <a:xfrm>
            <a:off x="205092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1214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22 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июня 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1941 го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ajavl-sov-pravit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0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653468894.jpg"/>
          <p:cNvPicPr/>
          <p:nvPr/>
        </p:nvPicPr>
        <p:blipFill>
          <a:blip r:embed="rId1"/>
          <a:stretch/>
        </p:blipFill>
        <p:spPr>
          <a:xfrm>
            <a:off x="2682720" y="2610000"/>
            <a:ext cx="6577200" cy="4381200"/>
          </a:xfrm>
          <a:prstGeom prst="rect">
            <a:avLst/>
          </a:prstGeom>
          <a:ln w="0">
            <a:noFill/>
          </a:ln>
        </p:spPr>
      </p:pic>
      <p:pic>
        <p:nvPicPr>
          <p:cNvPr id="45" name="Вставай страна огромная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3" descr="050.jpg"/>
          <p:cNvPicPr/>
          <p:nvPr/>
        </p:nvPicPr>
        <p:blipFill>
          <a:blip r:embed="rId3"/>
          <a:stretch/>
        </p:blipFill>
        <p:spPr>
          <a:xfrm>
            <a:off x="-115920" y="-96840"/>
            <a:ext cx="5370480" cy="408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3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19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024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женщины1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женщины"/>
          <p:cNvPicPr/>
          <p:nvPr/>
        </p:nvPicPr>
        <p:blipFill>
          <a:blip r:embed="rId1"/>
          <a:stretch/>
        </p:blipFill>
        <p:spPr>
          <a:xfrm>
            <a:off x="34920" y="-27000"/>
            <a:ext cx="9145440" cy="686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ионеры - Геро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Зина Портнова"/>
          <p:cNvPicPr/>
          <p:nvPr/>
        </p:nvPicPr>
        <p:blipFill>
          <a:blip r:embed="rId1"/>
          <a:stretch/>
        </p:blipFill>
        <p:spPr>
          <a:xfrm>
            <a:off x="6877080" y="1413000"/>
            <a:ext cx="2068560" cy="30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Марат Казей с сестрой Ариадной"/>
          <p:cNvPicPr/>
          <p:nvPr/>
        </p:nvPicPr>
        <p:blipFill>
          <a:blip r:embed="rId2"/>
          <a:stretch/>
        </p:blipFill>
        <p:spPr>
          <a:xfrm>
            <a:off x="179280" y="1341360"/>
            <a:ext cx="3672000" cy="303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Леня голиков"/>
          <p:cNvPicPr/>
          <p:nvPr/>
        </p:nvPicPr>
        <p:blipFill>
          <a:blip r:embed="rId3"/>
          <a:stretch/>
        </p:blipFill>
        <p:spPr>
          <a:xfrm>
            <a:off x="3924360" y="4051440"/>
            <a:ext cx="2806560" cy="280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4"/>
          <p:cNvSpPr/>
          <p:nvPr/>
        </p:nvSpPr>
        <p:spPr>
          <a:xfrm>
            <a:off x="250920" y="45086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50920" y="4653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ат Казей           с се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140360" y="3141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я Г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732720" y="4797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948360" y="4653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на Порт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258920" y="-100080"/>
            <a:ext cx="6697800" cy="74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ойна дли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Black"/>
              </a:rPr>
              <a:t>4 год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Black"/>
              </a:rPr>
              <a:t>14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дней и ноче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Погибло боле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Black"/>
              </a:rPr>
              <a:t>20 000 000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челов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метроном.wma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489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18:34Z</dcterms:created>
  <dc:creator>HOME</dc:creator>
  <dc:description/>
  <dc:language>en-US</dc:language>
  <cp:lastModifiedBy>Мама</cp:lastModifiedBy>
  <dcterms:modified xsi:type="dcterms:W3CDTF">2010-08-31T17:44:39Z</dcterms:modified>
  <cp:revision>27</cp:revision>
  <dc:subject/>
  <dc:title>22  июня  1941 год</dc:title>
</cp:coreProperties>
</file>