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gif" ContentType="image/gif"/>
  <Override PartName="/ppt/media/CYWINNER.WAV" ContentType="audio/x-wav"/>
  <Override PartName="/ppt/media/image6.gif" ContentType="image/gif"/>
  <Override PartName="/ppt/media/drumroll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834-E5B8-400D-A28A-35428DE4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58E-559D-461B-B0C1-C51FA982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8E3-764E-49F5-8E7C-4DC5D02B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CA0-D306-444E-98F9-49F416E2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DAC-BA33-4C6D-A3A9-4AE5E3A1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B1B-985A-4291-8E19-8CFE15A6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9C3-9C20-4684-9C0B-60904FF8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AEB-2636-4427-9958-FCE0149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3F9-8EEB-4BEE-89B6-BC1CCCD9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47F-E9E2-4790-B400-0DEBFF6A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A1C-4131-4B13-BD21-A759C22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1E5-8A34-4D1A-B406-32AD4F0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E3A-C987-4B05-9C80-01D531C0E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3.xml"/><Relationship Id="rId7" Type="http://schemas.openxmlformats.org/officeDocument/2006/relationships/image" Target="../media/image4.jpe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audio" Target="../media/CYWINNER.WAV"/><Relationship Id="rId5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4.jpeg"/><Relationship Id="rId4" Type="http://schemas.openxmlformats.org/officeDocument/2006/relationships/slide" Target="slide44.xml"/><Relationship Id="rId5" Type="http://schemas.openxmlformats.org/officeDocument/2006/relationships/image" Target="../media/image4.jpeg"/><Relationship Id="rId6" Type="http://schemas.openxmlformats.org/officeDocument/2006/relationships/slide" Target="slide44.xml"/><Relationship Id="rId7" Type="http://schemas.openxmlformats.org/officeDocument/2006/relationships/image" Target="../media/image4.jpeg"/><Relationship Id="rId8" Type="http://schemas.openxmlformats.org/officeDocument/2006/relationships/slide" Target="slide43.xml"/><Relationship Id="rId9" Type="http://schemas.openxmlformats.org/officeDocument/2006/relationships/image" Target="../media/image4.jpeg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81000" y="1314360"/>
            <a:ext cx="903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"/>
              </a:rPr>
              <a:t>Дидак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"/>
              </a:rPr>
              <a:t>для уроков технологии с использованием 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1614600" cy="21063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745800" y="3860640"/>
            <a:ext cx="54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Автор: Сибогатулин Равиль Гаяз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учитель высшей категории по техн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МБОУ СОШ № 117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г. Снежинск, Челяб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53200" y="642780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г. Снежинск 2010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6120" y="189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"/>
              </a:rPr>
              <a:t>Муниципальное образовательное учреждение СОШ №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8. Приспособление для закрепления инстру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пис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пат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гиль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кин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3564000" y="227664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836" h="21600">
                <a:moveTo>
                  <a:pt x="52412" y="3794"/>
                </a:moveTo>
                <a:lnTo>
                  <a:pt x="66424" y="10800"/>
                </a:lnTo>
                <a:lnTo>
                  <a:pt x="5241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3564000" y="3500280"/>
            <a:ext cx="2376360" cy="43200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737" h="21600">
                <a:moveTo>
                  <a:pt x="0" y="0"/>
                </a:moveTo>
                <a:lnTo>
                  <a:pt x="118737" y="0"/>
                </a:lnTo>
                <a:lnTo>
                  <a:pt x="118737" y="21600"/>
                </a:lnTo>
                <a:lnTo>
                  <a:pt x="0" y="21600"/>
                </a:lnTo>
                <a:close/>
              </a:path>
              <a:path fill="lightenLess" w="118737" h="21600">
                <a:moveTo>
                  <a:pt x="0" y="0"/>
                </a:moveTo>
                <a:lnTo>
                  <a:pt x="118737" y="0"/>
                </a:lnTo>
                <a:lnTo>
                  <a:pt x="117337" y="1400"/>
                </a:lnTo>
                <a:lnTo>
                  <a:pt x="1400" y="1400"/>
                </a:lnTo>
                <a:close/>
              </a:path>
              <a:path fill="darken" w="118737" h="21600">
                <a:moveTo>
                  <a:pt x="118737" y="0"/>
                </a:moveTo>
                <a:lnTo>
                  <a:pt x="118737" y="21600"/>
                </a:lnTo>
                <a:lnTo>
                  <a:pt x="117337" y="20200"/>
                </a:lnTo>
                <a:lnTo>
                  <a:pt x="117337" y="1400"/>
                </a:lnTo>
                <a:close/>
              </a:path>
              <a:path fill="darkenLess" w="118737" h="21600">
                <a:moveTo>
                  <a:pt x="118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7" y="20200"/>
                </a:lnTo>
                <a:close/>
              </a:path>
              <a:path fill="lighten" w="118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37" h="21600">
                <a:moveTo>
                  <a:pt x="52362" y="3794"/>
                </a:moveTo>
                <a:lnTo>
                  <a:pt x="66375" y="10800"/>
                </a:lnTo>
                <a:lnTo>
                  <a:pt x="5236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3564000" y="414972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836" h="21600">
                <a:moveTo>
                  <a:pt x="52412" y="3794"/>
                </a:moveTo>
                <a:lnTo>
                  <a:pt x="66424" y="10800"/>
                </a:lnTo>
                <a:lnTo>
                  <a:pt x="52412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3564000" y="2852640"/>
            <a:ext cx="2376360" cy="43200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737" h="21600">
                <a:moveTo>
                  <a:pt x="0" y="0"/>
                </a:moveTo>
                <a:lnTo>
                  <a:pt x="118737" y="0"/>
                </a:lnTo>
                <a:lnTo>
                  <a:pt x="118737" y="21600"/>
                </a:lnTo>
                <a:lnTo>
                  <a:pt x="0" y="21600"/>
                </a:lnTo>
                <a:close/>
              </a:path>
              <a:path fill="lightenLess" w="118737" h="21600">
                <a:moveTo>
                  <a:pt x="0" y="0"/>
                </a:moveTo>
                <a:lnTo>
                  <a:pt x="118737" y="0"/>
                </a:lnTo>
                <a:lnTo>
                  <a:pt x="117337" y="1400"/>
                </a:lnTo>
                <a:lnTo>
                  <a:pt x="1400" y="1400"/>
                </a:lnTo>
                <a:close/>
              </a:path>
              <a:path fill="darken" w="118737" h="21600">
                <a:moveTo>
                  <a:pt x="118737" y="0"/>
                </a:moveTo>
                <a:lnTo>
                  <a:pt x="118737" y="21600"/>
                </a:lnTo>
                <a:lnTo>
                  <a:pt x="117337" y="20200"/>
                </a:lnTo>
                <a:lnTo>
                  <a:pt x="117337" y="1400"/>
                </a:lnTo>
                <a:close/>
              </a:path>
              <a:path fill="darkenLess" w="118737" h="21600">
                <a:moveTo>
                  <a:pt x="118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7" y="20200"/>
                </a:lnTo>
                <a:close/>
              </a:path>
              <a:path fill="lighten" w="118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37" h="21600">
                <a:moveTo>
                  <a:pt x="52362" y="3794"/>
                </a:moveTo>
                <a:lnTo>
                  <a:pt x="66375" y="10800"/>
                </a:lnTo>
                <a:lnTo>
                  <a:pt x="5236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9. Один из пороков древес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лабирин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червоточин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сердцев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кож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4067280" y="2276640"/>
            <a:ext cx="2233440" cy="431640"/>
          </a:xfrm>
          <a:custGeom>
            <a:avLst/>
            <a:gdLst>
              <a:gd name="textAreaLeft" fmla="*/ 27720 w 2233440"/>
              <a:gd name="textAreaRight" fmla="*/ 2205720 w 22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90" h="21600">
                <a:moveTo>
                  <a:pt x="0" y="0"/>
                </a:moveTo>
                <a:lnTo>
                  <a:pt x="111690" y="0"/>
                </a:lnTo>
                <a:lnTo>
                  <a:pt x="111690" y="21600"/>
                </a:lnTo>
                <a:lnTo>
                  <a:pt x="0" y="21600"/>
                </a:lnTo>
                <a:close/>
              </a:path>
              <a:path fill="lightenLess" w="111690" h="21600">
                <a:moveTo>
                  <a:pt x="0" y="0"/>
                </a:moveTo>
                <a:lnTo>
                  <a:pt x="111690" y="0"/>
                </a:lnTo>
                <a:lnTo>
                  <a:pt x="110290" y="1400"/>
                </a:lnTo>
                <a:lnTo>
                  <a:pt x="1400" y="1400"/>
                </a:lnTo>
                <a:close/>
              </a:path>
              <a:path fill="darken" w="111690" h="21600">
                <a:moveTo>
                  <a:pt x="111690" y="0"/>
                </a:moveTo>
                <a:lnTo>
                  <a:pt x="111690" y="21600"/>
                </a:lnTo>
                <a:lnTo>
                  <a:pt x="110290" y="20200"/>
                </a:lnTo>
                <a:lnTo>
                  <a:pt x="110290" y="1400"/>
                </a:lnTo>
                <a:close/>
              </a:path>
              <a:path fill="darkenLess" w="111690" h="21600">
                <a:moveTo>
                  <a:pt x="11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90" y="20200"/>
                </a:lnTo>
                <a:close/>
              </a:path>
              <a:path fill="lighten" w="11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90" h="21600">
                <a:moveTo>
                  <a:pt x="48839" y="3794"/>
                </a:moveTo>
                <a:lnTo>
                  <a:pt x="62851" y="10800"/>
                </a:lnTo>
                <a:lnTo>
                  <a:pt x="48839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067280" y="3500280"/>
            <a:ext cx="2233440" cy="432000"/>
          </a:xfrm>
          <a:custGeom>
            <a:avLst/>
            <a:gdLst>
              <a:gd name="textAreaLeft" fmla="*/ 27720 w 2233440"/>
              <a:gd name="textAreaRight" fmla="*/ 2205720 w 22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97" h="21600">
                <a:moveTo>
                  <a:pt x="0" y="0"/>
                </a:moveTo>
                <a:lnTo>
                  <a:pt x="111597" y="0"/>
                </a:lnTo>
                <a:lnTo>
                  <a:pt x="111597" y="21600"/>
                </a:lnTo>
                <a:lnTo>
                  <a:pt x="0" y="21600"/>
                </a:lnTo>
                <a:close/>
              </a:path>
              <a:path fill="lightenLess" w="111597" h="21600">
                <a:moveTo>
                  <a:pt x="0" y="0"/>
                </a:moveTo>
                <a:lnTo>
                  <a:pt x="111597" y="0"/>
                </a:lnTo>
                <a:lnTo>
                  <a:pt x="110197" y="1400"/>
                </a:lnTo>
                <a:lnTo>
                  <a:pt x="1400" y="1400"/>
                </a:lnTo>
                <a:close/>
              </a:path>
              <a:path fill="darken" w="111597" h="21600">
                <a:moveTo>
                  <a:pt x="111597" y="0"/>
                </a:moveTo>
                <a:lnTo>
                  <a:pt x="111597" y="21600"/>
                </a:lnTo>
                <a:lnTo>
                  <a:pt x="110197" y="20200"/>
                </a:lnTo>
                <a:lnTo>
                  <a:pt x="110197" y="1400"/>
                </a:lnTo>
                <a:close/>
              </a:path>
              <a:path fill="darkenLess" w="111597" h="21600">
                <a:moveTo>
                  <a:pt x="111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97" y="20200"/>
                </a:lnTo>
                <a:close/>
              </a:path>
              <a:path fill="lighten" w="111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97" h="21600">
                <a:moveTo>
                  <a:pt x="48792" y="3794"/>
                </a:moveTo>
                <a:lnTo>
                  <a:pt x="62805" y="10800"/>
                </a:lnTo>
                <a:lnTo>
                  <a:pt x="4879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6" action="ppaction://hlinksldjump"/>
          </p:cNvPr>
          <p:cNvSpPr/>
          <p:nvPr/>
        </p:nvSpPr>
        <p:spPr>
          <a:xfrm>
            <a:off x="4067280" y="4149720"/>
            <a:ext cx="2233440" cy="431640"/>
          </a:xfrm>
          <a:custGeom>
            <a:avLst/>
            <a:gdLst>
              <a:gd name="textAreaLeft" fmla="*/ 27720 w 2233440"/>
              <a:gd name="textAreaRight" fmla="*/ 2205720 w 22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90" h="21600">
                <a:moveTo>
                  <a:pt x="0" y="0"/>
                </a:moveTo>
                <a:lnTo>
                  <a:pt x="111690" y="0"/>
                </a:lnTo>
                <a:lnTo>
                  <a:pt x="111690" y="21600"/>
                </a:lnTo>
                <a:lnTo>
                  <a:pt x="0" y="21600"/>
                </a:lnTo>
                <a:close/>
              </a:path>
              <a:path fill="lightenLess" w="111690" h="21600">
                <a:moveTo>
                  <a:pt x="0" y="0"/>
                </a:moveTo>
                <a:lnTo>
                  <a:pt x="111690" y="0"/>
                </a:lnTo>
                <a:lnTo>
                  <a:pt x="110290" y="1400"/>
                </a:lnTo>
                <a:lnTo>
                  <a:pt x="1400" y="1400"/>
                </a:lnTo>
                <a:close/>
              </a:path>
              <a:path fill="darken" w="111690" h="21600">
                <a:moveTo>
                  <a:pt x="111690" y="0"/>
                </a:moveTo>
                <a:lnTo>
                  <a:pt x="111690" y="21600"/>
                </a:lnTo>
                <a:lnTo>
                  <a:pt x="110290" y="20200"/>
                </a:lnTo>
                <a:lnTo>
                  <a:pt x="110290" y="1400"/>
                </a:lnTo>
                <a:close/>
              </a:path>
              <a:path fill="darkenLess" w="111690" h="21600">
                <a:moveTo>
                  <a:pt x="11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90" y="20200"/>
                </a:lnTo>
                <a:close/>
              </a:path>
              <a:path fill="lighten" w="11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90" h="21600">
                <a:moveTo>
                  <a:pt x="48839" y="3794"/>
                </a:moveTo>
                <a:lnTo>
                  <a:pt x="62851" y="10800"/>
                </a:lnTo>
                <a:lnTo>
                  <a:pt x="48839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8" action="ppaction://hlinksldjump"/>
          </p:cNvPr>
          <p:cNvSpPr/>
          <p:nvPr/>
        </p:nvSpPr>
        <p:spPr>
          <a:xfrm>
            <a:off x="4067280" y="2852640"/>
            <a:ext cx="2233440" cy="432000"/>
          </a:xfrm>
          <a:custGeom>
            <a:avLst/>
            <a:gdLst>
              <a:gd name="textAreaLeft" fmla="*/ 27720 w 2233440"/>
              <a:gd name="textAreaRight" fmla="*/ 2205720 w 22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97" h="21600">
                <a:moveTo>
                  <a:pt x="0" y="0"/>
                </a:moveTo>
                <a:lnTo>
                  <a:pt x="111597" y="0"/>
                </a:lnTo>
                <a:lnTo>
                  <a:pt x="111597" y="21600"/>
                </a:lnTo>
                <a:lnTo>
                  <a:pt x="0" y="21600"/>
                </a:lnTo>
                <a:close/>
              </a:path>
              <a:path fill="lightenLess" w="111597" h="21600">
                <a:moveTo>
                  <a:pt x="0" y="0"/>
                </a:moveTo>
                <a:lnTo>
                  <a:pt x="111597" y="0"/>
                </a:lnTo>
                <a:lnTo>
                  <a:pt x="110197" y="1400"/>
                </a:lnTo>
                <a:lnTo>
                  <a:pt x="1400" y="1400"/>
                </a:lnTo>
                <a:close/>
              </a:path>
              <a:path fill="darken" w="111597" h="21600">
                <a:moveTo>
                  <a:pt x="111597" y="0"/>
                </a:moveTo>
                <a:lnTo>
                  <a:pt x="111597" y="21600"/>
                </a:lnTo>
                <a:lnTo>
                  <a:pt x="110197" y="20200"/>
                </a:lnTo>
                <a:lnTo>
                  <a:pt x="110197" y="1400"/>
                </a:lnTo>
                <a:close/>
              </a:path>
              <a:path fill="darkenLess" w="111597" h="21600">
                <a:moveTo>
                  <a:pt x="111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97" y="20200"/>
                </a:lnTo>
                <a:close/>
              </a:path>
              <a:path fill="lighten" w="111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97" h="21600">
                <a:moveTo>
                  <a:pt x="48792" y="3794"/>
                </a:moveTo>
                <a:lnTo>
                  <a:pt x="62805" y="10800"/>
                </a:lnTo>
                <a:lnTo>
                  <a:pt x="4879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0. Инструмент для выдалбливания неглубоких гнёзд и отверс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772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зуби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стаме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руб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гал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3492360" y="2421000"/>
            <a:ext cx="2519640" cy="43164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00" h="21600">
                <a:moveTo>
                  <a:pt x="0" y="0"/>
                </a:moveTo>
                <a:lnTo>
                  <a:pt x="126000" y="0"/>
                </a:lnTo>
                <a:lnTo>
                  <a:pt x="126000" y="21600"/>
                </a:lnTo>
                <a:lnTo>
                  <a:pt x="0" y="21600"/>
                </a:lnTo>
                <a:close/>
              </a:path>
              <a:path fill="lightenLess" w="126000" h="21600">
                <a:moveTo>
                  <a:pt x="0" y="0"/>
                </a:moveTo>
                <a:lnTo>
                  <a:pt x="126000" y="0"/>
                </a:lnTo>
                <a:lnTo>
                  <a:pt x="124600" y="1400"/>
                </a:lnTo>
                <a:lnTo>
                  <a:pt x="1400" y="1400"/>
                </a:lnTo>
                <a:close/>
              </a:path>
              <a:path fill="darken" w="126000" h="21600">
                <a:moveTo>
                  <a:pt x="126000" y="0"/>
                </a:moveTo>
                <a:lnTo>
                  <a:pt x="126000" y="21600"/>
                </a:lnTo>
                <a:lnTo>
                  <a:pt x="124600" y="20200"/>
                </a:lnTo>
                <a:lnTo>
                  <a:pt x="124600" y="1400"/>
                </a:lnTo>
                <a:close/>
              </a:path>
              <a:path fill="darkenLess" w="126000" h="21600">
                <a:moveTo>
                  <a:pt x="1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00" y="20200"/>
                </a:lnTo>
                <a:close/>
              </a:path>
              <a:path fill="lighten" w="1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00" h="21600">
                <a:moveTo>
                  <a:pt x="55994" y="3794"/>
                </a:moveTo>
                <a:lnTo>
                  <a:pt x="70006" y="10800"/>
                </a:lnTo>
                <a:lnTo>
                  <a:pt x="559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3492360" y="3571920"/>
            <a:ext cx="2519640" cy="43164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00" h="21600">
                <a:moveTo>
                  <a:pt x="0" y="0"/>
                </a:moveTo>
                <a:lnTo>
                  <a:pt x="126000" y="0"/>
                </a:lnTo>
                <a:lnTo>
                  <a:pt x="126000" y="21600"/>
                </a:lnTo>
                <a:lnTo>
                  <a:pt x="0" y="21600"/>
                </a:lnTo>
                <a:close/>
              </a:path>
              <a:path fill="lightenLess" w="126000" h="21600">
                <a:moveTo>
                  <a:pt x="0" y="0"/>
                </a:moveTo>
                <a:lnTo>
                  <a:pt x="126000" y="0"/>
                </a:lnTo>
                <a:lnTo>
                  <a:pt x="124600" y="1400"/>
                </a:lnTo>
                <a:lnTo>
                  <a:pt x="1400" y="1400"/>
                </a:lnTo>
                <a:close/>
              </a:path>
              <a:path fill="darken" w="126000" h="21600">
                <a:moveTo>
                  <a:pt x="126000" y="0"/>
                </a:moveTo>
                <a:lnTo>
                  <a:pt x="126000" y="21600"/>
                </a:lnTo>
                <a:lnTo>
                  <a:pt x="124600" y="20200"/>
                </a:lnTo>
                <a:lnTo>
                  <a:pt x="124600" y="1400"/>
                </a:lnTo>
                <a:close/>
              </a:path>
              <a:path fill="darkenLess" w="126000" h="21600">
                <a:moveTo>
                  <a:pt x="1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00" y="20200"/>
                </a:lnTo>
                <a:close/>
              </a:path>
              <a:path fill="lighten" w="1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00" h="21600">
                <a:moveTo>
                  <a:pt x="55994" y="3794"/>
                </a:moveTo>
                <a:lnTo>
                  <a:pt x="70006" y="10800"/>
                </a:lnTo>
                <a:lnTo>
                  <a:pt x="559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6" action="ppaction://hlinksldjump"/>
          </p:cNvPr>
          <p:cNvSpPr/>
          <p:nvPr/>
        </p:nvSpPr>
        <p:spPr>
          <a:xfrm>
            <a:off x="3492360" y="4221000"/>
            <a:ext cx="2519640" cy="43200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5895" h="21600">
                <a:moveTo>
                  <a:pt x="0" y="0"/>
                </a:moveTo>
                <a:lnTo>
                  <a:pt x="125895" y="0"/>
                </a:lnTo>
                <a:lnTo>
                  <a:pt x="125895" y="21600"/>
                </a:lnTo>
                <a:lnTo>
                  <a:pt x="0" y="21600"/>
                </a:lnTo>
                <a:close/>
              </a:path>
              <a:path fill="lightenLess" w="125895" h="21600">
                <a:moveTo>
                  <a:pt x="0" y="0"/>
                </a:moveTo>
                <a:lnTo>
                  <a:pt x="125895" y="0"/>
                </a:lnTo>
                <a:lnTo>
                  <a:pt x="124495" y="1400"/>
                </a:lnTo>
                <a:lnTo>
                  <a:pt x="1400" y="1400"/>
                </a:lnTo>
                <a:close/>
              </a:path>
              <a:path fill="darken" w="125895" h="21600">
                <a:moveTo>
                  <a:pt x="125895" y="0"/>
                </a:moveTo>
                <a:lnTo>
                  <a:pt x="125895" y="21600"/>
                </a:lnTo>
                <a:lnTo>
                  <a:pt x="124495" y="20200"/>
                </a:lnTo>
                <a:lnTo>
                  <a:pt x="124495" y="1400"/>
                </a:lnTo>
                <a:close/>
              </a:path>
              <a:path fill="darkenLess" w="125895" h="21600">
                <a:moveTo>
                  <a:pt x="125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495" y="20200"/>
                </a:lnTo>
                <a:close/>
              </a:path>
              <a:path fill="lighten" w="125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895" h="21600">
                <a:moveTo>
                  <a:pt x="55941" y="3794"/>
                </a:moveTo>
                <a:lnTo>
                  <a:pt x="69954" y="10800"/>
                </a:lnTo>
                <a:lnTo>
                  <a:pt x="55941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8" action="ppaction://hlinksldjump"/>
          </p:cNvPr>
          <p:cNvSpPr/>
          <p:nvPr/>
        </p:nvSpPr>
        <p:spPr>
          <a:xfrm>
            <a:off x="3492360" y="2997360"/>
            <a:ext cx="2519640" cy="43164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00" h="21600">
                <a:moveTo>
                  <a:pt x="0" y="0"/>
                </a:moveTo>
                <a:lnTo>
                  <a:pt x="126000" y="0"/>
                </a:lnTo>
                <a:lnTo>
                  <a:pt x="126000" y="21600"/>
                </a:lnTo>
                <a:lnTo>
                  <a:pt x="0" y="21600"/>
                </a:lnTo>
                <a:close/>
              </a:path>
              <a:path fill="lightenLess" w="126000" h="21600">
                <a:moveTo>
                  <a:pt x="0" y="0"/>
                </a:moveTo>
                <a:lnTo>
                  <a:pt x="126000" y="0"/>
                </a:lnTo>
                <a:lnTo>
                  <a:pt x="124600" y="1400"/>
                </a:lnTo>
                <a:lnTo>
                  <a:pt x="1400" y="1400"/>
                </a:lnTo>
                <a:close/>
              </a:path>
              <a:path fill="darken" w="126000" h="21600">
                <a:moveTo>
                  <a:pt x="126000" y="0"/>
                </a:moveTo>
                <a:lnTo>
                  <a:pt x="126000" y="21600"/>
                </a:lnTo>
                <a:lnTo>
                  <a:pt x="124600" y="20200"/>
                </a:lnTo>
                <a:lnTo>
                  <a:pt x="124600" y="1400"/>
                </a:lnTo>
                <a:close/>
              </a:path>
              <a:path fill="darkenLess" w="126000" h="21600">
                <a:moveTo>
                  <a:pt x="1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00" y="20200"/>
                </a:lnTo>
                <a:close/>
              </a:path>
              <a:path fill="lighten" w="1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00" h="21600">
                <a:moveTo>
                  <a:pt x="55994" y="3794"/>
                </a:moveTo>
                <a:lnTo>
                  <a:pt x="70006" y="10800"/>
                </a:lnTo>
                <a:lnTo>
                  <a:pt x="559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1. Режущий инструмент для обработки отверстий после свер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вене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зенк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зенцзубел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хо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3780000" y="278136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3780000" y="400536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6" action="ppaction://hlinksldjump"/>
          </p:cNvPr>
          <p:cNvSpPr/>
          <p:nvPr/>
        </p:nvSpPr>
        <p:spPr>
          <a:xfrm>
            <a:off x="3780000" y="342900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8" action="ppaction://hlinksldjump"/>
          </p:cNvPr>
          <p:cNvSpPr/>
          <p:nvPr/>
        </p:nvSpPr>
        <p:spPr>
          <a:xfrm>
            <a:off x="3780000" y="465300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2. Инструмент для нарезания внутренней резь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л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пл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метч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ре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3419640" y="2205000"/>
            <a:ext cx="2160360" cy="43200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7946" h="21600">
                <a:moveTo>
                  <a:pt x="0" y="0"/>
                </a:moveTo>
                <a:lnTo>
                  <a:pt x="107946" y="0"/>
                </a:lnTo>
                <a:lnTo>
                  <a:pt x="107946" y="21600"/>
                </a:lnTo>
                <a:lnTo>
                  <a:pt x="0" y="21600"/>
                </a:lnTo>
                <a:close/>
              </a:path>
              <a:path fill="lightenLess" w="107946" h="21600">
                <a:moveTo>
                  <a:pt x="0" y="0"/>
                </a:moveTo>
                <a:lnTo>
                  <a:pt x="107946" y="0"/>
                </a:lnTo>
                <a:lnTo>
                  <a:pt x="106546" y="1400"/>
                </a:lnTo>
                <a:lnTo>
                  <a:pt x="1400" y="1400"/>
                </a:lnTo>
                <a:close/>
              </a:path>
              <a:path fill="darken" w="107946" h="21600">
                <a:moveTo>
                  <a:pt x="107946" y="0"/>
                </a:moveTo>
                <a:lnTo>
                  <a:pt x="107946" y="21600"/>
                </a:lnTo>
                <a:lnTo>
                  <a:pt x="106546" y="20200"/>
                </a:lnTo>
                <a:lnTo>
                  <a:pt x="106546" y="1400"/>
                </a:lnTo>
                <a:close/>
              </a:path>
              <a:path fill="darkenLess" w="107946" h="21600">
                <a:moveTo>
                  <a:pt x="107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46" y="20200"/>
                </a:lnTo>
                <a:close/>
              </a:path>
              <a:path fill="lighten" w="107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46" h="21600">
                <a:moveTo>
                  <a:pt x="46967" y="3794"/>
                </a:moveTo>
                <a:lnTo>
                  <a:pt x="60980" y="10800"/>
                </a:lnTo>
                <a:lnTo>
                  <a:pt x="46967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3419640" y="2852640"/>
            <a:ext cx="2160360" cy="43200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7946" h="21600">
                <a:moveTo>
                  <a:pt x="0" y="0"/>
                </a:moveTo>
                <a:lnTo>
                  <a:pt x="107946" y="0"/>
                </a:lnTo>
                <a:lnTo>
                  <a:pt x="107946" y="21600"/>
                </a:lnTo>
                <a:lnTo>
                  <a:pt x="0" y="21600"/>
                </a:lnTo>
                <a:close/>
              </a:path>
              <a:path fill="lightenLess" w="107946" h="21600">
                <a:moveTo>
                  <a:pt x="0" y="0"/>
                </a:moveTo>
                <a:lnTo>
                  <a:pt x="107946" y="0"/>
                </a:lnTo>
                <a:lnTo>
                  <a:pt x="106546" y="1400"/>
                </a:lnTo>
                <a:lnTo>
                  <a:pt x="1400" y="1400"/>
                </a:lnTo>
                <a:close/>
              </a:path>
              <a:path fill="darken" w="107946" h="21600">
                <a:moveTo>
                  <a:pt x="107946" y="0"/>
                </a:moveTo>
                <a:lnTo>
                  <a:pt x="107946" y="21600"/>
                </a:lnTo>
                <a:lnTo>
                  <a:pt x="106546" y="20200"/>
                </a:lnTo>
                <a:lnTo>
                  <a:pt x="106546" y="1400"/>
                </a:lnTo>
                <a:close/>
              </a:path>
              <a:path fill="darkenLess" w="107946" h="21600">
                <a:moveTo>
                  <a:pt x="107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46" y="20200"/>
                </a:lnTo>
                <a:close/>
              </a:path>
              <a:path fill="lighten" w="107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46" h="21600">
                <a:moveTo>
                  <a:pt x="46967" y="3794"/>
                </a:moveTo>
                <a:lnTo>
                  <a:pt x="60980" y="10800"/>
                </a:lnTo>
                <a:lnTo>
                  <a:pt x="46967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6" action="ppaction://hlinksldjump"/>
          </p:cNvPr>
          <p:cNvSpPr/>
          <p:nvPr/>
        </p:nvSpPr>
        <p:spPr>
          <a:xfrm>
            <a:off x="3419640" y="4078440"/>
            <a:ext cx="2160360" cy="43164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8036" h="21600">
                <a:moveTo>
                  <a:pt x="0" y="0"/>
                </a:moveTo>
                <a:lnTo>
                  <a:pt x="108036" y="0"/>
                </a:lnTo>
                <a:lnTo>
                  <a:pt x="108036" y="21600"/>
                </a:lnTo>
                <a:lnTo>
                  <a:pt x="0" y="21600"/>
                </a:lnTo>
                <a:close/>
              </a:path>
              <a:path fill="lightenLess" w="108036" h="21600">
                <a:moveTo>
                  <a:pt x="0" y="0"/>
                </a:moveTo>
                <a:lnTo>
                  <a:pt x="108036" y="0"/>
                </a:lnTo>
                <a:lnTo>
                  <a:pt x="106636" y="1400"/>
                </a:lnTo>
                <a:lnTo>
                  <a:pt x="1400" y="1400"/>
                </a:lnTo>
                <a:close/>
              </a:path>
              <a:path fill="darken" w="108036" h="21600">
                <a:moveTo>
                  <a:pt x="108036" y="0"/>
                </a:moveTo>
                <a:lnTo>
                  <a:pt x="108036" y="21600"/>
                </a:lnTo>
                <a:lnTo>
                  <a:pt x="106636" y="20200"/>
                </a:lnTo>
                <a:lnTo>
                  <a:pt x="106636" y="1400"/>
                </a:lnTo>
                <a:close/>
              </a:path>
              <a:path fill="darkenLess" w="108036" h="21600">
                <a:moveTo>
                  <a:pt x="108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36" y="20200"/>
                </a:lnTo>
                <a:close/>
              </a:path>
              <a:path fill="lighten" w="108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36" h="21600">
                <a:moveTo>
                  <a:pt x="47012" y="3794"/>
                </a:moveTo>
                <a:lnTo>
                  <a:pt x="61024" y="10800"/>
                </a:lnTo>
                <a:lnTo>
                  <a:pt x="47012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8" action="ppaction://hlinksldjump"/>
          </p:cNvPr>
          <p:cNvSpPr/>
          <p:nvPr/>
        </p:nvSpPr>
        <p:spPr>
          <a:xfrm>
            <a:off x="3419640" y="3429000"/>
            <a:ext cx="2160360" cy="43164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8036" h="21600">
                <a:moveTo>
                  <a:pt x="0" y="0"/>
                </a:moveTo>
                <a:lnTo>
                  <a:pt x="108036" y="0"/>
                </a:lnTo>
                <a:lnTo>
                  <a:pt x="108036" y="21600"/>
                </a:lnTo>
                <a:lnTo>
                  <a:pt x="0" y="21600"/>
                </a:lnTo>
                <a:close/>
              </a:path>
              <a:path fill="lightenLess" w="108036" h="21600">
                <a:moveTo>
                  <a:pt x="0" y="0"/>
                </a:moveTo>
                <a:lnTo>
                  <a:pt x="108036" y="0"/>
                </a:lnTo>
                <a:lnTo>
                  <a:pt x="106636" y="1400"/>
                </a:lnTo>
                <a:lnTo>
                  <a:pt x="1400" y="1400"/>
                </a:lnTo>
                <a:close/>
              </a:path>
              <a:path fill="darken" w="108036" h="21600">
                <a:moveTo>
                  <a:pt x="108036" y="0"/>
                </a:moveTo>
                <a:lnTo>
                  <a:pt x="108036" y="21600"/>
                </a:lnTo>
                <a:lnTo>
                  <a:pt x="106636" y="20200"/>
                </a:lnTo>
                <a:lnTo>
                  <a:pt x="106636" y="1400"/>
                </a:lnTo>
                <a:close/>
              </a:path>
              <a:path fill="darkenLess" w="108036" h="21600">
                <a:moveTo>
                  <a:pt x="108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36" y="20200"/>
                </a:lnTo>
                <a:close/>
              </a:path>
              <a:path fill="lighten" w="108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36" h="21600">
                <a:moveTo>
                  <a:pt x="47012" y="3794"/>
                </a:moveTo>
                <a:lnTo>
                  <a:pt x="61024" y="10800"/>
                </a:lnTo>
                <a:lnTo>
                  <a:pt x="4701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3. Полукруглая стамеска для точения древеси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майз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рей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рок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арк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2987640" y="2421000"/>
            <a:ext cx="2521080" cy="431640"/>
          </a:xfrm>
          <a:custGeom>
            <a:avLst/>
            <a:gdLst>
              <a:gd name="textAreaLeft" fmla="*/ 27720 w 2521080"/>
              <a:gd name="textAreaRight" fmla="*/ 2493360 w 252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72" h="21600">
                <a:moveTo>
                  <a:pt x="0" y="0"/>
                </a:moveTo>
                <a:lnTo>
                  <a:pt x="126072" y="0"/>
                </a:lnTo>
                <a:lnTo>
                  <a:pt x="126072" y="21600"/>
                </a:lnTo>
                <a:lnTo>
                  <a:pt x="0" y="21600"/>
                </a:lnTo>
                <a:close/>
              </a:path>
              <a:path fill="lightenLess" w="126072" h="21600">
                <a:moveTo>
                  <a:pt x="0" y="0"/>
                </a:moveTo>
                <a:lnTo>
                  <a:pt x="126072" y="0"/>
                </a:lnTo>
                <a:lnTo>
                  <a:pt x="124672" y="1400"/>
                </a:lnTo>
                <a:lnTo>
                  <a:pt x="1400" y="1400"/>
                </a:lnTo>
                <a:close/>
              </a:path>
              <a:path fill="darken" w="126072" h="21600">
                <a:moveTo>
                  <a:pt x="126072" y="0"/>
                </a:moveTo>
                <a:lnTo>
                  <a:pt x="126072" y="21600"/>
                </a:lnTo>
                <a:lnTo>
                  <a:pt x="124672" y="20200"/>
                </a:lnTo>
                <a:lnTo>
                  <a:pt x="124672" y="1400"/>
                </a:lnTo>
                <a:close/>
              </a:path>
              <a:path fill="darkenLess" w="126072" h="21600">
                <a:moveTo>
                  <a:pt x="1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72" y="20200"/>
                </a:lnTo>
                <a:close/>
              </a:path>
              <a:path fill="lighten" w="1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72" h="21600">
                <a:moveTo>
                  <a:pt x="56030" y="3794"/>
                </a:moveTo>
                <a:lnTo>
                  <a:pt x="70042" y="10800"/>
                </a:lnTo>
                <a:lnTo>
                  <a:pt x="56030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2987640" y="3645000"/>
            <a:ext cx="2521080" cy="431640"/>
          </a:xfrm>
          <a:custGeom>
            <a:avLst/>
            <a:gdLst>
              <a:gd name="textAreaLeft" fmla="*/ 27720 w 2521080"/>
              <a:gd name="textAreaRight" fmla="*/ 2493360 w 252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72" h="21600">
                <a:moveTo>
                  <a:pt x="0" y="0"/>
                </a:moveTo>
                <a:lnTo>
                  <a:pt x="126072" y="0"/>
                </a:lnTo>
                <a:lnTo>
                  <a:pt x="126072" y="21600"/>
                </a:lnTo>
                <a:lnTo>
                  <a:pt x="0" y="21600"/>
                </a:lnTo>
                <a:close/>
              </a:path>
              <a:path fill="lightenLess" w="126072" h="21600">
                <a:moveTo>
                  <a:pt x="0" y="0"/>
                </a:moveTo>
                <a:lnTo>
                  <a:pt x="126072" y="0"/>
                </a:lnTo>
                <a:lnTo>
                  <a:pt x="124672" y="1400"/>
                </a:lnTo>
                <a:lnTo>
                  <a:pt x="1400" y="1400"/>
                </a:lnTo>
                <a:close/>
              </a:path>
              <a:path fill="darken" w="126072" h="21600">
                <a:moveTo>
                  <a:pt x="126072" y="0"/>
                </a:moveTo>
                <a:lnTo>
                  <a:pt x="126072" y="21600"/>
                </a:lnTo>
                <a:lnTo>
                  <a:pt x="124672" y="20200"/>
                </a:lnTo>
                <a:lnTo>
                  <a:pt x="124672" y="1400"/>
                </a:lnTo>
                <a:close/>
              </a:path>
              <a:path fill="darkenLess" w="126072" h="21600">
                <a:moveTo>
                  <a:pt x="1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72" y="20200"/>
                </a:lnTo>
                <a:close/>
              </a:path>
              <a:path fill="lighten" w="1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72" h="21600">
                <a:moveTo>
                  <a:pt x="56030" y="3794"/>
                </a:moveTo>
                <a:lnTo>
                  <a:pt x="70042" y="10800"/>
                </a:lnTo>
                <a:lnTo>
                  <a:pt x="56030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2987640" y="4294080"/>
            <a:ext cx="2521080" cy="432000"/>
          </a:xfrm>
          <a:custGeom>
            <a:avLst/>
            <a:gdLst>
              <a:gd name="textAreaLeft" fmla="*/ 27720 w 2521080"/>
              <a:gd name="textAreaRight" fmla="*/ 2493360 w 252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5967" h="21600">
                <a:moveTo>
                  <a:pt x="0" y="0"/>
                </a:moveTo>
                <a:lnTo>
                  <a:pt x="125967" y="0"/>
                </a:lnTo>
                <a:lnTo>
                  <a:pt x="125967" y="21600"/>
                </a:lnTo>
                <a:lnTo>
                  <a:pt x="0" y="21600"/>
                </a:lnTo>
                <a:close/>
              </a:path>
              <a:path fill="lightenLess" w="125967" h="21600">
                <a:moveTo>
                  <a:pt x="0" y="0"/>
                </a:moveTo>
                <a:lnTo>
                  <a:pt x="125967" y="0"/>
                </a:lnTo>
                <a:lnTo>
                  <a:pt x="124567" y="1400"/>
                </a:lnTo>
                <a:lnTo>
                  <a:pt x="1400" y="1400"/>
                </a:lnTo>
                <a:close/>
              </a:path>
              <a:path fill="darken" w="125967" h="21600">
                <a:moveTo>
                  <a:pt x="125967" y="0"/>
                </a:moveTo>
                <a:lnTo>
                  <a:pt x="125967" y="21600"/>
                </a:lnTo>
                <a:lnTo>
                  <a:pt x="124567" y="20200"/>
                </a:lnTo>
                <a:lnTo>
                  <a:pt x="124567" y="1400"/>
                </a:lnTo>
                <a:close/>
              </a:path>
              <a:path fill="darkenLess" w="125967" h="21600">
                <a:moveTo>
                  <a:pt x="125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67" y="20200"/>
                </a:lnTo>
                <a:close/>
              </a:path>
              <a:path fill="lighten" w="125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67" h="21600">
                <a:moveTo>
                  <a:pt x="55977" y="3794"/>
                </a:moveTo>
                <a:lnTo>
                  <a:pt x="69990" y="10800"/>
                </a:lnTo>
                <a:lnTo>
                  <a:pt x="55977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8" action="ppaction://hlinksldjump"/>
          </p:cNvPr>
          <p:cNvSpPr/>
          <p:nvPr/>
        </p:nvSpPr>
        <p:spPr>
          <a:xfrm>
            <a:off x="2987640" y="2997360"/>
            <a:ext cx="2521080" cy="431640"/>
          </a:xfrm>
          <a:custGeom>
            <a:avLst/>
            <a:gdLst>
              <a:gd name="textAreaLeft" fmla="*/ 27720 w 2521080"/>
              <a:gd name="textAreaRight" fmla="*/ 2493360 w 252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72" h="21600">
                <a:moveTo>
                  <a:pt x="0" y="0"/>
                </a:moveTo>
                <a:lnTo>
                  <a:pt x="126072" y="0"/>
                </a:lnTo>
                <a:lnTo>
                  <a:pt x="126072" y="21600"/>
                </a:lnTo>
                <a:lnTo>
                  <a:pt x="0" y="21600"/>
                </a:lnTo>
                <a:close/>
              </a:path>
              <a:path fill="lightenLess" w="126072" h="21600">
                <a:moveTo>
                  <a:pt x="0" y="0"/>
                </a:moveTo>
                <a:lnTo>
                  <a:pt x="126072" y="0"/>
                </a:lnTo>
                <a:lnTo>
                  <a:pt x="124672" y="1400"/>
                </a:lnTo>
                <a:lnTo>
                  <a:pt x="1400" y="1400"/>
                </a:lnTo>
                <a:close/>
              </a:path>
              <a:path fill="darken" w="126072" h="21600">
                <a:moveTo>
                  <a:pt x="126072" y="0"/>
                </a:moveTo>
                <a:lnTo>
                  <a:pt x="126072" y="21600"/>
                </a:lnTo>
                <a:lnTo>
                  <a:pt x="124672" y="20200"/>
                </a:lnTo>
                <a:lnTo>
                  <a:pt x="124672" y="1400"/>
                </a:lnTo>
                <a:close/>
              </a:path>
              <a:path fill="darkenLess" w="126072" h="21600">
                <a:moveTo>
                  <a:pt x="1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72" y="20200"/>
                </a:lnTo>
                <a:close/>
              </a:path>
              <a:path fill="lighten" w="1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72" h="21600">
                <a:moveTo>
                  <a:pt x="56030" y="3794"/>
                </a:moveTo>
                <a:lnTo>
                  <a:pt x="70042" y="10800"/>
                </a:lnTo>
                <a:lnTo>
                  <a:pt x="56030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4. Инструмент для нарезания наружной резьб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фа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плашк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глашк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мон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3276720" y="2060640"/>
            <a:ext cx="2303280" cy="43164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182" h="21600">
                <a:moveTo>
                  <a:pt x="0" y="0"/>
                </a:moveTo>
                <a:lnTo>
                  <a:pt x="115182" y="0"/>
                </a:lnTo>
                <a:lnTo>
                  <a:pt x="115182" y="21600"/>
                </a:lnTo>
                <a:lnTo>
                  <a:pt x="0" y="21600"/>
                </a:lnTo>
                <a:close/>
              </a:path>
              <a:path fill="lightenLess" w="115182" h="21600">
                <a:moveTo>
                  <a:pt x="0" y="0"/>
                </a:moveTo>
                <a:lnTo>
                  <a:pt x="115182" y="0"/>
                </a:lnTo>
                <a:lnTo>
                  <a:pt x="113782" y="1400"/>
                </a:lnTo>
                <a:lnTo>
                  <a:pt x="1400" y="1400"/>
                </a:lnTo>
                <a:close/>
              </a:path>
              <a:path fill="darken" w="115182" h="21600">
                <a:moveTo>
                  <a:pt x="115182" y="0"/>
                </a:moveTo>
                <a:lnTo>
                  <a:pt x="115182" y="21600"/>
                </a:lnTo>
                <a:lnTo>
                  <a:pt x="113782" y="20200"/>
                </a:lnTo>
                <a:lnTo>
                  <a:pt x="113782" y="1400"/>
                </a:lnTo>
                <a:close/>
              </a:path>
              <a:path fill="darkenLess" w="115182" h="21600">
                <a:moveTo>
                  <a:pt x="11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82" y="20200"/>
                </a:lnTo>
                <a:close/>
              </a:path>
              <a:path fill="lighten" w="11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82" h="21600">
                <a:moveTo>
                  <a:pt x="50585" y="3794"/>
                </a:moveTo>
                <a:lnTo>
                  <a:pt x="64597" y="10800"/>
                </a:lnTo>
                <a:lnTo>
                  <a:pt x="50585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276720" y="3213000"/>
            <a:ext cx="2303280" cy="43200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086" h="21600">
                <a:moveTo>
                  <a:pt x="0" y="0"/>
                </a:moveTo>
                <a:lnTo>
                  <a:pt x="115086" y="0"/>
                </a:lnTo>
                <a:lnTo>
                  <a:pt x="115086" y="21600"/>
                </a:lnTo>
                <a:lnTo>
                  <a:pt x="0" y="21600"/>
                </a:lnTo>
                <a:close/>
              </a:path>
              <a:path fill="lightenLess" w="115086" h="21600">
                <a:moveTo>
                  <a:pt x="0" y="0"/>
                </a:moveTo>
                <a:lnTo>
                  <a:pt x="115086" y="0"/>
                </a:lnTo>
                <a:lnTo>
                  <a:pt x="113686" y="1400"/>
                </a:lnTo>
                <a:lnTo>
                  <a:pt x="1400" y="1400"/>
                </a:lnTo>
                <a:close/>
              </a:path>
              <a:path fill="darken" w="115086" h="21600">
                <a:moveTo>
                  <a:pt x="115086" y="0"/>
                </a:moveTo>
                <a:lnTo>
                  <a:pt x="115086" y="21600"/>
                </a:lnTo>
                <a:lnTo>
                  <a:pt x="113686" y="20200"/>
                </a:lnTo>
                <a:lnTo>
                  <a:pt x="113686" y="1400"/>
                </a:lnTo>
                <a:close/>
              </a:path>
              <a:path fill="darkenLess" w="115086" h="21600">
                <a:moveTo>
                  <a:pt x="115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6" y="20200"/>
                </a:lnTo>
                <a:close/>
              </a:path>
              <a:path fill="lighten" w="115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086" h="21600">
                <a:moveTo>
                  <a:pt x="50537" y="3794"/>
                </a:moveTo>
                <a:lnTo>
                  <a:pt x="64550" y="10800"/>
                </a:lnTo>
                <a:lnTo>
                  <a:pt x="50537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3276720" y="3862440"/>
            <a:ext cx="2303280" cy="43164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182" h="21600">
                <a:moveTo>
                  <a:pt x="0" y="0"/>
                </a:moveTo>
                <a:lnTo>
                  <a:pt x="115182" y="0"/>
                </a:lnTo>
                <a:lnTo>
                  <a:pt x="115182" y="21600"/>
                </a:lnTo>
                <a:lnTo>
                  <a:pt x="0" y="21600"/>
                </a:lnTo>
                <a:close/>
              </a:path>
              <a:path fill="lightenLess" w="115182" h="21600">
                <a:moveTo>
                  <a:pt x="0" y="0"/>
                </a:moveTo>
                <a:lnTo>
                  <a:pt x="115182" y="0"/>
                </a:lnTo>
                <a:lnTo>
                  <a:pt x="113782" y="1400"/>
                </a:lnTo>
                <a:lnTo>
                  <a:pt x="1400" y="1400"/>
                </a:lnTo>
                <a:close/>
              </a:path>
              <a:path fill="darken" w="115182" h="21600">
                <a:moveTo>
                  <a:pt x="115182" y="0"/>
                </a:moveTo>
                <a:lnTo>
                  <a:pt x="115182" y="21600"/>
                </a:lnTo>
                <a:lnTo>
                  <a:pt x="113782" y="20200"/>
                </a:lnTo>
                <a:lnTo>
                  <a:pt x="113782" y="1400"/>
                </a:lnTo>
                <a:close/>
              </a:path>
              <a:path fill="darkenLess" w="115182" h="21600">
                <a:moveTo>
                  <a:pt x="11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82" y="20200"/>
                </a:lnTo>
                <a:close/>
              </a:path>
              <a:path fill="lighten" w="11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82" h="21600">
                <a:moveTo>
                  <a:pt x="50585" y="3794"/>
                </a:moveTo>
                <a:lnTo>
                  <a:pt x="64597" y="10800"/>
                </a:lnTo>
                <a:lnTo>
                  <a:pt x="50585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3276720" y="2637000"/>
            <a:ext cx="2303280" cy="43164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182" h="21600">
                <a:moveTo>
                  <a:pt x="0" y="0"/>
                </a:moveTo>
                <a:lnTo>
                  <a:pt x="115182" y="0"/>
                </a:lnTo>
                <a:lnTo>
                  <a:pt x="115182" y="21600"/>
                </a:lnTo>
                <a:lnTo>
                  <a:pt x="0" y="21600"/>
                </a:lnTo>
                <a:close/>
              </a:path>
              <a:path fill="lightenLess" w="115182" h="21600">
                <a:moveTo>
                  <a:pt x="0" y="0"/>
                </a:moveTo>
                <a:lnTo>
                  <a:pt x="115182" y="0"/>
                </a:lnTo>
                <a:lnTo>
                  <a:pt x="113782" y="1400"/>
                </a:lnTo>
                <a:lnTo>
                  <a:pt x="1400" y="1400"/>
                </a:lnTo>
                <a:close/>
              </a:path>
              <a:path fill="darken" w="115182" h="21600">
                <a:moveTo>
                  <a:pt x="115182" y="0"/>
                </a:moveTo>
                <a:lnTo>
                  <a:pt x="115182" y="21600"/>
                </a:lnTo>
                <a:lnTo>
                  <a:pt x="113782" y="20200"/>
                </a:lnTo>
                <a:lnTo>
                  <a:pt x="113782" y="1400"/>
                </a:lnTo>
                <a:close/>
              </a:path>
              <a:path fill="darkenLess" w="115182" h="21600">
                <a:moveTo>
                  <a:pt x="11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82" y="20200"/>
                </a:lnTo>
                <a:close/>
              </a:path>
              <a:path fill="lighten" w="11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82" h="21600">
                <a:moveTo>
                  <a:pt x="50585" y="3794"/>
                </a:moveTo>
                <a:lnTo>
                  <a:pt x="64597" y="10800"/>
                </a:lnTo>
                <a:lnTo>
                  <a:pt x="50585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5. Инструмент для ударных раб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наковаль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моло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рейсм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бо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3780000" y="227664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3780000" y="3500280"/>
            <a:ext cx="2016000" cy="43200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734" h="21600">
                <a:moveTo>
                  <a:pt x="0" y="0"/>
                </a:moveTo>
                <a:lnTo>
                  <a:pt x="100734" y="0"/>
                </a:lnTo>
                <a:lnTo>
                  <a:pt x="100734" y="21600"/>
                </a:lnTo>
                <a:lnTo>
                  <a:pt x="0" y="21600"/>
                </a:lnTo>
                <a:close/>
              </a:path>
              <a:path fill="lightenLess" w="100734" h="21600">
                <a:moveTo>
                  <a:pt x="0" y="0"/>
                </a:moveTo>
                <a:lnTo>
                  <a:pt x="100734" y="0"/>
                </a:lnTo>
                <a:lnTo>
                  <a:pt x="99334" y="1400"/>
                </a:lnTo>
                <a:lnTo>
                  <a:pt x="1400" y="1400"/>
                </a:lnTo>
                <a:close/>
              </a:path>
              <a:path fill="darken" w="100734" h="21600">
                <a:moveTo>
                  <a:pt x="100734" y="0"/>
                </a:moveTo>
                <a:lnTo>
                  <a:pt x="100734" y="21600"/>
                </a:lnTo>
                <a:lnTo>
                  <a:pt x="99334" y="20200"/>
                </a:lnTo>
                <a:lnTo>
                  <a:pt x="99334" y="1400"/>
                </a:lnTo>
                <a:close/>
              </a:path>
              <a:path fill="darkenLess" w="100734" h="21600">
                <a:moveTo>
                  <a:pt x="10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34" y="20200"/>
                </a:lnTo>
                <a:close/>
              </a:path>
              <a:path fill="lighten" w="10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734" h="21600">
                <a:moveTo>
                  <a:pt x="43361" y="3794"/>
                </a:moveTo>
                <a:lnTo>
                  <a:pt x="57374" y="10800"/>
                </a:lnTo>
                <a:lnTo>
                  <a:pt x="4336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6" action="ppaction://hlinksldjump"/>
          </p:cNvPr>
          <p:cNvSpPr/>
          <p:nvPr/>
        </p:nvSpPr>
        <p:spPr>
          <a:xfrm>
            <a:off x="3780000" y="414972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8" action="ppaction://hlinksldjump"/>
          </p:cNvPr>
          <p:cNvSpPr/>
          <p:nvPr/>
        </p:nvSpPr>
        <p:spPr>
          <a:xfrm>
            <a:off x="3780000" y="2852640"/>
            <a:ext cx="2016000" cy="43200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734" h="21600">
                <a:moveTo>
                  <a:pt x="0" y="0"/>
                </a:moveTo>
                <a:lnTo>
                  <a:pt x="100734" y="0"/>
                </a:lnTo>
                <a:lnTo>
                  <a:pt x="100734" y="21600"/>
                </a:lnTo>
                <a:lnTo>
                  <a:pt x="0" y="21600"/>
                </a:lnTo>
                <a:close/>
              </a:path>
              <a:path fill="lightenLess" w="100734" h="21600">
                <a:moveTo>
                  <a:pt x="0" y="0"/>
                </a:moveTo>
                <a:lnTo>
                  <a:pt x="100734" y="0"/>
                </a:lnTo>
                <a:lnTo>
                  <a:pt x="99334" y="1400"/>
                </a:lnTo>
                <a:lnTo>
                  <a:pt x="1400" y="1400"/>
                </a:lnTo>
                <a:close/>
              </a:path>
              <a:path fill="darken" w="100734" h="21600">
                <a:moveTo>
                  <a:pt x="100734" y="0"/>
                </a:moveTo>
                <a:lnTo>
                  <a:pt x="100734" y="21600"/>
                </a:lnTo>
                <a:lnTo>
                  <a:pt x="99334" y="20200"/>
                </a:lnTo>
                <a:lnTo>
                  <a:pt x="99334" y="1400"/>
                </a:lnTo>
                <a:close/>
              </a:path>
              <a:path fill="darkenLess" w="100734" h="21600">
                <a:moveTo>
                  <a:pt x="10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34" y="20200"/>
                </a:lnTo>
                <a:close/>
              </a:path>
              <a:path fill="lighten" w="10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734" h="21600">
                <a:moveTo>
                  <a:pt x="43361" y="3794"/>
                </a:moveTo>
                <a:lnTo>
                  <a:pt x="57374" y="10800"/>
                </a:lnTo>
                <a:lnTo>
                  <a:pt x="43361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6. Инструмент для пробивки отверстий в бетонных частях зда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772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бомб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зум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шлямбу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дыр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3419640" y="2349360"/>
            <a:ext cx="2304720" cy="43200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58" h="21600">
                <a:moveTo>
                  <a:pt x="0" y="0"/>
                </a:moveTo>
                <a:lnTo>
                  <a:pt x="115158" y="0"/>
                </a:lnTo>
                <a:lnTo>
                  <a:pt x="115158" y="21600"/>
                </a:lnTo>
                <a:lnTo>
                  <a:pt x="0" y="21600"/>
                </a:lnTo>
                <a:close/>
              </a:path>
              <a:path fill="lightenLess" w="115158" h="21600">
                <a:moveTo>
                  <a:pt x="0" y="0"/>
                </a:moveTo>
                <a:lnTo>
                  <a:pt x="115158" y="0"/>
                </a:lnTo>
                <a:lnTo>
                  <a:pt x="113758" y="1400"/>
                </a:lnTo>
                <a:lnTo>
                  <a:pt x="1400" y="1400"/>
                </a:lnTo>
                <a:close/>
              </a:path>
              <a:path fill="darken" w="115158" h="21600">
                <a:moveTo>
                  <a:pt x="115158" y="0"/>
                </a:moveTo>
                <a:lnTo>
                  <a:pt x="115158" y="21600"/>
                </a:lnTo>
                <a:lnTo>
                  <a:pt x="113758" y="20200"/>
                </a:lnTo>
                <a:lnTo>
                  <a:pt x="113758" y="1400"/>
                </a:lnTo>
                <a:close/>
              </a:path>
              <a:path fill="darkenLess" w="115158" h="21600">
                <a:moveTo>
                  <a:pt x="115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8" y="20200"/>
                </a:lnTo>
                <a:close/>
              </a:path>
              <a:path fill="lighten" w="115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58" h="21600">
                <a:moveTo>
                  <a:pt x="50573" y="3794"/>
                </a:moveTo>
                <a:lnTo>
                  <a:pt x="64585" y="10800"/>
                </a:lnTo>
                <a:lnTo>
                  <a:pt x="5057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3419640" y="2997360"/>
            <a:ext cx="2304720" cy="43164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54" h="21600">
                <a:moveTo>
                  <a:pt x="0" y="0"/>
                </a:moveTo>
                <a:lnTo>
                  <a:pt x="115254" y="0"/>
                </a:lnTo>
                <a:lnTo>
                  <a:pt x="115254" y="21600"/>
                </a:lnTo>
                <a:lnTo>
                  <a:pt x="0" y="21600"/>
                </a:lnTo>
                <a:close/>
              </a:path>
              <a:path fill="lightenLess" w="115254" h="21600">
                <a:moveTo>
                  <a:pt x="0" y="0"/>
                </a:moveTo>
                <a:lnTo>
                  <a:pt x="115254" y="0"/>
                </a:lnTo>
                <a:lnTo>
                  <a:pt x="113854" y="1400"/>
                </a:lnTo>
                <a:lnTo>
                  <a:pt x="1400" y="1400"/>
                </a:lnTo>
                <a:close/>
              </a:path>
              <a:path fill="darken" w="115254" h="21600">
                <a:moveTo>
                  <a:pt x="115254" y="0"/>
                </a:moveTo>
                <a:lnTo>
                  <a:pt x="115254" y="21600"/>
                </a:lnTo>
                <a:lnTo>
                  <a:pt x="113854" y="20200"/>
                </a:lnTo>
                <a:lnTo>
                  <a:pt x="113854" y="1400"/>
                </a:lnTo>
                <a:close/>
              </a:path>
              <a:path fill="darkenLess" w="115254" h="21600">
                <a:moveTo>
                  <a:pt x="11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54" y="20200"/>
                </a:lnTo>
                <a:close/>
              </a:path>
              <a:path fill="lighten" w="11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54" h="21600">
                <a:moveTo>
                  <a:pt x="50621" y="3794"/>
                </a:moveTo>
                <a:lnTo>
                  <a:pt x="64633" y="10800"/>
                </a:lnTo>
                <a:lnTo>
                  <a:pt x="5062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6" action="ppaction://hlinksldjump"/>
          </p:cNvPr>
          <p:cNvSpPr/>
          <p:nvPr/>
        </p:nvSpPr>
        <p:spPr>
          <a:xfrm>
            <a:off x="3419640" y="4222800"/>
            <a:ext cx="2304720" cy="43164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54" h="21600">
                <a:moveTo>
                  <a:pt x="0" y="0"/>
                </a:moveTo>
                <a:lnTo>
                  <a:pt x="115254" y="0"/>
                </a:lnTo>
                <a:lnTo>
                  <a:pt x="115254" y="21600"/>
                </a:lnTo>
                <a:lnTo>
                  <a:pt x="0" y="21600"/>
                </a:lnTo>
                <a:close/>
              </a:path>
              <a:path fill="lightenLess" w="115254" h="21600">
                <a:moveTo>
                  <a:pt x="0" y="0"/>
                </a:moveTo>
                <a:lnTo>
                  <a:pt x="115254" y="0"/>
                </a:lnTo>
                <a:lnTo>
                  <a:pt x="113854" y="1400"/>
                </a:lnTo>
                <a:lnTo>
                  <a:pt x="1400" y="1400"/>
                </a:lnTo>
                <a:close/>
              </a:path>
              <a:path fill="darken" w="115254" h="21600">
                <a:moveTo>
                  <a:pt x="115254" y="0"/>
                </a:moveTo>
                <a:lnTo>
                  <a:pt x="115254" y="21600"/>
                </a:lnTo>
                <a:lnTo>
                  <a:pt x="113854" y="20200"/>
                </a:lnTo>
                <a:lnTo>
                  <a:pt x="113854" y="1400"/>
                </a:lnTo>
                <a:close/>
              </a:path>
              <a:path fill="darkenLess" w="115254" h="21600">
                <a:moveTo>
                  <a:pt x="11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54" y="20200"/>
                </a:lnTo>
                <a:close/>
              </a:path>
              <a:path fill="lighten" w="11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54" h="21600">
                <a:moveTo>
                  <a:pt x="50621" y="3794"/>
                </a:moveTo>
                <a:lnTo>
                  <a:pt x="64633" y="10800"/>
                </a:lnTo>
                <a:lnTo>
                  <a:pt x="50621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8" action="ppaction://hlinksldjump"/>
          </p:cNvPr>
          <p:cNvSpPr/>
          <p:nvPr/>
        </p:nvSpPr>
        <p:spPr>
          <a:xfrm>
            <a:off x="3419640" y="3573360"/>
            <a:ext cx="2304720" cy="43200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58" h="21600">
                <a:moveTo>
                  <a:pt x="0" y="0"/>
                </a:moveTo>
                <a:lnTo>
                  <a:pt x="115158" y="0"/>
                </a:lnTo>
                <a:lnTo>
                  <a:pt x="115158" y="21600"/>
                </a:lnTo>
                <a:lnTo>
                  <a:pt x="0" y="21600"/>
                </a:lnTo>
                <a:close/>
              </a:path>
              <a:path fill="lightenLess" w="115158" h="21600">
                <a:moveTo>
                  <a:pt x="0" y="0"/>
                </a:moveTo>
                <a:lnTo>
                  <a:pt x="115158" y="0"/>
                </a:lnTo>
                <a:lnTo>
                  <a:pt x="113758" y="1400"/>
                </a:lnTo>
                <a:lnTo>
                  <a:pt x="1400" y="1400"/>
                </a:lnTo>
                <a:close/>
              </a:path>
              <a:path fill="darken" w="115158" h="21600">
                <a:moveTo>
                  <a:pt x="115158" y="0"/>
                </a:moveTo>
                <a:lnTo>
                  <a:pt x="115158" y="21600"/>
                </a:lnTo>
                <a:lnTo>
                  <a:pt x="113758" y="20200"/>
                </a:lnTo>
                <a:lnTo>
                  <a:pt x="113758" y="1400"/>
                </a:lnTo>
                <a:close/>
              </a:path>
              <a:path fill="darkenLess" w="115158" h="21600">
                <a:moveTo>
                  <a:pt x="115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8" y="20200"/>
                </a:lnTo>
                <a:close/>
              </a:path>
              <a:path fill="lighten" w="115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58" h="21600">
                <a:moveTo>
                  <a:pt x="50573" y="3794"/>
                </a:moveTo>
                <a:lnTo>
                  <a:pt x="64585" y="10800"/>
                </a:lnTo>
                <a:lnTo>
                  <a:pt x="50573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7. Единица длины равная 2,5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фу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дюй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ан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шиллин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3348000" y="2205000"/>
            <a:ext cx="2303640" cy="43200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04" h="21600">
                <a:moveTo>
                  <a:pt x="0" y="0"/>
                </a:moveTo>
                <a:lnTo>
                  <a:pt x="115104" y="0"/>
                </a:lnTo>
                <a:lnTo>
                  <a:pt x="115104" y="21600"/>
                </a:lnTo>
                <a:lnTo>
                  <a:pt x="0" y="21600"/>
                </a:lnTo>
                <a:close/>
              </a:path>
              <a:path fill="lightenLess" w="115104" h="21600">
                <a:moveTo>
                  <a:pt x="0" y="0"/>
                </a:moveTo>
                <a:lnTo>
                  <a:pt x="115104" y="0"/>
                </a:lnTo>
                <a:lnTo>
                  <a:pt x="113704" y="1400"/>
                </a:lnTo>
                <a:lnTo>
                  <a:pt x="1400" y="1400"/>
                </a:lnTo>
                <a:close/>
              </a:path>
              <a:path fill="darken" w="115104" h="21600">
                <a:moveTo>
                  <a:pt x="115104" y="0"/>
                </a:moveTo>
                <a:lnTo>
                  <a:pt x="115104" y="21600"/>
                </a:lnTo>
                <a:lnTo>
                  <a:pt x="113704" y="20200"/>
                </a:lnTo>
                <a:lnTo>
                  <a:pt x="113704" y="1400"/>
                </a:lnTo>
                <a:close/>
              </a:path>
              <a:path fill="darkenLess" w="115104" h="21600">
                <a:moveTo>
                  <a:pt x="11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04" y="20200"/>
                </a:lnTo>
                <a:close/>
              </a:path>
              <a:path fill="lighten" w="11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04" h="21600">
                <a:moveTo>
                  <a:pt x="50546" y="3794"/>
                </a:moveTo>
                <a:lnTo>
                  <a:pt x="64559" y="10800"/>
                </a:lnTo>
                <a:lnTo>
                  <a:pt x="5054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3348000" y="342900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6" action="ppaction://hlinksldjump"/>
          </p:cNvPr>
          <p:cNvSpPr/>
          <p:nvPr/>
        </p:nvSpPr>
        <p:spPr>
          <a:xfrm>
            <a:off x="3348000" y="407844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8" action="ppaction://hlinksldjump"/>
          </p:cNvPr>
          <p:cNvSpPr/>
          <p:nvPr/>
        </p:nvSpPr>
        <p:spPr>
          <a:xfrm>
            <a:off x="3348000" y="278136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59280" y="3500280"/>
            <a:ext cx="2519280" cy="263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52400" y="2205000"/>
            <a:ext cx="8391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Georgia"/>
              </a:rPr>
              <a:t>Игра «Кто хочет стать миллионером»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-406440" y="384120"/>
            <a:ext cx="100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"/>
              </a:rPr>
              <a:t>Дидактический материал для уроков технологии с использованием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8. Профиль сортового про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надф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рашп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швел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наг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3348000" y="1989000"/>
            <a:ext cx="2519280" cy="43200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5877" h="21600">
                <a:moveTo>
                  <a:pt x="0" y="0"/>
                </a:moveTo>
                <a:lnTo>
                  <a:pt x="125877" y="0"/>
                </a:lnTo>
                <a:lnTo>
                  <a:pt x="125877" y="21600"/>
                </a:lnTo>
                <a:lnTo>
                  <a:pt x="0" y="21600"/>
                </a:lnTo>
                <a:close/>
              </a:path>
              <a:path fill="lightenLess" w="125877" h="21600">
                <a:moveTo>
                  <a:pt x="0" y="0"/>
                </a:moveTo>
                <a:lnTo>
                  <a:pt x="125877" y="0"/>
                </a:lnTo>
                <a:lnTo>
                  <a:pt x="124477" y="1400"/>
                </a:lnTo>
                <a:lnTo>
                  <a:pt x="1400" y="1400"/>
                </a:lnTo>
                <a:close/>
              </a:path>
              <a:path fill="darken" w="125877" h="21600">
                <a:moveTo>
                  <a:pt x="125877" y="0"/>
                </a:moveTo>
                <a:lnTo>
                  <a:pt x="125877" y="21600"/>
                </a:lnTo>
                <a:lnTo>
                  <a:pt x="124477" y="20200"/>
                </a:lnTo>
                <a:lnTo>
                  <a:pt x="124477" y="1400"/>
                </a:lnTo>
                <a:close/>
              </a:path>
              <a:path fill="darkenLess" w="125877" h="21600">
                <a:moveTo>
                  <a:pt x="125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477" y="20200"/>
                </a:lnTo>
                <a:close/>
              </a:path>
              <a:path fill="lighten" w="125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877" h="21600">
                <a:moveTo>
                  <a:pt x="55932" y="3794"/>
                </a:moveTo>
                <a:lnTo>
                  <a:pt x="69945" y="10800"/>
                </a:lnTo>
                <a:lnTo>
                  <a:pt x="5593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3348000" y="263700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82" h="21600">
                <a:moveTo>
                  <a:pt x="55985" y="3794"/>
                </a:moveTo>
                <a:lnTo>
                  <a:pt x="69997" y="10800"/>
                </a:lnTo>
                <a:lnTo>
                  <a:pt x="55985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3348000" y="386244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82" h="21600">
                <a:moveTo>
                  <a:pt x="55985" y="3794"/>
                </a:moveTo>
                <a:lnTo>
                  <a:pt x="69997" y="10800"/>
                </a:lnTo>
                <a:lnTo>
                  <a:pt x="55985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8" action="ppaction://hlinksldjump"/>
          </p:cNvPr>
          <p:cNvSpPr/>
          <p:nvPr/>
        </p:nvSpPr>
        <p:spPr>
          <a:xfrm>
            <a:off x="3348000" y="3213000"/>
            <a:ext cx="2519280" cy="43200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5877" h="21600">
                <a:moveTo>
                  <a:pt x="0" y="0"/>
                </a:moveTo>
                <a:lnTo>
                  <a:pt x="125877" y="0"/>
                </a:lnTo>
                <a:lnTo>
                  <a:pt x="125877" y="21600"/>
                </a:lnTo>
                <a:lnTo>
                  <a:pt x="0" y="21600"/>
                </a:lnTo>
                <a:close/>
              </a:path>
              <a:path fill="lightenLess" w="125877" h="21600">
                <a:moveTo>
                  <a:pt x="0" y="0"/>
                </a:moveTo>
                <a:lnTo>
                  <a:pt x="125877" y="0"/>
                </a:lnTo>
                <a:lnTo>
                  <a:pt x="124477" y="1400"/>
                </a:lnTo>
                <a:lnTo>
                  <a:pt x="1400" y="1400"/>
                </a:lnTo>
                <a:close/>
              </a:path>
              <a:path fill="darken" w="125877" h="21600">
                <a:moveTo>
                  <a:pt x="125877" y="0"/>
                </a:moveTo>
                <a:lnTo>
                  <a:pt x="125877" y="21600"/>
                </a:lnTo>
                <a:lnTo>
                  <a:pt x="124477" y="20200"/>
                </a:lnTo>
                <a:lnTo>
                  <a:pt x="124477" y="1400"/>
                </a:lnTo>
                <a:close/>
              </a:path>
              <a:path fill="darkenLess" w="125877" h="21600">
                <a:moveTo>
                  <a:pt x="125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477" y="20200"/>
                </a:lnTo>
                <a:close/>
              </a:path>
              <a:path fill="lighten" w="125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877" h="21600">
                <a:moveTo>
                  <a:pt x="55932" y="3794"/>
                </a:moveTo>
                <a:lnTo>
                  <a:pt x="69945" y="10800"/>
                </a:lnTo>
                <a:lnTo>
                  <a:pt x="5593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9. Вещество, уменьшающее тре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декомпресс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ли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смет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ма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4211640" y="2205000"/>
            <a:ext cx="2305080" cy="432000"/>
          </a:xfrm>
          <a:custGeom>
            <a:avLst/>
            <a:gdLst>
              <a:gd name="textAreaLeft" fmla="*/ 27720 w 2305080"/>
              <a:gd name="textAreaRight" fmla="*/ 2277360 w 23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76" h="21600">
                <a:moveTo>
                  <a:pt x="0" y="0"/>
                </a:moveTo>
                <a:lnTo>
                  <a:pt x="115176" y="0"/>
                </a:lnTo>
                <a:lnTo>
                  <a:pt x="115176" y="21600"/>
                </a:lnTo>
                <a:lnTo>
                  <a:pt x="0" y="21600"/>
                </a:lnTo>
                <a:close/>
              </a:path>
              <a:path fill="lightenLess" w="115176" h="21600">
                <a:moveTo>
                  <a:pt x="0" y="0"/>
                </a:moveTo>
                <a:lnTo>
                  <a:pt x="115176" y="0"/>
                </a:lnTo>
                <a:lnTo>
                  <a:pt x="113776" y="1400"/>
                </a:lnTo>
                <a:lnTo>
                  <a:pt x="1400" y="1400"/>
                </a:lnTo>
                <a:close/>
              </a:path>
              <a:path fill="darken" w="115176" h="21600">
                <a:moveTo>
                  <a:pt x="115176" y="0"/>
                </a:moveTo>
                <a:lnTo>
                  <a:pt x="115176" y="21600"/>
                </a:lnTo>
                <a:lnTo>
                  <a:pt x="113776" y="20200"/>
                </a:lnTo>
                <a:lnTo>
                  <a:pt x="113776" y="1400"/>
                </a:lnTo>
                <a:close/>
              </a:path>
              <a:path fill="darkenLess" w="115176" h="21600">
                <a:moveTo>
                  <a:pt x="115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76" y="20200"/>
                </a:lnTo>
                <a:close/>
              </a:path>
              <a:path fill="lighten" w="115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76" h="21600">
                <a:moveTo>
                  <a:pt x="50582" y="3794"/>
                </a:moveTo>
                <a:lnTo>
                  <a:pt x="64594" y="10800"/>
                </a:lnTo>
                <a:lnTo>
                  <a:pt x="5058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4" action="ppaction://hlinksldjump"/>
          </p:cNvPr>
          <p:cNvSpPr/>
          <p:nvPr/>
        </p:nvSpPr>
        <p:spPr>
          <a:xfrm>
            <a:off x="4211640" y="3429000"/>
            <a:ext cx="2305080" cy="431640"/>
          </a:xfrm>
          <a:custGeom>
            <a:avLst/>
            <a:gdLst>
              <a:gd name="textAreaLeft" fmla="*/ 27720 w 2305080"/>
              <a:gd name="textAreaRight" fmla="*/ 2277360 w 23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72" h="21600">
                <a:moveTo>
                  <a:pt x="0" y="0"/>
                </a:moveTo>
                <a:lnTo>
                  <a:pt x="115272" y="0"/>
                </a:lnTo>
                <a:lnTo>
                  <a:pt x="115272" y="21600"/>
                </a:lnTo>
                <a:lnTo>
                  <a:pt x="0" y="21600"/>
                </a:lnTo>
                <a:close/>
              </a:path>
              <a:path fill="lightenLess" w="115272" h="21600">
                <a:moveTo>
                  <a:pt x="0" y="0"/>
                </a:moveTo>
                <a:lnTo>
                  <a:pt x="115272" y="0"/>
                </a:lnTo>
                <a:lnTo>
                  <a:pt x="113872" y="1400"/>
                </a:lnTo>
                <a:lnTo>
                  <a:pt x="1400" y="1400"/>
                </a:lnTo>
                <a:close/>
              </a:path>
              <a:path fill="darken" w="115272" h="21600">
                <a:moveTo>
                  <a:pt x="115272" y="0"/>
                </a:moveTo>
                <a:lnTo>
                  <a:pt x="115272" y="21600"/>
                </a:lnTo>
                <a:lnTo>
                  <a:pt x="113872" y="20200"/>
                </a:lnTo>
                <a:lnTo>
                  <a:pt x="113872" y="1400"/>
                </a:lnTo>
                <a:close/>
              </a:path>
              <a:path fill="darkenLess" w="115272" h="21600">
                <a:moveTo>
                  <a:pt x="11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72" y="20200"/>
                </a:lnTo>
                <a:close/>
              </a:path>
              <a:path fill="lighten" w="11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72" h="21600">
                <a:moveTo>
                  <a:pt x="50630" y="3794"/>
                </a:moveTo>
                <a:lnTo>
                  <a:pt x="64642" y="10800"/>
                </a:lnTo>
                <a:lnTo>
                  <a:pt x="50630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4211640" y="2852640"/>
            <a:ext cx="2305080" cy="432000"/>
          </a:xfrm>
          <a:custGeom>
            <a:avLst/>
            <a:gdLst>
              <a:gd name="textAreaLeft" fmla="*/ 27720 w 2305080"/>
              <a:gd name="textAreaRight" fmla="*/ 2277360 w 23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76" h="21600">
                <a:moveTo>
                  <a:pt x="0" y="0"/>
                </a:moveTo>
                <a:lnTo>
                  <a:pt x="115176" y="0"/>
                </a:lnTo>
                <a:lnTo>
                  <a:pt x="115176" y="21600"/>
                </a:lnTo>
                <a:lnTo>
                  <a:pt x="0" y="21600"/>
                </a:lnTo>
                <a:close/>
              </a:path>
              <a:path fill="lightenLess" w="115176" h="21600">
                <a:moveTo>
                  <a:pt x="0" y="0"/>
                </a:moveTo>
                <a:lnTo>
                  <a:pt x="115176" y="0"/>
                </a:lnTo>
                <a:lnTo>
                  <a:pt x="113776" y="1400"/>
                </a:lnTo>
                <a:lnTo>
                  <a:pt x="1400" y="1400"/>
                </a:lnTo>
                <a:close/>
              </a:path>
              <a:path fill="darken" w="115176" h="21600">
                <a:moveTo>
                  <a:pt x="115176" y="0"/>
                </a:moveTo>
                <a:lnTo>
                  <a:pt x="115176" y="21600"/>
                </a:lnTo>
                <a:lnTo>
                  <a:pt x="113776" y="20200"/>
                </a:lnTo>
                <a:lnTo>
                  <a:pt x="113776" y="1400"/>
                </a:lnTo>
                <a:close/>
              </a:path>
              <a:path fill="darkenLess" w="115176" h="21600">
                <a:moveTo>
                  <a:pt x="115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76" y="20200"/>
                </a:lnTo>
                <a:close/>
              </a:path>
              <a:path fill="lighten" w="115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76" h="21600">
                <a:moveTo>
                  <a:pt x="50582" y="3794"/>
                </a:moveTo>
                <a:lnTo>
                  <a:pt x="64594" y="10800"/>
                </a:lnTo>
                <a:lnTo>
                  <a:pt x="50582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8" action="ppaction://hlinksldjump"/>
          </p:cNvPr>
          <p:cNvSpPr/>
          <p:nvPr/>
        </p:nvSpPr>
        <p:spPr>
          <a:xfrm>
            <a:off x="4211640" y="4076640"/>
            <a:ext cx="2305080" cy="432000"/>
          </a:xfrm>
          <a:custGeom>
            <a:avLst/>
            <a:gdLst>
              <a:gd name="textAreaLeft" fmla="*/ 27720 w 2305080"/>
              <a:gd name="textAreaRight" fmla="*/ 2277360 w 23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76" h="21600">
                <a:moveTo>
                  <a:pt x="0" y="0"/>
                </a:moveTo>
                <a:lnTo>
                  <a:pt x="115176" y="0"/>
                </a:lnTo>
                <a:lnTo>
                  <a:pt x="115176" y="21600"/>
                </a:lnTo>
                <a:lnTo>
                  <a:pt x="0" y="21600"/>
                </a:lnTo>
                <a:close/>
              </a:path>
              <a:path fill="lightenLess" w="115176" h="21600">
                <a:moveTo>
                  <a:pt x="0" y="0"/>
                </a:moveTo>
                <a:lnTo>
                  <a:pt x="115176" y="0"/>
                </a:lnTo>
                <a:lnTo>
                  <a:pt x="113776" y="1400"/>
                </a:lnTo>
                <a:lnTo>
                  <a:pt x="1400" y="1400"/>
                </a:lnTo>
                <a:close/>
              </a:path>
              <a:path fill="darken" w="115176" h="21600">
                <a:moveTo>
                  <a:pt x="115176" y="0"/>
                </a:moveTo>
                <a:lnTo>
                  <a:pt x="115176" y="21600"/>
                </a:lnTo>
                <a:lnTo>
                  <a:pt x="113776" y="20200"/>
                </a:lnTo>
                <a:lnTo>
                  <a:pt x="113776" y="1400"/>
                </a:lnTo>
                <a:close/>
              </a:path>
              <a:path fill="darkenLess" w="115176" h="21600">
                <a:moveTo>
                  <a:pt x="115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76" y="20200"/>
                </a:lnTo>
                <a:close/>
              </a:path>
              <a:path fill="lighten" w="115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76" h="21600">
                <a:moveTo>
                  <a:pt x="50582" y="3794"/>
                </a:moveTo>
                <a:lnTo>
                  <a:pt x="64594" y="10800"/>
                </a:lnTo>
                <a:lnTo>
                  <a:pt x="5058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0. Устройство для регулирования напряжения электрического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реост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термоста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термо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арео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3419640" y="2708280"/>
            <a:ext cx="2665080" cy="431640"/>
          </a:xfrm>
          <a:custGeom>
            <a:avLst/>
            <a:gdLst>
              <a:gd name="textAreaLeft" fmla="*/ 27720 w 2665080"/>
              <a:gd name="textAreaRight" fmla="*/ 2637360 w 26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3272" h="21600">
                <a:moveTo>
                  <a:pt x="0" y="0"/>
                </a:moveTo>
                <a:lnTo>
                  <a:pt x="133272" y="0"/>
                </a:lnTo>
                <a:lnTo>
                  <a:pt x="133272" y="21600"/>
                </a:lnTo>
                <a:lnTo>
                  <a:pt x="0" y="21600"/>
                </a:lnTo>
                <a:close/>
              </a:path>
              <a:path fill="lightenLess" w="133272" h="21600">
                <a:moveTo>
                  <a:pt x="0" y="0"/>
                </a:moveTo>
                <a:lnTo>
                  <a:pt x="133272" y="0"/>
                </a:lnTo>
                <a:lnTo>
                  <a:pt x="131872" y="1400"/>
                </a:lnTo>
                <a:lnTo>
                  <a:pt x="1400" y="1400"/>
                </a:lnTo>
                <a:close/>
              </a:path>
              <a:path fill="darken" w="133272" h="21600">
                <a:moveTo>
                  <a:pt x="133272" y="0"/>
                </a:moveTo>
                <a:lnTo>
                  <a:pt x="133272" y="21600"/>
                </a:lnTo>
                <a:lnTo>
                  <a:pt x="131872" y="20200"/>
                </a:lnTo>
                <a:lnTo>
                  <a:pt x="131872" y="1400"/>
                </a:lnTo>
                <a:close/>
              </a:path>
              <a:path fill="darkenLess" w="133272" h="21600">
                <a:moveTo>
                  <a:pt x="13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872" y="20200"/>
                </a:lnTo>
                <a:close/>
              </a:path>
              <a:path fill="lighten" w="13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3272" h="21600">
                <a:moveTo>
                  <a:pt x="59630" y="3794"/>
                </a:moveTo>
                <a:lnTo>
                  <a:pt x="73642" y="10800"/>
                </a:lnTo>
                <a:lnTo>
                  <a:pt x="59630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3419640" y="3355920"/>
            <a:ext cx="2665080" cy="432000"/>
          </a:xfrm>
          <a:custGeom>
            <a:avLst/>
            <a:gdLst>
              <a:gd name="textAreaLeft" fmla="*/ 27720 w 2665080"/>
              <a:gd name="textAreaRight" fmla="*/ 2637360 w 26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61" h="21600">
                <a:moveTo>
                  <a:pt x="0" y="0"/>
                </a:moveTo>
                <a:lnTo>
                  <a:pt x="133161" y="0"/>
                </a:lnTo>
                <a:lnTo>
                  <a:pt x="133161" y="21600"/>
                </a:lnTo>
                <a:lnTo>
                  <a:pt x="0" y="21600"/>
                </a:lnTo>
                <a:close/>
              </a:path>
              <a:path fill="lightenLess" w="133161" h="21600">
                <a:moveTo>
                  <a:pt x="0" y="0"/>
                </a:moveTo>
                <a:lnTo>
                  <a:pt x="133161" y="0"/>
                </a:lnTo>
                <a:lnTo>
                  <a:pt x="131761" y="1400"/>
                </a:lnTo>
                <a:lnTo>
                  <a:pt x="1400" y="1400"/>
                </a:lnTo>
                <a:close/>
              </a:path>
              <a:path fill="darken" w="133161" h="21600">
                <a:moveTo>
                  <a:pt x="133161" y="0"/>
                </a:moveTo>
                <a:lnTo>
                  <a:pt x="133161" y="21600"/>
                </a:lnTo>
                <a:lnTo>
                  <a:pt x="131761" y="20200"/>
                </a:lnTo>
                <a:lnTo>
                  <a:pt x="131761" y="1400"/>
                </a:lnTo>
                <a:close/>
              </a:path>
              <a:path fill="darkenLess" w="133161" h="21600">
                <a:moveTo>
                  <a:pt x="13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61" y="20200"/>
                </a:lnTo>
                <a:close/>
              </a:path>
              <a:path fill="lighten" w="13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3161" h="21600">
                <a:moveTo>
                  <a:pt x="59574" y="3794"/>
                </a:moveTo>
                <a:lnTo>
                  <a:pt x="73587" y="10800"/>
                </a:lnTo>
                <a:lnTo>
                  <a:pt x="5957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6" action="ppaction://hlinksldjump"/>
          </p:cNvPr>
          <p:cNvSpPr/>
          <p:nvPr/>
        </p:nvSpPr>
        <p:spPr>
          <a:xfrm>
            <a:off x="3419640" y="4005360"/>
            <a:ext cx="2665080" cy="431640"/>
          </a:xfrm>
          <a:custGeom>
            <a:avLst/>
            <a:gdLst>
              <a:gd name="textAreaLeft" fmla="*/ 27720 w 2665080"/>
              <a:gd name="textAreaRight" fmla="*/ 2637360 w 26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3272" h="21600">
                <a:moveTo>
                  <a:pt x="0" y="0"/>
                </a:moveTo>
                <a:lnTo>
                  <a:pt x="133272" y="0"/>
                </a:lnTo>
                <a:lnTo>
                  <a:pt x="133272" y="21600"/>
                </a:lnTo>
                <a:lnTo>
                  <a:pt x="0" y="21600"/>
                </a:lnTo>
                <a:close/>
              </a:path>
              <a:path fill="lightenLess" w="133272" h="21600">
                <a:moveTo>
                  <a:pt x="0" y="0"/>
                </a:moveTo>
                <a:lnTo>
                  <a:pt x="133272" y="0"/>
                </a:lnTo>
                <a:lnTo>
                  <a:pt x="131872" y="1400"/>
                </a:lnTo>
                <a:lnTo>
                  <a:pt x="1400" y="1400"/>
                </a:lnTo>
                <a:close/>
              </a:path>
              <a:path fill="darken" w="133272" h="21600">
                <a:moveTo>
                  <a:pt x="133272" y="0"/>
                </a:moveTo>
                <a:lnTo>
                  <a:pt x="133272" y="21600"/>
                </a:lnTo>
                <a:lnTo>
                  <a:pt x="131872" y="20200"/>
                </a:lnTo>
                <a:lnTo>
                  <a:pt x="131872" y="1400"/>
                </a:lnTo>
                <a:close/>
              </a:path>
              <a:path fill="darkenLess" w="133272" h="21600">
                <a:moveTo>
                  <a:pt x="13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872" y="20200"/>
                </a:lnTo>
                <a:close/>
              </a:path>
              <a:path fill="lighten" w="13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3272" h="21600">
                <a:moveTo>
                  <a:pt x="59630" y="3794"/>
                </a:moveTo>
                <a:lnTo>
                  <a:pt x="73642" y="10800"/>
                </a:lnTo>
                <a:lnTo>
                  <a:pt x="59630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8" action="ppaction://hlinksldjump"/>
          </p:cNvPr>
          <p:cNvSpPr/>
          <p:nvPr/>
        </p:nvSpPr>
        <p:spPr>
          <a:xfrm>
            <a:off x="3419640" y="2133720"/>
            <a:ext cx="2665080" cy="431640"/>
          </a:xfrm>
          <a:custGeom>
            <a:avLst/>
            <a:gdLst>
              <a:gd name="textAreaLeft" fmla="*/ 27720 w 2665080"/>
              <a:gd name="textAreaRight" fmla="*/ 2637360 w 26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3272" h="21600">
                <a:moveTo>
                  <a:pt x="0" y="0"/>
                </a:moveTo>
                <a:lnTo>
                  <a:pt x="133272" y="0"/>
                </a:lnTo>
                <a:lnTo>
                  <a:pt x="133272" y="21600"/>
                </a:lnTo>
                <a:lnTo>
                  <a:pt x="0" y="21600"/>
                </a:lnTo>
                <a:close/>
              </a:path>
              <a:path fill="lightenLess" w="133272" h="21600">
                <a:moveTo>
                  <a:pt x="0" y="0"/>
                </a:moveTo>
                <a:lnTo>
                  <a:pt x="133272" y="0"/>
                </a:lnTo>
                <a:lnTo>
                  <a:pt x="131872" y="1400"/>
                </a:lnTo>
                <a:lnTo>
                  <a:pt x="1400" y="1400"/>
                </a:lnTo>
                <a:close/>
              </a:path>
              <a:path fill="darken" w="133272" h="21600">
                <a:moveTo>
                  <a:pt x="133272" y="0"/>
                </a:moveTo>
                <a:lnTo>
                  <a:pt x="133272" y="21600"/>
                </a:lnTo>
                <a:lnTo>
                  <a:pt x="131872" y="20200"/>
                </a:lnTo>
                <a:lnTo>
                  <a:pt x="131872" y="1400"/>
                </a:lnTo>
                <a:close/>
              </a:path>
              <a:path fill="darkenLess" w="133272" h="21600">
                <a:moveTo>
                  <a:pt x="13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872" y="20200"/>
                </a:lnTo>
                <a:close/>
              </a:path>
              <a:path fill="lighten" w="13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3272" h="21600">
                <a:moveTo>
                  <a:pt x="59630" y="3794"/>
                </a:moveTo>
                <a:lnTo>
                  <a:pt x="73642" y="10800"/>
                </a:lnTo>
                <a:lnTo>
                  <a:pt x="59630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1. Металл, применяемый для пай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свине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алюм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олов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3635280" y="2131920"/>
            <a:ext cx="2232000" cy="43200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25" h="21600">
                <a:moveTo>
                  <a:pt x="0" y="0"/>
                </a:moveTo>
                <a:lnTo>
                  <a:pt x="111525" y="0"/>
                </a:lnTo>
                <a:lnTo>
                  <a:pt x="111525" y="21600"/>
                </a:lnTo>
                <a:lnTo>
                  <a:pt x="0" y="21600"/>
                </a:lnTo>
                <a:close/>
              </a:path>
              <a:path fill="lightenLess" w="111525" h="21600">
                <a:moveTo>
                  <a:pt x="0" y="0"/>
                </a:moveTo>
                <a:lnTo>
                  <a:pt x="111525" y="0"/>
                </a:lnTo>
                <a:lnTo>
                  <a:pt x="110125" y="1400"/>
                </a:lnTo>
                <a:lnTo>
                  <a:pt x="1400" y="1400"/>
                </a:lnTo>
                <a:close/>
              </a:path>
              <a:path fill="darken" w="111525" h="21600">
                <a:moveTo>
                  <a:pt x="111525" y="0"/>
                </a:moveTo>
                <a:lnTo>
                  <a:pt x="111525" y="21600"/>
                </a:lnTo>
                <a:lnTo>
                  <a:pt x="110125" y="20200"/>
                </a:lnTo>
                <a:lnTo>
                  <a:pt x="110125" y="1400"/>
                </a:lnTo>
                <a:close/>
              </a:path>
              <a:path fill="darkenLess" w="111525" h="21600">
                <a:moveTo>
                  <a:pt x="111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25" y="20200"/>
                </a:lnTo>
                <a:close/>
              </a:path>
              <a:path fill="lighten" w="111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25" h="21600">
                <a:moveTo>
                  <a:pt x="48756" y="3794"/>
                </a:moveTo>
                <a:lnTo>
                  <a:pt x="62769" y="10800"/>
                </a:lnTo>
                <a:lnTo>
                  <a:pt x="4875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3635280" y="278136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635280" y="400536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8" action="ppaction://hlinksldjump"/>
          </p:cNvPr>
          <p:cNvSpPr/>
          <p:nvPr/>
        </p:nvSpPr>
        <p:spPr>
          <a:xfrm>
            <a:off x="3635280" y="342900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2. Инструмент для строгания древе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шерхе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шерш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шпин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пендель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3492360" y="292428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3492360" y="3573360"/>
            <a:ext cx="2303640" cy="43200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04" h="21600">
                <a:moveTo>
                  <a:pt x="0" y="0"/>
                </a:moveTo>
                <a:lnTo>
                  <a:pt x="115104" y="0"/>
                </a:lnTo>
                <a:lnTo>
                  <a:pt x="115104" y="21600"/>
                </a:lnTo>
                <a:lnTo>
                  <a:pt x="0" y="21600"/>
                </a:lnTo>
                <a:close/>
              </a:path>
              <a:path fill="lightenLess" w="115104" h="21600">
                <a:moveTo>
                  <a:pt x="0" y="0"/>
                </a:moveTo>
                <a:lnTo>
                  <a:pt x="115104" y="0"/>
                </a:lnTo>
                <a:lnTo>
                  <a:pt x="113704" y="1400"/>
                </a:lnTo>
                <a:lnTo>
                  <a:pt x="1400" y="1400"/>
                </a:lnTo>
                <a:close/>
              </a:path>
              <a:path fill="darken" w="115104" h="21600">
                <a:moveTo>
                  <a:pt x="115104" y="0"/>
                </a:moveTo>
                <a:lnTo>
                  <a:pt x="115104" y="21600"/>
                </a:lnTo>
                <a:lnTo>
                  <a:pt x="113704" y="20200"/>
                </a:lnTo>
                <a:lnTo>
                  <a:pt x="113704" y="1400"/>
                </a:lnTo>
                <a:close/>
              </a:path>
              <a:path fill="darkenLess" w="115104" h="21600">
                <a:moveTo>
                  <a:pt x="11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04" y="20200"/>
                </a:lnTo>
                <a:close/>
              </a:path>
              <a:path fill="lighten" w="11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04" h="21600">
                <a:moveTo>
                  <a:pt x="50546" y="3794"/>
                </a:moveTo>
                <a:lnTo>
                  <a:pt x="64559" y="10800"/>
                </a:lnTo>
                <a:lnTo>
                  <a:pt x="50546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3492360" y="422280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492360" y="227664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3. Город, давший название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кормовой тра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Мала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Люцер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Анохай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ев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2" action="ppaction://hlinksldjump"/>
          </p:cNvPr>
          <p:cNvSpPr/>
          <p:nvPr/>
        </p:nvSpPr>
        <p:spPr>
          <a:xfrm>
            <a:off x="3419640" y="227664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836" h="21600">
                <a:moveTo>
                  <a:pt x="52412" y="3794"/>
                </a:moveTo>
                <a:lnTo>
                  <a:pt x="66424" y="10800"/>
                </a:lnTo>
                <a:lnTo>
                  <a:pt x="5241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3419640" y="3500280"/>
            <a:ext cx="2376360" cy="43200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737" h="21600">
                <a:moveTo>
                  <a:pt x="0" y="0"/>
                </a:moveTo>
                <a:lnTo>
                  <a:pt x="118737" y="0"/>
                </a:lnTo>
                <a:lnTo>
                  <a:pt x="118737" y="21600"/>
                </a:lnTo>
                <a:lnTo>
                  <a:pt x="0" y="21600"/>
                </a:lnTo>
                <a:close/>
              </a:path>
              <a:path fill="lightenLess" w="118737" h="21600">
                <a:moveTo>
                  <a:pt x="0" y="0"/>
                </a:moveTo>
                <a:lnTo>
                  <a:pt x="118737" y="0"/>
                </a:lnTo>
                <a:lnTo>
                  <a:pt x="117337" y="1400"/>
                </a:lnTo>
                <a:lnTo>
                  <a:pt x="1400" y="1400"/>
                </a:lnTo>
                <a:close/>
              </a:path>
              <a:path fill="darken" w="118737" h="21600">
                <a:moveTo>
                  <a:pt x="118737" y="0"/>
                </a:moveTo>
                <a:lnTo>
                  <a:pt x="118737" y="21600"/>
                </a:lnTo>
                <a:lnTo>
                  <a:pt x="117337" y="20200"/>
                </a:lnTo>
                <a:lnTo>
                  <a:pt x="117337" y="1400"/>
                </a:lnTo>
                <a:close/>
              </a:path>
              <a:path fill="darkenLess" w="118737" h="21600">
                <a:moveTo>
                  <a:pt x="118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7" y="20200"/>
                </a:lnTo>
                <a:close/>
              </a:path>
              <a:path fill="lighten" w="118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37" h="21600">
                <a:moveTo>
                  <a:pt x="52362" y="3794"/>
                </a:moveTo>
                <a:lnTo>
                  <a:pt x="66375" y="10800"/>
                </a:lnTo>
                <a:lnTo>
                  <a:pt x="5236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6" action="ppaction://hlinksldjump"/>
          </p:cNvPr>
          <p:cNvSpPr/>
          <p:nvPr/>
        </p:nvSpPr>
        <p:spPr>
          <a:xfrm>
            <a:off x="3419640" y="414972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836" h="21600">
                <a:moveTo>
                  <a:pt x="52412" y="3794"/>
                </a:moveTo>
                <a:lnTo>
                  <a:pt x="66424" y="10800"/>
                </a:lnTo>
                <a:lnTo>
                  <a:pt x="52412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419640" y="2852640"/>
            <a:ext cx="2376360" cy="43200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737" h="21600">
                <a:moveTo>
                  <a:pt x="0" y="0"/>
                </a:moveTo>
                <a:lnTo>
                  <a:pt x="118737" y="0"/>
                </a:lnTo>
                <a:lnTo>
                  <a:pt x="118737" y="21600"/>
                </a:lnTo>
                <a:lnTo>
                  <a:pt x="0" y="21600"/>
                </a:lnTo>
                <a:close/>
              </a:path>
              <a:path fill="lightenLess" w="118737" h="21600">
                <a:moveTo>
                  <a:pt x="0" y="0"/>
                </a:moveTo>
                <a:lnTo>
                  <a:pt x="118737" y="0"/>
                </a:lnTo>
                <a:lnTo>
                  <a:pt x="117337" y="1400"/>
                </a:lnTo>
                <a:lnTo>
                  <a:pt x="1400" y="1400"/>
                </a:lnTo>
                <a:close/>
              </a:path>
              <a:path fill="darken" w="118737" h="21600">
                <a:moveTo>
                  <a:pt x="118737" y="0"/>
                </a:moveTo>
                <a:lnTo>
                  <a:pt x="118737" y="21600"/>
                </a:lnTo>
                <a:lnTo>
                  <a:pt x="117337" y="20200"/>
                </a:lnTo>
                <a:lnTo>
                  <a:pt x="117337" y="1400"/>
                </a:lnTo>
                <a:close/>
              </a:path>
              <a:path fill="darkenLess" w="118737" h="21600">
                <a:moveTo>
                  <a:pt x="118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7" y="20200"/>
                </a:lnTo>
                <a:close/>
              </a:path>
              <a:path fill="lighten" w="118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37" h="21600">
                <a:moveTo>
                  <a:pt x="52362" y="3794"/>
                </a:moveTo>
                <a:lnTo>
                  <a:pt x="66375" y="10800"/>
                </a:lnTo>
                <a:lnTo>
                  <a:pt x="5236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4. Город, стоящий на воде на сваях из сибирской лиственниц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41884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Флоре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Варш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Вене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Боло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3708360" y="242100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3708360" y="306864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6" action="ppaction://hlinksldjump"/>
          </p:cNvPr>
          <p:cNvSpPr/>
          <p:nvPr/>
        </p:nvSpPr>
        <p:spPr>
          <a:xfrm>
            <a:off x="3708360" y="4294080"/>
            <a:ext cx="2303640" cy="43200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04" h="21600">
                <a:moveTo>
                  <a:pt x="0" y="0"/>
                </a:moveTo>
                <a:lnTo>
                  <a:pt x="115104" y="0"/>
                </a:lnTo>
                <a:lnTo>
                  <a:pt x="115104" y="21600"/>
                </a:lnTo>
                <a:lnTo>
                  <a:pt x="0" y="21600"/>
                </a:lnTo>
                <a:close/>
              </a:path>
              <a:path fill="lightenLess" w="115104" h="21600">
                <a:moveTo>
                  <a:pt x="0" y="0"/>
                </a:moveTo>
                <a:lnTo>
                  <a:pt x="115104" y="0"/>
                </a:lnTo>
                <a:lnTo>
                  <a:pt x="113704" y="1400"/>
                </a:lnTo>
                <a:lnTo>
                  <a:pt x="1400" y="1400"/>
                </a:lnTo>
                <a:close/>
              </a:path>
              <a:path fill="darken" w="115104" h="21600">
                <a:moveTo>
                  <a:pt x="115104" y="0"/>
                </a:moveTo>
                <a:lnTo>
                  <a:pt x="115104" y="21600"/>
                </a:lnTo>
                <a:lnTo>
                  <a:pt x="113704" y="20200"/>
                </a:lnTo>
                <a:lnTo>
                  <a:pt x="113704" y="1400"/>
                </a:lnTo>
                <a:close/>
              </a:path>
              <a:path fill="darkenLess" w="115104" h="21600">
                <a:moveTo>
                  <a:pt x="11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04" y="20200"/>
                </a:lnTo>
                <a:close/>
              </a:path>
              <a:path fill="lighten" w="11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04" h="21600">
                <a:moveTo>
                  <a:pt x="50546" y="3794"/>
                </a:moveTo>
                <a:lnTo>
                  <a:pt x="64559" y="10800"/>
                </a:lnTo>
                <a:lnTo>
                  <a:pt x="50546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8" action="ppaction://hlinksldjump"/>
          </p:cNvPr>
          <p:cNvSpPr/>
          <p:nvPr/>
        </p:nvSpPr>
        <p:spPr>
          <a:xfrm>
            <a:off x="3708360" y="3716280"/>
            <a:ext cx="2303640" cy="43200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04" h="21600">
                <a:moveTo>
                  <a:pt x="0" y="0"/>
                </a:moveTo>
                <a:lnTo>
                  <a:pt x="115104" y="0"/>
                </a:lnTo>
                <a:lnTo>
                  <a:pt x="115104" y="21600"/>
                </a:lnTo>
                <a:lnTo>
                  <a:pt x="0" y="21600"/>
                </a:lnTo>
                <a:close/>
              </a:path>
              <a:path fill="lightenLess" w="115104" h="21600">
                <a:moveTo>
                  <a:pt x="0" y="0"/>
                </a:moveTo>
                <a:lnTo>
                  <a:pt x="115104" y="0"/>
                </a:lnTo>
                <a:lnTo>
                  <a:pt x="113704" y="1400"/>
                </a:lnTo>
                <a:lnTo>
                  <a:pt x="1400" y="1400"/>
                </a:lnTo>
                <a:close/>
              </a:path>
              <a:path fill="darken" w="115104" h="21600">
                <a:moveTo>
                  <a:pt x="115104" y="0"/>
                </a:moveTo>
                <a:lnTo>
                  <a:pt x="115104" y="21600"/>
                </a:lnTo>
                <a:lnTo>
                  <a:pt x="113704" y="20200"/>
                </a:lnTo>
                <a:lnTo>
                  <a:pt x="113704" y="1400"/>
                </a:lnTo>
                <a:close/>
              </a:path>
              <a:path fill="darkenLess" w="115104" h="21600">
                <a:moveTo>
                  <a:pt x="11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04" y="20200"/>
                </a:lnTo>
                <a:close/>
              </a:path>
              <a:path fill="lighten" w="11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04" h="21600">
                <a:moveTo>
                  <a:pt x="50546" y="3794"/>
                </a:moveTo>
                <a:lnTo>
                  <a:pt x="64559" y="10800"/>
                </a:lnTo>
                <a:lnTo>
                  <a:pt x="50546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5. В какой стране зародилось слово «слесар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Рос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Гер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Фран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Польш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3492360" y="227664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3492360" y="3500280"/>
            <a:ext cx="2232000" cy="43200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25" h="21600">
                <a:moveTo>
                  <a:pt x="0" y="0"/>
                </a:moveTo>
                <a:lnTo>
                  <a:pt x="111525" y="0"/>
                </a:lnTo>
                <a:lnTo>
                  <a:pt x="111525" y="21600"/>
                </a:lnTo>
                <a:lnTo>
                  <a:pt x="0" y="21600"/>
                </a:lnTo>
                <a:close/>
              </a:path>
              <a:path fill="lightenLess" w="111525" h="21600">
                <a:moveTo>
                  <a:pt x="0" y="0"/>
                </a:moveTo>
                <a:lnTo>
                  <a:pt x="111525" y="0"/>
                </a:lnTo>
                <a:lnTo>
                  <a:pt x="110125" y="1400"/>
                </a:lnTo>
                <a:lnTo>
                  <a:pt x="1400" y="1400"/>
                </a:lnTo>
                <a:close/>
              </a:path>
              <a:path fill="darken" w="111525" h="21600">
                <a:moveTo>
                  <a:pt x="111525" y="0"/>
                </a:moveTo>
                <a:lnTo>
                  <a:pt x="111525" y="21600"/>
                </a:lnTo>
                <a:lnTo>
                  <a:pt x="110125" y="20200"/>
                </a:lnTo>
                <a:lnTo>
                  <a:pt x="110125" y="1400"/>
                </a:lnTo>
                <a:close/>
              </a:path>
              <a:path fill="darkenLess" w="111525" h="21600">
                <a:moveTo>
                  <a:pt x="111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25" y="20200"/>
                </a:lnTo>
                <a:close/>
              </a:path>
              <a:path fill="lighten" w="111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25" h="21600">
                <a:moveTo>
                  <a:pt x="48756" y="3794"/>
                </a:moveTo>
                <a:lnTo>
                  <a:pt x="62769" y="10800"/>
                </a:lnTo>
                <a:lnTo>
                  <a:pt x="48756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6" action="ppaction://hlinksldjump"/>
          </p:cNvPr>
          <p:cNvSpPr/>
          <p:nvPr/>
        </p:nvSpPr>
        <p:spPr>
          <a:xfrm>
            <a:off x="3492360" y="414972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8" action="ppaction://hlinksldjump"/>
          </p:cNvPr>
          <p:cNvSpPr/>
          <p:nvPr/>
        </p:nvSpPr>
        <p:spPr>
          <a:xfrm>
            <a:off x="3492360" y="2852640"/>
            <a:ext cx="2232000" cy="43200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25" h="21600">
                <a:moveTo>
                  <a:pt x="0" y="0"/>
                </a:moveTo>
                <a:lnTo>
                  <a:pt x="111525" y="0"/>
                </a:lnTo>
                <a:lnTo>
                  <a:pt x="111525" y="21600"/>
                </a:lnTo>
                <a:lnTo>
                  <a:pt x="0" y="21600"/>
                </a:lnTo>
                <a:close/>
              </a:path>
              <a:path fill="lightenLess" w="111525" h="21600">
                <a:moveTo>
                  <a:pt x="0" y="0"/>
                </a:moveTo>
                <a:lnTo>
                  <a:pt x="111525" y="0"/>
                </a:lnTo>
                <a:lnTo>
                  <a:pt x="110125" y="1400"/>
                </a:lnTo>
                <a:lnTo>
                  <a:pt x="1400" y="1400"/>
                </a:lnTo>
                <a:close/>
              </a:path>
              <a:path fill="darken" w="111525" h="21600">
                <a:moveTo>
                  <a:pt x="111525" y="0"/>
                </a:moveTo>
                <a:lnTo>
                  <a:pt x="111525" y="21600"/>
                </a:lnTo>
                <a:lnTo>
                  <a:pt x="110125" y="20200"/>
                </a:lnTo>
                <a:lnTo>
                  <a:pt x="110125" y="1400"/>
                </a:lnTo>
                <a:close/>
              </a:path>
              <a:path fill="darkenLess" w="111525" h="21600">
                <a:moveTo>
                  <a:pt x="111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25" y="20200"/>
                </a:lnTo>
                <a:close/>
              </a:path>
              <a:path fill="lighten" w="111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25" h="21600">
                <a:moveTo>
                  <a:pt x="48756" y="3794"/>
                </a:moveTo>
                <a:lnTo>
                  <a:pt x="62769" y="10800"/>
                </a:lnTo>
                <a:lnTo>
                  <a:pt x="48756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"/>
              </a:rPr>
              <a:t>26. Место сцепки с\х орудия с трактор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п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с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ес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3132000" y="2060640"/>
            <a:ext cx="2519640" cy="43164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00" h="21600">
                <a:moveTo>
                  <a:pt x="0" y="0"/>
                </a:moveTo>
                <a:lnTo>
                  <a:pt x="126000" y="0"/>
                </a:lnTo>
                <a:lnTo>
                  <a:pt x="126000" y="21600"/>
                </a:lnTo>
                <a:lnTo>
                  <a:pt x="0" y="21600"/>
                </a:lnTo>
                <a:close/>
              </a:path>
              <a:path fill="lightenLess" w="126000" h="21600">
                <a:moveTo>
                  <a:pt x="0" y="0"/>
                </a:moveTo>
                <a:lnTo>
                  <a:pt x="126000" y="0"/>
                </a:lnTo>
                <a:lnTo>
                  <a:pt x="124600" y="1400"/>
                </a:lnTo>
                <a:lnTo>
                  <a:pt x="1400" y="1400"/>
                </a:lnTo>
                <a:close/>
              </a:path>
              <a:path fill="darken" w="126000" h="21600">
                <a:moveTo>
                  <a:pt x="126000" y="0"/>
                </a:moveTo>
                <a:lnTo>
                  <a:pt x="126000" y="21600"/>
                </a:lnTo>
                <a:lnTo>
                  <a:pt x="124600" y="20200"/>
                </a:lnTo>
                <a:lnTo>
                  <a:pt x="124600" y="1400"/>
                </a:lnTo>
                <a:close/>
              </a:path>
              <a:path fill="darkenLess" w="126000" h="21600">
                <a:moveTo>
                  <a:pt x="1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00" y="20200"/>
                </a:lnTo>
                <a:close/>
              </a:path>
              <a:path fill="lighten" w="1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00" h="21600">
                <a:moveTo>
                  <a:pt x="55994" y="3794"/>
                </a:moveTo>
                <a:lnTo>
                  <a:pt x="70006" y="10800"/>
                </a:lnTo>
                <a:lnTo>
                  <a:pt x="559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4" action="ppaction://hlinksldjump"/>
          </p:cNvPr>
          <p:cNvSpPr/>
          <p:nvPr/>
        </p:nvSpPr>
        <p:spPr>
          <a:xfrm>
            <a:off x="3132000" y="2637000"/>
            <a:ext cx="2519640" cy="43164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00" h="21600">
                <a:moveTo>
                  <a:pt x="0" y="0"/>
                </a:moveTo>
                <a:lnTo>
                  <a:pt x="126000" y="0"/>
                </a:lnTo>
                <a:lnTo>
                  <a:pt x="126000" y="21600"/>
                </a:lnTo>
                <a:lnTo>
                  <a:pt x="0" y="21600"/>
                </a:lnTo>
                <a:close/>
              </a:path>
              <a:path fill="lightenLess" w="126000" h="21600">
                <a:moveTo>
                  <a:pt x="0" y="0"/>
                </a:moveTo>
                <a:lnTo>
                  <a:pt x="126000" y="0"/>
                </a:lnTo>
                <a:lnTo>
                  <a:pt x="124600" y="1400"/>
                </a:lnTo>
                <a:lnTo>
                  <a:pt x="1400" y="1400"/>
                </a:lnTo>
                <a:close/>
              </a:path>
              <a:path fill="darken" w="126000" h="21600">
                <a:moveTo>
                  <a:pt x="126000" y="0"/>
                </a:moveTo>
                <a:lnTo>
                  <a:pt x="126000" y="21600"/>
                </a:lnTo>
                <a:lnTo>
                  <a:pt x="124600" y="20200"/>
                </a:lnTo>
                <a:lnTo>
                  <a:pt x="124600" y="1400"/>
                </a:lnTo>
                <a:close/>
              </a:path>
              <a:path fill="darkenLess" w="126000" h="21600">
                <a:moveTo>
                  <a:pt x="1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00" y="20200"/>
                </a:lnTo>
                <a:close/>
              </a:path>
              <a:path fill="lighten" w="1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00" h="21600">
                <a:moveTo>
                  <a:pt x="55994" y="3794"/>
                </a:moveTo>
                <a:lnTo>
                  <a:pt x="70006" y="10800"/>
                </a:lnTo>
                <a:lnTo>
                  <a:pt x="559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6" action="ppaction://hlinksldjump"/>
          </p:cNvPr>
          <p:cNvSpPr/>
          <p:nvPr/>
        </p:nvSpPr>
        <p:spPr>
          <a:xfrm>
            <a:off x="3132000" y="3933720"/>
            <a:ext cx="2519640" cy="43200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5895" h="21600">
                <a:moveTo>
                  <a:pt x="0" y="0"/>
                </a:moveTo>
                <a:lnTo>
                  <a:pt x="125895" y="0"/>
                </a:lnTo>
                <a:lnTo>
                  <a:pt x="125895" y="21600"/>
                </a:lnTo>
                <a:lnTo>
                  <a:pt x="0" y="21600"/>
                </a:lnTo>
                <a:close/>
              </a:path>
              <a:path fill="lightenLess" w="125895" h="21600">
                <a:moveTo>
                  <a:pt x="0" y="0"/>
                </a:moveTo>
                <a:lnTo>
                  <a:pt x="125895" y="0"/>
                </a:lnTo>
                <a:lnTo>
                  <a:pt x="124495" y="1400"/>
                </a:lnTo>
                <a:lnTo>
                  <a:pt x="1400" y="1400"/>
                </a:lnTo>
                <a:close/>
              </a:path>
              <a:path fill="darken" w="125895" h="21600">
                <a:moveTo>
                  <a:pt x="125895" y="0"/>
                </a:moveTo>
                <a:lnTo>
                  <a:pt x="125895" y="21600"/>
                </a:lnTo>
                <a:lnTo>
                  <a:pt x="124495" y="20200"/>
                </a:lnTo>
                <a:lnTo>
                  <a:pt x="124495" y="1400"/>
                </a:lnTo>
                <a:close/>
              </a:path>
              <a:path fill="darkenLess" w="125895" h="21600">
                <a:moveTo>
                  <a:pt x="125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495" y="20200"/>
                </a:lnTo>
                <a:close/>
              </a:path>
              <a:path fill="lighten" w="125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895" h="21600">
                <a:moveTo>
                  <a:pt x="55941" y="3794"/>
                </a:moveTo>
                <a:lnTo>
                  <a:pt x="69954" y="10800"/>
                </a:lnTo>
                <a:lnTo>
                  <a:pt x="55941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8" action="ppaction://hlinksldjump"/>
          </p:cNvPr>
          <p:cNvSpPr/>
          <p:nvPr/>
        </p:nvSpPr>
        <p:spPr>
          <a:xfrm>
            <a:off x="3132000" y="3284640"/>
            <a:ext cx="2519640" cy="431640"/>
          </a:xfrm>
          <a:custGeom>
            <a:avLst/>
            <a:gdLst>
              <a:gd name="textAreaLeft" fmla="*/ 27720 w 2519640"/>
              <a:gd name="textAreaRight" fmla="*/ 2491920 w 251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00" h="21600">
                <a:moveTo>
                  <a:pt x="0" y="0"/>
                </a:moveTo>
                <a:lnTo>
                  <a:pt x="126000" y="0"/>
                </a:lnTo>
                <a:lnTo>
                  <a:pt x="126000" y="21600"/>
                </a:lnTo>
                <a:lnTo>
                  <a:pt x="0" y="21600"/>
                </a:lnTo>
                <a:close/>
              </a:path>
              <a:path fill="lightenLess" w="126000" h="21600">
                <a:moveTo>
                  <a:pt x="0" y="0"/>
                </a:moveTo>
                <a:lnTo>
                  <a:pt x="126000" y="0"/>
                </a:lnTo>
                <a:lnTo>
                  <a:pt x="124600" y="1400"/>
                </a:lnTo>
                <a:lnTo>
                  <a:pt x="1400" y="1400"/>
                </a:lnTo>
                <a:close/>
              </a:path>
              <a:path fill="darken" w="126000" h="21600">
                <a:moveTo>
                  <a:pt x="126000" y="0"/>
                </a:moveTo>
                <a:lnTo>
                  <a:pt x="126000" y="21600"/>
                </a:lnTo>
                <a:lnTo>
                  <a:pt x="124600" y="20200"/>
                </a:lnTo>
                <a:lnTo>
                  <a:pt x="124600" y="1400"/>
                </a:lnTo>
                <a:close/>
              </a:path>
              <a:path fill="darkenLess" w="126000" h="21600">
                <a:moveTo>
                  <a:pt x="1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00" y="20200"/>
                </a:lnTo>
                <a:close/>
              </a:path>
              <a:path fill="lighten" w="1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00" h="21600">
                <a:moveTo>
                  <a:pt x="55994" y="3794"/>
                </a:moveTo>
                <a:lnTo>
                  <a:pt x="70006" y="10800"/>
                </a:lnTo>
                <a:lnTo>
                  <a:pt x="559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7. Узкая боковая поверхность дос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кро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бруств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три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пол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3348000" y="2852640"/>
            <a:ext cx="2736720" cy="432000"/>
          </a:xfrm>
          <a:custGeom>
            <a:avLst/>
            <a:gdLst>
              <a:gd name="textAreaLeft" fmla="*/ 27720 w 2736720"/>
              <a:gd name="textAreaRight" fmla="*/ 2709000 w 2736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6740" h="21600">
                <a:moveTo>
                  <a:pt x="0" y="0"/>
                </a:moveTo>
                <a:lnTo>
                  <a:pt x="136740" y="0"/>
                </a:lnTo>
                <a:lnTo>
                  <a:pt x="136740" y="21600"/>
                </a:lnTo>
                <a:lnTo>
                  <a:pt x="0" y="21600"/>
                </a:lnTo>
                <a:close/>
              </a:path>
              <a:path fill="lightenLess" w="136740" h="21600">
                <a:moveTo>
                  <a:pt x="0" y="0"/>
                </a:moveTo>
                <a:lnTo>
                  <a:pt x="136740" y="0"/>
                </a:lnTo>
                <a:lnTo>
                  <a:pt x="135340" y="1400"/>
                </a:lnTo>
                <a:lnTo>
                  <a:pt x="1400" y="1400"/>
                </a:lnTo>
                <a:close/>
              </a:path>
              <a:path fill="darken" w="136740" h="21600">
                <a:moveTo>
                  <a:pt x="136740" y="0"/>
                </a:moveTo>
                <a:lnTo>
                  <a:pt x="136740" y="21600"/>
                </a:lnTo>
                <a:lnTo>
                  <a:pt x="135340" y="20200"/>
                </a:lnTo>
                <a:lnTo>
                  <a:pt x="135340" y="1400"/>
                </a:lnTo>
                <a:close/>
              </a:path>
              <a:path fill="darkenLess" w="136740" h="21600">
                <a:moveTo>
                  <a:pt x="136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40" y="20200"/>
                </a:lnTo>
                <a:close/>
              </a:path>
              <a:path fill="lighten" w="136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740" h="21600">
                <a:moveTo>
                  <a:pt x="61364" y="3794"/>
                </a:moveTo>
                <a:lnTo>
                  <a:pt x="75377" y="10800"/>
                </a:lnTo>
                <a:lnTo>
                  <a:pt x="6136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3348000" y="3429000"/>
            <a:ext cx="2736720" cy="431640"/>
          </a:xfrm>
          <a:custGeom>
            <a:avLst/>
            <a:gdLst>
              <a:gd name="textAreaLeft" fmla="*/ 27720 w 2736720"/>
              <a:gd name="textAreaRight" fmla="*/ 2709000 w 27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6854" h="21600">
                <a:moveTo>
                  <a:pt x="0" y="0"/>
                </a:moveTo>
                <a:lnTo>
                  <a:pt x="136854" y="0"/>
                </a:lnTo>
                <a:lnTo>
                  <a:pt x="136854" y="21600"/>
                </a:lnTo>
                <a:lnTo>
                  <a:pt x="0" y="21600"/>
                </a:lnTo>
                <a:close/>
              </a:path>
              <a:path fill="lightenLess" w="136854" h="21600">
                <a:moveTo>
                  <a:pt x="0" y="0"/>
                </a:moveTo>
                <a:lnTo>
                  <a:pt x="136854" y="0"/>
                </a:lnTo>
                <a:lnTo>
                  <a:pt x="135454" y="1400"/>
                </a:lnTo>
                <a:lnTo>
                  <a:pt x="1400" y="1400"/>
                </a:lnTo>
                <a:close/>
              </a:path>
              <a:path fill="darken" w="136854" h="21600">
                <a:moveTo>
                  <a:pt x="136854" y="0"/>
                </a:moveTo>
                <a:lnTo>
                  <a:pt x="136854" y="21600"/>
                </a:lnTo>
                <a:lnTo>
                  <a:pt x="135454" y="20200"/>
                </a:lnTo>
                <a:lnTo>
                  <a:pt x="135454" y="1400"/>
                </a:lnTo>
                <a:close/>
              </a:path>
              <a:path fill="darkenLess" w="136854" h="21600">
                <a:moveTo>
                  <a:pt x="13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454" y="20200"/>
                </a:lnTo>
                <a:close/>
              </a:path>
              <a:path fill="lighten" w="13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854" h="21600">
                <a:moveTo>
                  <a:pt x="61421" y="3794"/>
                </a:moveTo>
                <a:lnTo>
                  <a:pt x="75433" y="10800"/>
                </a:lnTo>
                <a:lnTo>
                  <a:pt x="6142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6" action="ppaction://hlinksldjump"/>
          </p:cNvPr>
          <p:cNvSpPr/>
          <p:nvPr/>
        </p:nvSpPr>
        <p:spPr>
          <a:xfrm>
            <a:off x="3348000" y="4078440"/>
            <a:ext cx="2736720" cy="431640"/>
          </a:xfrm>
          <a:custGeom>
            <a:avLst/>
            <a:gdLst>
              <a:gd name="textAreaLeft" fmla="*/ 27720 w 2736720"/>
              <a:gd name="textAreaRight" fmla="*/ 2709000 w 27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6854" h="21600">
                <a:moveTo>
                  <a:pt x="0" y="0"/>
                </a:moveTo>
                <a:lnTo>
                  <a:pt x="136854" y="0"/>
                </a:lnTo>
                <a:lnTo>
                  <a:pt x="136854" y="21600"/>
                </a:lnTo>
                <a:lnTo>
                  <a:pt x="0" y="21600"/>
                </a:lnTo>
                <a:close/>
              </a:path>
              <a:path fill="lightenLess" w="136854" h="21600">
                <a:moveTo>
                  <a:pt x="0" y="0"/>
                </a:moveTo>
                <a:lnTo>
                  <a:pt x="136854" y="0"/>
                </a:lnTo>
                <a:lnTo>
                  <a:pt x="135454" y="1400"/>
                </a:lnTo>
                <a:lnTo>
                  <a:pt x="1400" y="1400"/>
                </a:lnTo>
                <a:close/>
              </a:path>
              <a:path fill="darken" w="136854" h="21600">
                <a:moveTo>
                  <a:pt x="136854" y="0"/>
                </a:moveTo>
                <a:lnTo>
                  <a:pt x="136854" y="21600"/>
                </a:lnTo>
                <a:lnTo>
                  <a:pt x="135454" y="20200"/>
                </a:lnTo>
                <a:lnTo>
                  <a:pt x="135454" y="1400"/>
                </a:lnTo>
                <a:close/>
              </a:path>
              <a:path fill="darkenLess" w="136854" h="21600">
                <a:moveTo>
                  <a:pt x="13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454" y="20200"/>
                </a:lnTo>
                <a:close/>
              </a:path>
              <a:path fill="lighten" w="13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854" h="21600">
                <a:moveTo>
                  <a:pt x="61421" y="3794"/>
                </a:moveTo>
                <a:lnTo>
                  <a:pt x="75433" y="10800"/>
                </a:lnTo>
                <a:lnTo>
                  <a:pt x="61421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8" action="ppaction://hlinksldjump"/>
          </p:cNvPr>
          <p:cNvSpPr/>
          <p:nvPr/>
        </p:nvSpPr>
        <p:spPr>
          <a:xfrm>
            <a:off x="3348000" y="2276640"/>
            <a:ext cx="2736720" cy="431640"/>
          </a:xfrm>
          <a:custGeom>
            <a:avLst/>
            <a:gdLst>
              <a:gd name="textAreaLeft" fmla="*/ 27720 w 2736720"/>
              <a:gd name="textAreaRight" fmla="*/ 2709000 w 27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6854" h="21600">
                <a:moveTo>
                  <a:pt x="0" y="0"/>
                </a:moveTo>
                <a:lnTo>
                  <a:pt x="136854" y="0"/>
                </a:lnTo>
                <a:lnTo>
                  <a:pt x="136854" y="21600"/>
                </a:lnTo>
                <a:lnTo>
                  <a:pt x="0" y="21600"/>
                </a:lnTo>
                <a:close/>
              </a:path>
              <a:path fill="lightenLess" w="136854" h="21600">
                <a:moveTo>
                  <a:pt x="0" y="0"/>
                </a:moveTo>
                <a:lnTo>
                  <a:pt x="136854" y="0"/>
                </a:lnTo>
                <a:lnTo>
                  <a:pt x="135454" y="1400"/>
                </a:lnTo>
                <a:lnTo>
                  <a:pt x="1400" y="1400"/>
                </a:lnTo>
                <a:close/>
              </a:path>
              <a:path fill="darken" w="136854" h="21600">
                <a:moveTo>
                  <a:pt x="136854" y="0"/>
                </a:moveTo>
                <a:lnTo>
                  <a:pt x="136854" y="21600"/>
                </a:lnTo>
                <a:lnTo>
                  <a:pt x="135454" y="20200"/>
                </a:lnTo>
                <a:lnTo>
                  <a:pt x="135454" y="1400"/>
                </a:lnTo>
                <a:close/>
              </a:path>
              <a:path fill="darkenLess" w="136854" h="21600">
                <a:moveTo>
                  <a:pt x="13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454" y="20200"/>
                </a:lnTo>
                <a:close/>
              </a:path>
              <a:path fill="lighten" w="13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854" h="21600">
                <a:moveTo>
                  <a:pt x="61421" y="3794"/>
                </a:moveTo>
                <a:lnTo>
                  <a:pt x="75433" y="10800"/>
                </a:lnTo>
                <a:lnTo>
                  <a:pt x="61421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1. Старинная узорчатая твердая сталь для клин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32126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пила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чуг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бул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м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2700360" y="3429000"/>
            <a:ext cx="2735280" cy="431640"/>
          </a:xfrm>
          <a:custGeom>
            <a:avLst/>
            <a:gdLst>
              <a:gd name="textAreaLeft" fmla="*/ 27720 w 2735280"/>
              <a:gd name="textAreaRight" fmla="*/ 2707560 w 27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6782" h="21600">
                <a:moveTo>
                  <a:pt x="0" y="0"/>
                </a:moveTo>
                <a:lnTo>
                  <a:pt x="136782" y="0"/>
                </a:lnTo>
                <a:lnTo>
                  <a:pt x="136782" y="21600"/>
                </a:lnTo>
                <a:lnTo>
                  <a:pt x="0" y="21600"/>
                </a:lnTo>
                <a:close/>
              </a:path>
              <a:path fill="lightenLess" w="136782" h="21600">
                <a:moveTo>
                  <a:pt x="0" y="0"/>
                </a:moveTo>
                <a:lnTo>
                  <a:pt x="136782" y="0"/>
                </a:lnTo>
                <a:lnTo>
                  <a:pt x="135382" y="1400"/>
                </a:lnTo>
                <a:lnTo>
                  <a:pt x="1400" y="1400"/>
                </a:lnTo>
                <a:close/>
              </a:path>
              <a:path fill="darken" w="136782" h="21600">
                <a:moveTo>
                  <a:pt x="136782" y="0"/>
                </a:moveTo>
                <a:lnTo>
                  <a:pt x="136782" y="21600"/>
                </a:lnTo>
                <a:lnTo>
                  <a:pt x="135382" y="20200"/>
                </a:lnTo>
                <a:lnTo>
                  <a:pt x="135382" y="1400"/>
                </a:lnTo>
                <a:close/>
              </a:path>
              <a:path fill="darkenLess" w="136782" h="21600">
                <a:moveTo>
                  <a:pt x="13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82" y="20200"/>
                </a:lnTo>
                <a:close/>
              </a:path>
              <a:path fill="lighten" w="13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782" h="21600">
                <a:moveTo>
                  <a:pt x="61385" y="3794"/>
                </a:moveTo>
                <a:lnTo>
                  <a:pt x="75397" y="10800"/>
                </a:lnTo>
                <a:lnTo>
                  <a:pt x="61385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2700360" y="4005360"/>
            <a:ext cx="2735280" cy="431640"/>
          </a:xfrm>
          <a:custGeom>
            <a:avLst/>
            <a:gdLst>
              <a:gd name="textAreaLeft" fmla="*/ 27720 w 2735280"/>
              <a:gd name="textAreaRight" fmla="*/ 2707560 w 27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6782" h="21600">
                <a:moveTo>
                  <a:pt x="0" y="0"/>
                </a:moveTo>
                <a:lnTo>
                  <a:pt x="136782" y="0"/>
                </a:lnTo>
                <a:lnTo>
                  <a:pt x="136782" y="21600"/>
                </a:lnTo>
                <a:lnTo>
                  <a:pt x="0" y="21600"/>
                </a:lnTo>
                <a:close/>
              </a:path>
              <a:path fill="lightenLess" w="136782" h="21600">
                <a:moveTo>
                  <a:pt x="0" y="0"/>
                </a:moveTo>
                <a:lnTo>
                  <a:pt x="136782" y="0"/>
                </a:lnTo>
                <a:lnTo>
                  <a:pt x="135382" y="1400"/>
                </a:lnTo>
                <a:lnTo>
                  <a:pt x="1400" y="1400"/>
                </a:lnTo>
                <a:close/>
              </a:path>
              <a:path fill="darken" w="136782" h="21600">
                <a:moveTo>
                  <a:pt x="136782" y="0"/>
                </a:moveTo>
                <a:lnTo>
                  <a:pt x="136782" y="21600"/>
                </a:lnTo>
                <a:lnTo>
                  <a:pt x="135382" y="20200"/>
                </a:lnTo>
                <a:lnTo>
                  <a:pt x="135382" y="1400"/>
                </a:lnTo>
                <a:close/>
              </a:path>
              <a:path fill="darkenLess" w="136782" h="21600">
                <a:moveTo>
                  <a:pt x="13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82" y="20200"/>
                </a:lnTo>
                <a:close/>
              </a:path>
              <a:path fill="lighten" w="13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782" h="21600">
                <a:moveTo>
                  <a:pt x="61385" y="3794"/>
                </a:moveTo>
                <a:lnTo>
                  <a:pt x="75397" y="10800"/>
                </a:lnTo>
                <a:lnTo>
                  <a:pt x="61385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2700360" y="5302080"/>
            <a:ext cx="2735280" cy="432000"/>
          </a:xfrm>
          <a:custGeom>
            <a:avLst/>
            <a:gdLst>
              <a:gd name="textAreaLeft" fmla="*/ 27720 w 2735280"/>
              <a:gd name="textAreaRight" fmla="*/ 2707560 w 2735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6668" h="21600">
                <a:moveTo>
                  <a:pt x="0" y="0"/>
                </a:moveTo>
                <a:lnTo>
                  <a:pt x="136668" y="0"/>
                </a:lnTo>
                <a:lnTo>
                  <a:pt x="136668" y="21600"/>
                </a:lnTo>
                <a:lnTo>
                  <a:pt x="0" y="21600"/>
                </a:lnTo>
                <a:close/>
              </a:path>
              <a:path fill="lightenLess" w="136668" h="21600">
                <a:moveTo>
                  <a:pt x="0" y="0"/>
                </a:moveTo>
                <a:lnTo>
                  <a:pt x="136668" y="0"/>
                </a:lnTo>
                <a:lnTo>
                  <a:pt x="135268" y="1400"/>
                </a:lnTo>
                <a:lnTo>
                  <a:pt x="1400" y="1400"/>
                </a:lnTo>
                <a:close/>
              </a:path>
              <a:path fill="darken" w="136668" h="21600">
                <a:moveTo>
                  <a:pt x="136668" y="0"/>
                </a:moveTo>
                <a:lnTo>
                  <a:pt x="136668" y="21600"/>
                </a:lnTo>
                <a:lnTo>
                  <a:pt x="135268" y="20200"/>
                </a:lnTo>
                <a:lnTo>
                  <a:pt x="135268" y="1400"/>
                </a:lnTo>
                <a:close/>
              </a:path>
              <a:path fill="darkenLess" w="136668" h="21600">
                <a:moveTo>
                  <a:pt x="13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268" y="20200"/>
                </a:lnTo>
                <a:close/>
              </a:path>
              <a:path fill="lighten" w="13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668" h="21600">
                <a:moveTo>
                  <a:pt x="61328" y="3794"/>
                </a:moveTo>
                <a:lnTo>
                  <a:pt x="75341" y="10800"/>
                </a:lnTo>
                <a:lnTo>
                  <a:pt x="61328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2700360" y="4653000"/>
            <a:ext cx="2735280" cy="431640"/>
          </a:xfrm>
          <a:custGeom>
            <a:avLst/>
            <a:gdLst>
              <a:gd name="textAreaLeft" fmla="*/ 27720 w 2735280"/>
              <a:gd name="textAreaRight" fmla="*/ 2707560 w 27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6782" h="21600">
                <a:moveTo>
                  <a:pt x="0" y="0"/>
                </a:moveTo>
                <a:lnTo>
                  <a:pt x="136782" y="0"/>
                </a:lnTo>
                <a:lnTo>
                  <a:pt x="136782" y="21600"/>
                </a:lnTo>
                <a:lnTo>
                  <a:pt x="0" y="21600"/>
                </a:lnTo>
                <a:close/>
              </a:path>
              <a:path fill="lightenLess" w="136782" h="21600">
                <a:moveTo>
                  <a:pt x="0" y="0"/>
                </a:moveTo>
                <a:lnTo>
                  <a:pt x="136782" y="0"/>
                </a:lnTo>
                <a:lnTo>
                  <a:pt x="135382" y="1400"/>
                </a:lnTo>
                <a:lnTo>
                  <a:pt x="1400" y="1400"/>
                </a:lnTo>
                <a:close/>
              </a:path>
              <a:path fill="darken" w="136782" h="21600">
                <a:moveTo>
                  <a:pt x="136782" y="0"/>
                </a:moveTo>
                <a:lnTo>
                  <a:pt x="136782" y="21600"/>
                </a:lnTo>
                <a:lnTo>
                  <a:pt x="135382" y="20200"/>
                </a:lnTo>
                <a:lnTo>
                  <a:pt x="135382" y="1400"/>
                </a:lnTo>
                <a:close/>
              </a:path>
              <a:path fill="darkenLess" w="136782" h="21600">
                <a:moveTo>
                  <a:pt x="13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82" y="20200"/>
                </a:lnTo>
                <a:close/>
              </a:path>
              <a:path fill="lighten" w="13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782" h="21600">
                <a:moveTo>
                  <a:pt x="61385" y="3794"/>
                </a:moveTo>
                <a:lnTo>
                  <a:pt x="75397" y="10800"/>
                </a:lnTo>
                <a:lnTo>
                  <a:pt x="61385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6804000" y="4221000"/>
            <a:ext cx="16938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8. Задняя передвигающаяся часть ста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де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тё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ам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ба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3059280" y="2205000"/>
            <a:ext cx="2449440" cy="432000"/>
          </a:xfrm>
          <a:custGeom>
            <a:avLst/>
            <a:gdLst>
              <a:gd name="textAreaLeft" fmla="*/ 27720 w 2449440"/>
              <a:gd name="textAreaRight" fmla="*/ 2421720 w 2449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388" h="21600">
                <a:moveTo>
                  <a:pt x="0" y="0"/>
                </a:moveTo>
                <a:lnTo>
                  <a:pt x="122388" y="0"/>
                </a:lnTo>
                <a:lnTo>
                  <a:pt x="122388" y="21600"/>
                </a:lnTo>
                <a:lnTo>
                  <a:pt x="0" y="21600"/>
                </a:lnTo>
                <a:close/>
              </a:path>
              <a:path fill="lightenLess" w="122388" h="21600">
                <a:moveTo>
                  <a:pt x="0" y="0"/>
                </a:moveTo>
                <a:lnTo>
                  <a:pt x="122388" y="0"/>
                </a:lnTo>
                <a:lnTo>
                  <a:pt x="120988" y="1400"/>
                </a:lnTo>
                <a:lnTo>
                  <a:pt x="1400" y="1400"/>
                </a:lnTo>
                <a:close/>
              </a:path>
              <a:path fill="darken" w="122388" h="21600">
                <a:moveTo>
                  <a:pt x="122388" y="0"/>
                </a:moveTo>
                <a:lnTo>
                  <a:pt x="122388" y="21600"/>
                </a:lnTo>
                <a:lnTo>
                  <a:pt x="120988" y="20200"/>
                </a:lnTo>
                <a:lnTo>
                  <a:pt x="120988" y="1400"/>
                </a:lnTo>
                <a:close/>
              </a:path>
              <a:path fill="darkenLess" w="122388" h="21600">
                <a:moveTo>
                  <a:pt x="122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88" y="20200"/>
                </a:lnTo>
                <a:close/>
              </a:path>
              <a:path fill="lighten" w="122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88" h="21600">
                <a:moveTo>
                  <a:pt x="54188" y="3794"/>
                </a:moveTo>
                <a:lnTo>
                  <a:pt x="68200" y="10800"/>
                </a:lnTo>
                <a:lnTo>
                  <a:pt x="54188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>
            <a:off x="3059280" y="3429000"/>
            <a:ext cx="2449440" cy="431640"/>
          </a:xfrm>
          <a:custGeom>
            <a:avLst/>
            <a:gdLst>
              <a:gd name="textAreaLeft" fmla="*/ 27720 w 2449440"/>
              <a:gd name="textAreaRight" fmla="*/ 2421720 w 2449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90" h="21600">
                <a:moveTo>
                  <a:pt x="0" y="0"/>
                </a:moveTo>
                <a:lnTo>
                  <a:pt x="122490" y="0"/>
                </a:lnTo>
                <a:lnTo>
                  <a:pt x="122490" y="21600"/>
                </a:lnTo>
                <a:lnTo>
                  <a:pt x="0" y="21600"/>
                </a:lnTo>
                <a:close/>
              </a:path>
              <a:path fill="lightenLess" w="122490" h="21600">
                <a:moveTo>
                  <a:pt x="0" y="0"/>
                </a:moveTo>
                <a:lnTo>
                  <a:pt x="122490" y="0"/>
                </a:lnTo>
                <a:lnTo>
                  <a:pt x="121090" y="1400"/>
                </a:lnTo>
                <a:lnTo>
                  <a:pt x="1400" y="1400"/>
                </a:lnTo>
                <a:close/>
              </a:path>
              <a:path fill="darken" w="122490" h="21600">
                <a:moveTo>
                  <a:pt x="122490" y="0"/>
                </a:moveTo>
                <a:lnTo>
                  <a:pt x="122490" y="21600"/>
                </a:lnTo>
                <a:lnTo>
                  <a:pt x="121090" y="20200"/>
                </a:lnTo>
                <a:lnTo>
                  <a:pt x="121090" y="1400"/>
                </a:lnTo>
                <a:close/>
              </a:path>
              <a:path fill="darkenLess" w="122490" h="21600">
                <a:moveTo>
                  <a:pt x="122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90" y="20200"/>
                </a:lnTo>
                <a:close/>
              </a:path>
              <a:path fill="lighten" w="122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90" h="21600">
                <a:moveTo>
                  <a:pt x="54239" y="3794"/>
                </a:moveTo>
                <a:lnTo>
                  <a:pt x="68251" y="10800"/>
                </a:lnTo>
                <a:lnTo>
                  <a:pt x="54239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6" action="ppaction://hlinksldjump"/>
          </p:cNvPr>
          <p:cNvSpPr/>
          <p:nvPr/>
        </p:nvSpPr>
        <p:spPr>
          <a:xfrm>
            <a:off x="3059280" y="2852640"/>
            <a:ext cx="2449440" cy="432000"/>
          </a:xfrm>
          <a:custGeom>
            <a:avLst/>
            <a:gdLst>
              <a:gd name="textAreaLeft" fmla="*/ 27720 w 2449440"/>
              <a:gd name="textAreaRight" fmla="*/ 2421720 w 2449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388" h="21600">
                <a:moveTo>
                  <a:pt x="0" y="0"/>
                </a:moveTo>
                <a:lnTo>
                  <a:pt x="122388" y="0"/>
                </a:lnTo>
                <a:lnTo>
                  <a:pt x="122388" y="21600"/>
                </a:lnTo>
                <a:lnTo>
                  <a:pt x="0" y="21600"/>
                </a:lnTo>
                <a:close/>
              </a:path>
              <a:path fill="lightenLess" w="122388" h="21600">
                <a:moveTo>
                  <a:pt x="0" y="0"/>
                </a:moveTo>
                <a:lnTo>
                  <a:pt x="122388" y="0"/>
                </a:lnTo>
                <a:lnTo>
                  <a:pt x="120988" y="1400"/>
                </a:lnTo>
                <a:lnTo>
                  <a:pt x="1400" y="1400"/>
                </a:lnTo>
                <a:close/>
              </a:path>
              <a:path fill="darken" w="122388" h="21600">
                <a:moveTo>
                  <a:pt x="122388" y="0"/>
                </a:moveTo>
                <a:lnTo>
                  <a:pt x="122388" y="21600"/>
                </a:lnTo>
                <a:lnTo>
                  <a:pt x="120988" y="20200"/>
                </a:lnTo>
                <a:lnTo>
                  <a:pt x="120988" y="1400"/>
                </a:lnTo>
                <a:close/>
              </a:path>
              <a:path fill="darkenLess" w="122388" h="21600">
                <a:moveTo>
                  <a:pt x="122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88" y="20200"/>
                </a:lnTo>
                <a:close/>
              </a:path>
              <a:path fill="lighten" w="122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88" h="21600">
                <a:moveTo>
                  <a:pt x="54188" y="3794"/>
                </a:moveTo>
                <a:lnTo>
                  <a:pt x="68200" y="10800"/>
                </a:lnTo>
                <a:lnTo>
                  <a:pt x="54188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8" action="ppaction://hlinksldjump"/>
          </p:cNvPr>
          <p:cNvSpPr/>
          <p:nvPr/>
        </p:nvSpPr>
        <p:spPr>
          <a:xfrm>
            <a:off x="3059280" y="4005360"/>
            <a:ext cx="2449440" cy="431640"/>
          </a:xfrm>
          <a:custGeom>
            <a:avLst/>
            <a:gdLst>
              <a:gd name="textAreaLeft" fmla="*/ 27720 w 2449440"/>
              <a:gd name="textAreaRight" fmla="*/ 2421720 w 2449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90" h="21600">
                <a:moveTo>
                  <a:pt x="0" y="0"/>
                </a:moveTo>
                <a:lnTo>
                  <a:pt x="122490" y="0"/>
                </a:lnTo>
                <a:lnTo>
                  <a:pt x="122490" y="21600"/>
                </a:lnTo>
                <a:lnTo>
                  <a:pt x="0" y="21600"/>
                </a:lnTo>
                <a:close/>
              </a:path>
              <a:path fill="lightenLess" w="122490" h="21600">
                <a:moveTo>
                  <a:pt x="0" y="0"/>
                </a:moveTo>
                <a:lnTo>
                  <a:pt x="122490" y="0"/>
                </a:lnTo>
                <a:lnTo>
                  <a:pt x="121090" y="1400"/>
                </a:lnTo>
                <a:lnTo>
                  <a:pt x="1400" y="1400"/>
                </a:lnTo>
                <a:close/>
              </a:path>
              <a:path fill="darken" w="122490" h="21600">
                <a:moveTo>
                  <a:pt x="122490" y="0"/>
                </a:moveTo>
                <a:lnTo>
                  <a:pt x="122490" y="21600"/>
                </a:lnTo>
                <a:lnTo>
                  <a:pt x="121090" y="20200"/>
                </a:lnTo>
                <a:lnTo>
                  <a:pt x="121090" y="1400"/>
                </a:lnTo>
                <a:close/>
              </a:path>
              <a:path fill="darkenLess" w="122490" h="21600">
                <a:moveTo>
                  <a:pt x="122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90" y="20200"/>
                </a:lnTo>
                <a:close/>
              </a:path>
              <a:path fill="lighten" w="122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90" h="21600">
                <a:moveTo>
                  <a:pt x="54239" y="3794"/>
                </a:moveTo>
                <a:lnTo>
                  <a:pt x="68251" y="10800"/>
                </a:lnTo>
                <a:lnTo>
                  <a:pt x="54239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9. Приспособление для передвижения задней бабки ста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са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лыж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алаз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3203640" y="2276640"/>
            <a:ext cx="2520720" cy="431640"/>
          </a:xfrm>
          <a:custGeom>
            <a:avLst/>
            <a:gdLst>
              <a:gd name="textAreaLeft" fmla="*/ 27720 w 2520720"/>
              <a:gd name="textAreaRight" fmla="*/ 2493000 w 25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54" h="21600">
                <a:moveTo>
                  <a:pt x="0" y="0"/>
                </a:moveTo>
                <a:lnTo>
                  <a:pt x="126054" y="0"/>
                </a:lnTo>
                <a:lnTo>
                  <a:pt x="126054" y="21600"/>
                </a:lnTo>
                <a:lnTo>
                  <a:pt x="0" y="21600"/>
                </a:lnTo>
                <a:close/>
              </a:path>
              <a:path fill="lightenLess" w="126054" h="21600">
                <a:moveTo>
                  <a:pt x="0" y="0"/>
                </a:moveTo>
                <a:lnTo>
                  <a:pt x="126054" y="0"/>
                </a:lnTo>
                <a:lnTo>
                  <a:pt x="124654" y="1400"/>
                </a:lnTo>
                <a:lnTo>
                  <a:pt x="1400" y="1400"/>
                </a:lnTo>
                <a:close/>
              </a:path>
              <a:path fill="darken" w="126054" h="21600">
                <a:moveTo>
                  <a:pt x="126054" y="0"/>
                </a:moveTo>
                <a:lnTo>
                  <a:pt x="126054" y="21600"/>
                </a:lnTo>
                <a:lnTo>
                  <a:pt x="124654" y="20200"/>
                </a:lnTo>
                <a:lnTo>
                  <a:pt x="124654" y="1400"/>
                </a:lnTo>
                <a:close/>
              </a:path>
              <a:path fill="darkenLess" w="126054" h="21600">
                <a:moveTo>
                  <a:pt x="1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54" y="20200"/>
                </a:lnTo>
                <a:close/>
              </a:path>
              <a:path fill="lighten" w="1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54" h="21600">
                <a:moveTo>
                  <a:pt x="56021" y="3794"/>
                </a:moveTo>
                <a:lnTo>
                  <a:pt x="70033" y="10800"/>
                </a:lnTo>
                <a:lnTo>
                  <a:pt x="5602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4" action="ppaction://hlinksldjump"/>
          </p:cNvPr>
          <p:cNvSpPr/>
          <p:nvPr/>
        </p:nvSpPr>
        <p:spPr>
          <a:xfrm>
            <a:off x="3203640" y="2924280"/>
            <a:ext cx="2520720" cy="431640"/>
          </a:xfrm>
          <a:custGeom>
            <a:avLst/>
            <a:gdLst>
              <a:gd name="textAreaLeft" fmla="*/ 27720 w 2520720"/>
              <a:gd name="textAreaRight" fmla="*/ 2493000 w 25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54" h="21600">
                <a:moveTo>
                  <a:pt x="0" y="0"/>
                </a:moveTo>
                <a:lnTo>
                  <a:pt x="126054" y="0"/>
                </a:lnTo>
                <a:lnTo>
                  <a:pt x="126054" y="21600"/>
                </a:lnTo>
                <a:lnTo>
                  <a:pt x="0" y="21600"/>
                </a:lnTo>
                <a:close/>
              </a:path>
              <a:path fill="lightenLess" w="126054" h="21600">
                <a:moveTo>
                  <a:pt x="0" y="0"/>
                </a:moveTo>
                <a:lnTo>
                  <a:pt x="126054" y="0"/>
                </a:lnTo>
                <a:lnTo>
                  <a:pt x="124654" y="1400"/>
                </a:lnTo>
                <a:lnTo>
                  <a:pt x="1400" y="1400"/>
                </a:lnTo>
                <a:close/>
              </a:path>
              <a:path fill="darken" w="126054" h="21600">
                <a:moveTo>
                  <a:pt x="126054" y="0"/>
                </a:moveTo>
                <a:lnTo>
                  <a:pt x="126054" y="21600"/>
                </a:lnTo>
                <a:lnTo>
                  <a:pt x="124654" y="20200"/>
                </a:lnTo>
                <a:lnTo>
                  <a:pt x="124654" y="1400"/>
                </a:lnTo>
                <a:close/>
              </a:path>
              <a:path fill="darkenLess" w="126054" h="21600">
                <a:moveTo>
                  <a:pt x="1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54" y="20200"/>
                </a:lnTo>
                <a:close/>
              </a:path>
              <a:path fill="lighten" w="1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54" h="21600">
                <a:moveTo>
                  <a:pt x="56021" y="3794"/>
                </a:moveTo>
                <a:lnTo>
                  <a:pt x="70033" y="10800"/>
                </a:lnTo>
                <a:lnTo>
                  <a:pt x="5602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6" action="ppaction://hlinksldjump"/>
          </p:cNvPr>
          <p:cNvSpPr/>
          <p:nvPr/>
        </p:nvSpPr>
        <p:spPr>
          <a:xfrm>
            <a:off x="3203640" y="4149720"/>
            <a:ext cx="2520720" cy="431640"/>
          </a:xfrm>
          <a:custGeom>
            <a:avLst/>
            <a:gdLst>
              <a:gd name="textAreaLeft" fmla="*/ 27720 w 2520720"/>
              <a:gd name="textAreaRight" fmla="*/ 2493000 w 25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6054" h="21600">
                <a:moveTo>
                  <a:pt x="0" y="0"/>
                </a:moveTo>
                <a:lnTo>
                  <a:pt x="126054" y="0"/>
                </a:lnTo>
                <a:lnTo>
                  <a:pt x="126054" y="21600"/>
                </a:lnTo>
                <a:lnTo>
                  <a:pt x="0" y="21600"/>
                </a:lnTo>
                <a:close/>
              </a:path>
              <a:path fill="lightenLess" w="126054" h="21600">
                <a:moveTo>
                  <a:pt x="0" y="0"/>
                </a:moveTo>
                <a:lnTo>
                  <a:pt x="126054" y="0"/>
                </a:lnTo>
                <a:lnTo>
                  <a:pt x="124654" y="1400"/>
                </a:lnTo>
                <a:lnTo>
                  <a:pt x="1400" y="1400"/>
                </a:lnTo>
                <a:close/>
              </a:path>
              <a:path fill="darken" w="126054" h="21600">
                <a:moveTo>
                  <a:pt x="126054" y="0"/>
                </a:moveTo>
                <a:lnTo>
                  <a:pt x="126054" y="21600"/>
                </a:lnTo>
                <a:lnTo>
                  <a:pt x="124654" y="20200"/>
                </a:lnTo>
                <a:lnTo>
                  <a:pt x="124654" y="1400"/>
                </a:lnTo>
                <a:close/>
              </a:path>
              <a:path fill="darkenLess" w="126054" h="21600">
                <a:moveTo>
                  <a:pt x="1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654" y="20200"/>
                </a:lnTo>
                <a:close/>
              </a:path>
              <a:path fill="lighten" w="1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054" h="21600">
                <a:moveTo>
                  <a:pt x="56021" y="3794"/>
                </a:moveTo>
                <a:lnTo>
                  <a:pt x="70033" y="10800"/>
                </a:lnTo>
                <a:lnTo>
                  <a:pt x="56021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8" action="ppaction://hlinksldjump"/>
          </p:cNvPr>
          <p:cNvSpPr/>
          <p:nvPr/>
        </p:nvSpPr>
        <p:spPr>
          <a:xfrm>
            <a:off x="3203640" y="3500280"/>
            <a:ext cx="2520720" cy="432000"/>
          </a:xfrm>
          <a:custGeom>
            <a:avLst/>
            <a:gdLst>
              <a:gd name="textAreaLeft" fmla="*/ 27720 w 2520720"/>
              <a:gd name="textAreaRight" fmla="*/ 2493000 w 25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5949" h="21600">
                <a:moveTo>
                  <a:pt x="0" y="0"/>
                </a:moveTo>
                <a:lnTo>
                  <a:pt x="125949" y="0"/>
                </a:lnTo>
                <a:lnTo>
                  <a:pt x="125949" y="21600"/>
                </a:lnTo>
                <a:lnTo>
                  <a:pt x="0" y="21600"/>
                </a:lnTo>
                <a:close/>
              </a:path>
              <a:path fill="lightenLess" w="125949" h="21600">
                <a:moveTo>
                  <a:pt x="0" y="0"/>
                </a:moveTo>
                <a:lnTo>
                  <a:pt x="125949" y="0"/>
                </a:lnTo>
                <a:lnTo>
                  <a:pt x="124549" y="1400"/>
                </a:lnTo>
                <a:lnTo>
                  <a:pt x="1400" y="1400"/>
                </a:lnTo>
                <a:close/>
              </a:path>
              <a:path fill="darken" w="125949" h="21600">
                <a:moveTo>
                  <a:pt x="125949" y="0"/>
                </a:moveTo>
                <a:lnTo>
                  <a:pt x="125949" y="21600"/>
                </a:lnTo>
                <a:lnTo>
                  <a:pt x="124549" y="20200"/>
                </a:lnTo>
                <a:lnTo>
                  <a:pt x="124549" y="1400"/>
                </a:lnTo>
                <a:close/>
              </a:path>
              <a:path fill="darkenLess" w="125949" h="21600">
                <a:moveTo>
                  <a:pt x="125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49" y="20200"/>
                </a:lnTo>
                <a:close/>
              </a:path>
              <a:path fill="lighten" w="125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49" h="21600">
                <a:moveTo>
                  <a:pt x="55968" y="3794"/>
                </a:moveTo>
                <a:lnTo>
                  <a:pt x="69981" y="10800"/>
                </a:lnTo>
                <a:lnTo>
                  <a:pt x="55968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0. Деталь, соединяющая между собой вал и шестерн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шпо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шпиль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штиф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шур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348000" y="270828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18" h="21600">
                <a:moveTo>
                  <a:pt x="54203" y="3794"/>
                </a:moveTo>
                <a:lnTo>
                  <a:pt x="68215" y="10800"/>
                </a:lnTo>
                <a:lnTo>
                  <a:pt x="5420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3348000" y="328464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18" h="21600">
                <a:moveTo>
                  <a:pt x="54203" y="3794"/>
                </a:moveTo>
                <a:lnTo>
                  <a:pt x="68215" y="10800"/>
                </a:lnTo>
                <a:lnTo>
                  <a:pt x="5420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6" action="ppaction://hlinksldjump"/>
          </p:cNvPr>
          <p:cNvSpPr/>
          <p:nvPr/>
        </p:nvSpPr>
        <p:spPr>
          <a:xfrm>
            <a:off x="3348000" y="3933720"/>
            <a:ext cx="2448000" cy="43200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316" h="21600">
                <a:moveTo>
                  <a:pt x="0" y="0"/>
                </a:moveTo>
                <a:lnTo>
                  <a:pt x="122316" y="0"/>
                </a:lnTo>
                <a:lnTo>
                  <a:pt x="122316" y="21600"/>
                </a:lnTo>
                <a:lnTo>
                  <a:pt x="0" y="21600"/>
                </a:lnTo>
                <a:close/>
              </a:path>
              <a:path fill="lightenLess" w="122316" h="21600">
                <a:moveTo>
                  <a:pt x="0" y="0"/>
                </a:moveTo>
                <a:lnTo>
                  <a:pt x="122316" y="0"/>
                </a:lnTo>
                <a:lnTo>
                  <a:pt x="120916" y="1400"/>
                </a:lnTo>
                <a:lnTo>
                  <a:pt x="1400" y="1400"/>
                </a:lnTo>
                <a:close/>
              </a:path>
              <a:path fill="darken" w="122316" h="21600">
                <a:moveTo>
                  <a:pt x="122316" y="0"/>
                </a:moveTo>
                <a:lnTo>
                  <a:pt x="122316" y="21600"/>
                </a:lnTo>
                <a:lnTo>
                  <a:pt x="120916" y="20200"/>
                </a:lnTo>
                <a:lnTo>
                  <a:pt x="120916" y="1400"/>
                </a:lnTo>
                <a:close/>
              </a:path>
              <a:path fill="darkenLess" w="122316" h="21600">
                <a:moveTo>
                  <a:pt x="122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16" y="20200"/>
                </a:lnTo>
                <a:close/>
              </a:path>
              <a:path fill="lighten" w="122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16" h="21600">
                <a:moveTo>
                  <a:pt x="54152" y="3794"/>
                </a:moveTo>
                <a:lnTo>
                  <a:pt x="68165" y="10800"/>
                </a:lnTo>
                <a:lnTo>
                  <a:pt x="54152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8" action="ppaction://hlinksldjump"/>
          </p:cNvPr>
          <p:cNvSpPr/>
          <p:nvPr/>
        </p:nvSpPr>
        <p:spPr>
          <a:xfrm>
            <a:off x="3348000" y="213372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18" h="21600">
                <a:moveTo>
                  <a:pt x="54203" y="3794"/>
                </a:moveTo>
                <a:lnTo>
                  <a:pt x="68215" y="10800"/>
                </a:lnTo>
                <a:lnTo>
                  <a:pt x="54203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1. Из какого сплава изготавливают значки и брош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7772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"/>
              </a:rPr>
              <a:t>a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дюралюмин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в) лату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с) мельхи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д) томп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4211640" y="234792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4" action="ppaction://hlinksldjump"/>
          </p:cNvPr>
          <p:cNvSpPr/>
          <p:nvPr/>
        </p:nvSpPr>
        <p:spPr>
          <a:xfrm>
            <a:off x="4211640" y="2997360"/>
            <a:ext cx="2016000" cy="43164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18" h="21600">
                <a:moveTo>
                  <a:pt x="0" y="0"/>
                </a:moveTo>
                <a:lnTo>
                  <a:pt x="100818" y="0"/>
                </a:lnTo>
                <a:lnTo>
                  <a:pt x="100818" y="21600"/>
                </a:lnTo>
                <a:lnTo>
                  <a:pt x="0" y="21600"/>
                </a:lnTo>
                <a:close/>
              </a:path>
              <a:path fill="lightenLess" w="100818" h="21600">
                <a:moveTo>
                  <a:pt x="0" y="0"/>
                </a:moveTo>
                <a:lnTo>
                  <a:pt x="100818" y="0"/>
                </a:lnTo>
                <a:lnTo>
                  <a:pt x="99418" y="1400"/>
                </a:lnTo>
                <a:lnTo>
                  <a:pt x="1400" y="1400"/>
                </a:lnTo>
                <a:close/>
              </a:path>
              <a:path fill="darken" w="100818" h="21600">
                <a:moveTo>
                  <a:pt x="100818" y="0"/>
                </a:moveTo>
                <a:lnTo>
                  <a:pt x="100818" y="21600"/>
                </a:lnTo>
                <a:lnTo>
                  <a:pt x="99418" y="20200"/>
                </a:lnTo>
                <a:lnTo>
                  <a:pt x="99418" y="1400"/>
                </a:lnTo>
                <a:close/>
              </a:path>
              <a:path fill="darkenLess" w="100818" h="21600">
                <a:moveTo>
                  <a:pt x="100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18" y="20200"/>
                </a:lnTo>
                <a:close/>
              </a:path>
              <a:path fill="lighten" w="100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18" h="21600">
                <a:moveTo>
                  <a:pt x="43403" y="3794"/>
                </a:moveTo>
                <a:lnTo>
                  <a:pt x="57415" y="10800"/>
                </a:lnTo>
                <a:lnTo>
                  <a:pt x="4340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4211640" y="4221000"/>
            <a:ext cx="2016000" cy="43200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734" h="21600">
                <a:moveTo>
                  <a:pt x="0" y="0"/>
                </a:moveTo>
                <a:lnTo>
                  <a:pt x="100734" y="0"/>
                </a:lnTo>
                <a:lnTo>
                  <a:pt x="100734" y="21600"/>
                </a:lnTo>
                <a:lnTo>
                  <a:pt x="0" y="21600"/>
                </a:lnTo>
                <a:close/>
              </a:path>
              <a:path fill="lightenLess" w="100734" h="21600">
                <a:moveTo>
                  <a:pt x="0" y="0"/>
                </a:moveTo>
                <a:lnTo>
                  <a:pt x="100734" y="0"/>
                </a:lnTo>
                <a:lnTo>
                  <a:pt x="99334" y="1400"/>
                </a:lnTo>
                <a:lnTo>
                  <a:pt x="1400" y="1400"/>
                </a:lnTo>
                <a:close/>
              </a:path>
              <a:path fill="darken" w="100734" h="21600">
                <a:moveTo>
                  <a:pt x="100734" y="0"/>
                </a:moveTo>
                <a:lnTo>
                  <a:pt x="100734" y="21600"/>
                </a:lnTo>
                <a:lnTo>
                  <a:pt x="99334" y="20200"/>
                </a:lnTo>
                <a:lnTo>
                  <a:pt x="99334" y="1400"/>
                </a:lnTo>
                <a:close/>
              </a:path>
              <a:path fill="darkenLess" w="100734" h="21600">
                <a:moveTo>
                  <a:pt x="10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34" y="20200"/>
                </a:lnTo>
                <a:close/>
              </a:path>
              <a:path fill="lighten" w="10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734" h="21600">
                <a:moveTo>
                  <a:pt x="43361" y="3794"/>
                </a:moveTo>
                <a:lnTo>
                  <a:pt x="57374" y="10800"/>
                </a:lnTo>
                <a:lnTo>
                  <a:pt x="43361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8" action="ppaction://hlinksldjump"/>
          </p:cNvPr>
          <p:cNvSpPr/>
          <p:nvPr/>
        </p:nvSpPr>
        <p:spPr>
          <a:xfrm>
            <a:off x="4211640" y="3573360"/>
            <a:ext cx="2016000" cy="43200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734" h="21600">
                <a:moveTo>
                  <a:pt x="0" y="0"/>
                </a:moveTo>
                <a:lnTo>
                  <a:pt x="100734" y="0"/>
                </a:lnTo>
                <a:lnTo>
                  <a:pt x="100734" y="21600"/>
                </a:lnTo>
                <a:lnTo>
                  <a:pt x="0" y="21600"/>
                </a:lnTo>
                <a:close/>
              </a:path>
              <a:path fill="lightenLess" w="100734" h="21600">
                <a:moveTo>
                  <a:pt x="0" y="0"/>
                </a:moveTo>
                <a:lnTo>
                  <a:pt x="100734" y="0"/>
                </a:lnTo>
                <a:lnTo>
                  <a:pt x="99334" y="1400"/>
                </a:lnTo>
                <a:lnTo>
                  <a:pt x="1400" y="1400"/>
                </a:lnTo>
                <a:close/>
              </a:path>
              <a:path fill="darken" w="100734" h="21600">
                <a:moveTo>
                  <a:pt x="100734" y="0"/>
                </a:moveTo>
                <a:lnTo>
                  <a:pt x="100734" y="21600"/>
                </a:lnTo>
                <a:lnTo>
                  <a:pt x="99334" y="20200"/>
                </a:lnTo>
                <a:lnTo>
                  <a:pt x="99334" y="1400"/>
                </a:lnTo>
                <a:close/>
              </a:path>
              <a:path fill="darkenLess" w="100734" h="21600">
                <a:moveTo>
                  <a:pt x="10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34" y="20200"/>
                </a:lnTo>
                <a:close/>
              </a:path>
              <a:path fill="lighten" w="10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734" h="21600">
                <a:moveTo>
                  <a:pt x="43361" y="3794"/>
                </a:moveTo>
                <a:lnTo>
                  <a:pt x="57374" y="10800"/>
                </a:lnTo>
                <a:lnTo>
                  <a:pt x="43361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32. Кто строит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столя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плот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домуш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слес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3419640" y="1989000"/>
            <a:ext cx="2304720" cy="43200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58" h="21600">
                <a:moveTo>
                  <a:pt x="0" y="0"/>
                </a:moveTo>
                <a:lnTo>
                  <a:pt x="115158" y="0"/>
                </a:lnTo>
                <a:lnTo>
                  <a:pt x="115158" y="21600"/>
                </a:lnTo>
                <a:lnTo>
                  <a:pt x="0" y="21600"/>
                </a:lnTo>
                <a:close/>
              </a:path>
              <a:path fill="lightenLess" w="115158" h="21600">
                <a:moveTo>
                  <a:pt x="0" y="0"/>
                </a:moveTo>
                <a:lnTo>
                  <a:pt x="115158" y="0"/>
                </a:lnTo>
                <a:lnTo>
                  <a:pt x="113758" y="1400"/>
                </a:lnTo>
                <a:lnTo>
                  <a:pt x="1400" y="1400"/>
                </a:lnTo>
                <a:close/>
              </a:path>
              <a:path fill="darken" w="115158" h="21600">
                <a:moveTo>
                  <a:pt x="115158" y="0"/>
                </a:moveTo>
                <a:lnTo>
                  <a:pt x="115158" y="21600"/>
                </a:lnTo>
                <a:lnTo>
                  <a:pt x="113758" y="20200"/>
                </a:lnTo>
                <a:lnTo>
                  <a:pt x="113758" y="1400"/>
                </a:lnTo>
                <a:close/>
              </a:path>
              <a:path fill="darkenLess" w="115158" h="21600">
                <a:moveTo>
                  <a:pt x="115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8" y="20200"/>
                </a:lnTo>
                <a:close/>
              </a:path>
              <a:path fill="lighten" w="115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58" h="21600">
                <a:moveTo>
                  <a:pt x="50573" y="3794"/>
                </a:moveTo>
                <a:lnTo>
                  <a:pt x="64585" y="10800"/>
                </a:lnTo>
                <a:lnTo>
                  <a:pt x="5057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4" action="ppaction://hlinksldjump"/>
          </p:cNvPr>
          <p:cNvSpPr/>
          <p:nvPr/>
        </p:nvSpPr>
        <p:spPr>
          <a:xfrm>
            <a:off x="3419640" y="3213000"/>
            <a:ext cx="2304720" cy="43200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58" h="21600">
                <a:moveTo>
                  <a:pt x="0" y="0"/>
                </a:moveTo>
                <a:lnTo>
                  <a:pt x="115158" y="0"/>
                </a:lnTo>
                <a:lnTo>
                  <a:pt x="115158" y="21600"/>
                </a:lnTo>
                <a:lnTo>
                  <a:pt x="0" y="21600"/>
                </a:lnTo>
                <a:close/>
              </a:path>
              <a:path fill="lightenLess" w="115158" h="21600">
                <a:moveTo>
                  <a:pt x="0" y="0"/>
                </a:moveTo>
                <a:lnTo>
                  <a:pt x="115158" y="0"/>
                </a:lnTo>
                <a:lnTo>
                  <a:pt x="113758" y="1400"/>
                </a:lnTo>
                <a:lnTo>
                  <a:pt x="1400" y="1400"/>
                </a:lnTo>
                <a:close/>
              </a:path>
              <a:path fill="darken" w="115158" h="21600">
                <a:moveTo>
                  <a:pt x="115158" y="0"/>
                </a:moveTo>
                <a:lnTo>
                  <a:pt x="115158" y="21600"/>
                </a:lnTo>
                <a:lnTo>
                  <a:pt x="113758" y="20200"/>
                </a:lnTo>
                <a:lnTo>
                  <a:pt x="113758" y="1400"/>
                </a:lnTo>
                <a:close/>
              </a:path>
              <a:path fill="darkenLess" w="115158" h="21600">
                <a:moveTo>
                  <a:pt x="115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8" y="20200"/>
                </a:lnTo>
                <a:close/>
              </a:path>
              <a:path fill="lighten" w="115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58" h="21600">
                <a:moveTo>
                  <a:pt x="50573" y="3794"/>
                </a:moveTo>
                <a:lnTo>
                  <a:pt x="64585" y="10800"/>
                </a:lnTo>
                <a:lnTo>
                  <a:pt x="5057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6" action="ppaction://hlinksldjump"/>
          </p:cNvPr>
          <p:cNvSpPr/>
          <p:nvPr/>
        </p:nvSpPr>
        <p:spPr>
          <a:xfrm>
            <a:off x="3419640" y="3862440"/>
            <a:ext cx="2304720" cy="43164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54" h="21600">
                <a:moveTo>
                  <a:pt x="0" y="0"/>
                </a:moveTo>
                <a:lnTo>
                  <a:pt x="115254" y="0"/>
                </a:lnTo>
                <a:lnTo>
                  <a:pt x="115254" y="21600"/>
                </a:lnTo>
                <a:lnTo>
                  <a:pt x="0" y="21600"/>
                </a:lnTo>
                <a:close/>
              </a:path>
              <a:path fill="lightenLess" w="115254" h="21600">
                <a:moveTo>
                  <a:pt x="0" y="0"/>
                </a:moveTo>
                <a:lnTo>
                  <a:pt x="115254" y="0"/>
                </a:lnTo>
                <a:lnTo>
                  <a:pt x="113854" y="1400"/>
                </a:lnTo>
                <a:lnTo>
                  <a:pt x="1400" y="1400"/>
                </a:lnTo>
                <a:close/>
              </a:path>
              <a:path fill="darken" w="115254" h="21600">
                <a:moveTo>
                  <a:pt x="115254" y="0"/>
                </a:moveTo>
                <a:lnTo>
                  <a:pt x="115254" y="21600"/>
                </a:lnTo>
                <a:lnTo>
                  <a:pt x="113854" y="20200"/>
                </a:lnTo>
                <a:lnTo>
                  <a:pt x="113854" y="1400"/>
                </a:lnTo>
                <a:close/>
              </a:path>
              <a:path fill="darkenLess" w="115254" h="21600">
                <a:moveTo>
                  <a:pt x="11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54" y="20200"/>
                </a:lnTo>
                <a:close/>
              </a:path>
              <a:path fill="lighten" w="11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54" h="21600">
                <a:moveTo>
                  <a:pt x="50621" y="3794"/>
                </a:moveTo>
                <a:lnTo>
                  <a:pt x="64633" y="10800"/>
                </a:lnTo>
                <a:lnTo>
                  <a:pt x="50621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8" action="ppaction://hlinksldjump"/>
          </p:cNvPr>
          <p:cNvSpPr/>
          <p:nvPr/>
        </p:nvSpPr>
        <p:spPr>
          <a:xfrm>
            <a:off x="3419640" y="2565360"/>
            <a:ext cx="2304720" cy="432000"/>
          </a:xfrm>
          <a:custGeom>
            <a:avLst/>
            <a:gdLst>
              <a:gd name="textAreaLeft" fmla="*/ 27720 w 2304720"/>
              <a:gd name="textAreaRight" fmla="*/ 2277000 w 23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58" h="21600">
                <a:moveTo>
                  <a:pt x="0" y="0"/>
                </a:moveTo>
                <a:lnTo>
                  <a:pt x="115158" y="0"/>
                </a:lnTo>
                <a:lnTo>
                  <a:pt x="115158" y="21600"/>
                </a:lnTo>
                <a:lnTo>
                  <a:pt x="0" y="21600"/>
                </a:lnTo>
                <a:close/>
              </a:path>
              <a:path fill="lightenLess" w="115158" h="21600">
                <a:moveTo>
                  <a:pt x="0" y="0"/>
                </a:moveTo>
                <a:lnTo>
                  <a:pt x="115158" y="0"/>
                </a:lnTo>
                <a:lnTo>
                  <a:pt x="113758" y="1400"/>
                </a:lnTo>
                <a:lnTo>
                  <a:pt x="1400" y="1400"/>
                </a:lnTo>
                <a:close/>
              </a:path>
              <a:path fill="darken" w="115158" h="21600">
                <a:moveTo>
                  <a:pt x="115158" y="0"/>
                </a:moveTo>
                <a:lnTo>
                  <a:pt x="115158" y="21600"/>
                </a:lnTo>
                <a:lnTo>
                  <a:pt x="113758" y="20200"/>
                </a:lnTo>
                <a:lnTo>
                  <a:pt x="113758" y="1400"/>
                </a:lnTo>
                <a:close/>
              </a:path>
              <a:path fill="darkenLess" w="115158" h="21600">
                <a:moveTo>
                  <a:pt x="115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8" y="20200"/>
                </a:lnTo>
                <a:close/>
              </a:path>
              <a:path fill="lighten" w="115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58" h="21600">
                <a:moveTo>
                  <a:pt x="50573" y="3794"/>
                </a:moveTo>
                <a:lnTo>
                  <a:pt x="64585" y="10800"/>
                </a:lnTo>
                <a:lnTo>
                  <a:pt x="50573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"/>
              </a:rPr>
              <a:t>33. Часть сцепки с\х орудия и трак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кул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бро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серь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ожер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48000" y="2205000"/>
            <a:ext cx="2519280" cy="43200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5877" h="21600">
                <a:moveTo>
                  <a:pt x="0" y="0"/>
                </a:moveTo>
                <a:lnTo>
                  <a:pt x="125877" y="0"/>
                </a:lnTo>
                <a:lnTo>
                  <a:pt x="125877" y="21600"/>
                </a:lnTo>
                <a:lnTo>
                  <a:pt x="0" y="21600"/>
                </a:lnTo>
                <a:close/>
              </a:path>
              <a:path fill="lightenLess" w="125877" h="21600">
                <a:moveTo>
                  <a:pt x="0" y="0"/>
                </a:moveTo>
                <a:lnTo>
                  <a:pt x="125877" y="0"/>
                </a:lnTo>
                <a:lnTo>
                  <a:pt x="124477" y="1400"/>
                </a:lnTo>
                <a:lnTo>
                  <a:pt x="1400" y="1400"/>
                </a:lnTo>
                <a:close/>
              </a:path>
              <a:path fill="darken" w="125877" h="21600">
                <a:moveTo>
                  <a:pt x="125877" y="0"/>
                </a:moveTo>
                <a:lnTo>
                  <a:pt x="125877" y="21600"/>
                </a:lnTo>
                <a:lnTo>
                  <a:pt x="124477" y="20200"/>
                </a:lnTo>
                <a:lnTo>
                  <a:pt x="124477" y="1400"/>
                </a:lnTo>
                <a:close/>
              </a:path>
              <a:path fill="darkenLess" w="125877" h="21600">
                <a:moveTo>
                  <a:pt x="125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477" y="20200"/>
                </a:lnTo>
                <a:close/>
              </a:path>
              <a:path fill="lighten" w="125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877" h="21600">
                <a:moveTo>
                  <a:pt x="55932" y="3794"/>
                </a:moveTo>
                <a:lnTo>
                  <a:pt x="69945" y="10800"/>
                </a:lnTo>
                <a:lnTo>
                  <a:pt x="55932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78136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82" h="21600">
                <a:moveTo>
                  <a:pt x="55985" y="3794"/>
                </a:moveTo>
                <a:lnTo>
                  <a:pt x="69997" y="10800"/>
                </a:lnTo>
                <a:lnTo>
                  <a:pt x="55985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4" action="ppaction://hlinksldjump"/>
          </p:cNvPr>
          <p:cNvSpPr/>
          <p:nvPr/>
        </p:nvSpPr>
        <p:spPr>
          <a:xfrm>
            <a:off x="3348000" y="407844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82" h="21600">
                <a:moveTo>
                  <a:pt x="55985" y="3794"/>
                </a:moveTo>
                <a:lnTo>
                  <a:pt x="69997" y="10800"/>
                </a:lnTo>
                <a:lnTo>
                  <a:pt x="55985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6" action="ppaction://hlinksldjump"/>
          </p:cNvPr>
          <p:cNvSpPr/>
          <p:nvPr/>
        </p:nvSpPr>
        <p:spPr>
          <a:xfrm>
            <a:off x="3348000" y="342900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82" h="21600">
                <a:moveTo>
                  <a:pt x="55985" y="3794"/>
                </a:moveTo>
                <a:lnTo>
                  <a:pt x="69997" y="10800"/>
                </a:lnTo>
                <a:lnTo>
                  <a:pt x="55985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4. Сверла быв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4644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)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вост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пер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лапча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шерстя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64000" y="191628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18" h="21600">
                <a:moveTo>
                  <a:pt x="54203" y="3794"/>
                </a:moveTo>
                <a:lnTo>
                  <a:pt x="68215" y="10800"/>
                </a:lnTo>
                <a:lnTo>
                  <a:pt x="54203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139920"/>
            <a:ext cx="2448000" cy="43200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316" h="21600">
                <a:moveTo>
                  <a:pt x="0" y="0"/>
                </a:moveTo>
                <a:lnTo>
                  <a:pt x="122316" y="0"/>
                </a:lnTo>
                <a:lnTo>
                  <a:pt x="122316" y="21600"/>
                </a:lnTo>
                <a:lnTo>
                  <a:pt x="0" y="21600"/>
                </a:lnTo>
                <a:close/>
              </a:path>
              <a:path fill="lightenLess" w="122316" h="21600">
                <a:moveTo>
                  <a:pt x="0" y="0"/>
                </a:moveTo>
                <a:lnTo>
                  <a:pt x="122316" y="0"/>
                </a:lnTo>
                <a:lnTo>
                  <a:pt x="120916" y="1400"/>
                </a:lnTo>
                <a:lnTo>
                  <a:pt x="1400" y="1400"/>
                </a:lnTo>
                <a:close/>
              </a:path>
              <a:path fill="darken" w="122316" h="21600">
                <a:moveTo>
                  <a:pt x="122316" y="0"/>
                </a:moveTo>
                <a:lnTo>
                  <a:pt x="122316" y="21600"/>
                </a:lnTo>
                <a:lnTo>
                  <a:pt x="120916" y="20200"/>
                </a:lnTo>
                <a:lnTo>
                  <a:pt x="120916" y="1400"/>
                </a:lnTo>
                <a:close/>
              </a:path>
              <a:path fill="darkenLess" w="122316" h="21600">
                <a:moveTo>
                  <a:pt x="122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16" y="20200"/>
                </a:lnTo>
                <a:close/>
              </a:path>
              <a:path fill="lighten" w="122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16" h="21600">
                <a:moveTo>
                  <a:pt x="54152" y="3794"/>
                </a:moveTo>
                <a:lnTo>
                  <a:pt x="68165" y="10800"/>
                </a:lnTo>
                <a:lnTo>
                  <a:pt x="5415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64000" y="378936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18" h="21600">
                <a:moveTo>
                  <a:pt x="54203" y="3794"/>
                </a:moveTo>
                <a:lnTo>
                  <a:pt x="68215" y="10800"/>
                </a:lnTo>
                <a:lnTo>
                  <a:pt x="5420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2492280"/>
            <a:ext cx="2448000" cy="43200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316" h="21600">
                <a:moveTo>
                  <a:pt x="0" y="0"/>
                </a:moveTo>
                <a:lnTo>
                  <a:pt x="122316" y="0"/>
                </a:lnTo>
                <a:lnTo>
                  <a:pt x="122316" y="21600"/>
                </a:lnTo>
                <a:lnTo>
                  <a:pt x="0" y="21600"/>
                </a:lnTo>
                <a:close/>
              </a:path>
              <a:path fill="lightenLess" w="122316" h="21600">
                <a:moveTo>
                  <a:pt x="0" y="0"/>
                </a:moveTo>
                <a:lnTo>
                  <a:pt x="122316" y="0"/>
                </a:lnTo>
                <a:lnTo>
                  <a:pt x="120916" y="1400"/>
                </a:lnTo>
                <a:lnTo>
                  <a:pt x="1400" y="1400"/>
                </a:lnTo>
                <a:close/>
              </a:path>
              <a:path fill="darken" w="122316" h="21600">
                <a:moveTo>
                  <a:pt x="122316" y="0"/>
                </a:moveTo>
                <a:lnTo>
                  <a:pt x="122316" y="21600"/>
                </a:lnTo>
                <a:lnTo>
                  <a:pt x="120916" y="20200"/>
                </a:lnTo>
                <a:lnTo>
                  <a:pt x="120916" y="1400"/>
                </a:lnTo>
                <a:close/>
              </a:path>
              <a:path fill="darkenLess" w="122316" h="21600">
                <a:moveTo>
                  <a:pt x="122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16" y="20200"/>
                </a:lnTo>
                <a:close/>
              </a:path>
              <a:path fill="lighten" w="122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16" h="21600">
                <a:moveTo>
                  <a:pt x="54152" y="3794"/>
                </a:moveTo>
                <a:lnTo>
                  <a:pt x="68165" y="10800"/>
                </a:lnTo>
                <a:lnTo>
                  <a:pt x="5415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5. Солдатик из сказки был сделан 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4644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сереб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свин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916280"/>
            <a:ext cx="2447640" cy="431640"/>
          </a:xfrm>
          <a:custGeom>
            <a:avLst/>
            <a:gdLst>
              <a:gd name="textAreaLeft" fmla="*/ 27720 w 2447640"/>
              <a:gd name="textAreaRight" fmla="*/ 2419920 w 24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00" h="21600">
                <a:moveTo>
                  <a:pt x="0" y="0"/>
                </a:moveTo>
                <a:lnTo>
                  <a:pt x="122400" y="0"/>
                </a:lnTo>
                <a:lnTo>
                  <a:pt x="122400" y="21600"/>
                </a:lnTo>
                <a:lnTo>
                  <a:pt x="0" y="21600"/>
                </a:lnTo>
                <a:close/>
              </a:path>
              <a:path fill="lightenLess" w="122400" h="21600">
                <a:moveTo>
                  <a:pt x="0" y="0"/>
                </a:moveTo>
                <a:lnTo>
                  <a:pt x="122400" y="0"/>
                </a:lnTo>
                <a:lnTo>
                  <a:pt x="121000" y="1400"/>
                </a:lnTo>
                <a:lnTo>
                  <a:pt x="1400" y="1400"/>
                </a:lnTo>
                <a:close/>
              </a:path>
              <a:path fill="darken" w="122400" h="21600">
                <a:moveTo>
                  <a:pt x="122400" y="0"/>
                </a:moveTo>
                <a:lnTo>
                  <a:pt x="122400" y="21600"/>
                </a:lnTo>
                <a:lnTo>
                  <a:pt x="121000" y="20200"/>
                </a:lnTo>
                <a:lnTo>
                  <a:pt x="121000" y="1400"/>
                </a:lnTo>
                <a:close/>
              </a:path>
              <a:path fill="darkenLess" w="122400" h="21600">
                <a:moveTo>
                  <a:pt x="12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00" y="20200"/>
                </a:lnTo>
                <a:close/>
              </a:path>
              <a:path fill="lighten" w="12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00" h="21600">
                <a:moveTo>
                  <a:pt x="54194" y="3794"/>
                </a:moveTo>
                <a:lnTo>
                  <a:pt x="68206" y="10800"/>
                </a:lnTo>
                <a:lnTo>
                  <a:pt x="541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2565360"/>
            <a:ext cx="2447640" cy="432000"/>
          </a:xfrm>
          <a:custGeom>
            <a:avLst/>
            <a:gdLst>
              <a:gd name="textAreaLeft" fmla="*/ 27720 w 2447640"/>
              <a:gd name="textAreaRight" fmla="*/ 2419920 w 24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298" h="21600">
                <a:moveTo>
                  <a:pt x="0" y="0"/>
                </a:moveTo>
                <a:lnTo>
                  <a:pt x="122298" y="0"/>
                </a:lnTo>
                <a:lnTo>
                  <a:pt x="122298" y="21600"/>
                </a:lnTo>
                <a:lnTo>
                  <a:pt x="0" y="21600"/>
                </a:lnTo>
                <a:close/>
              </a:path>
              <a:path fill="lightenLess" w="122298" h="21600">
                <a:moveTo>
                  <a:pt x="0" y="0"/>
                </a:moveTo>
                <a:lnTo>
                  <a:pt x="122298" y="0"/>
                </a:lnTo>
                <a:lnTo>
                  <a:pt x="120898" y="1400"/>
                </a:lnTo>
                <a:lnTo>
                  <a:pt x="1400" y="1400"/>
                </a:lnTo>
                <a:close/>
              </a:path>
              <a:path fill="darken" w="122298" h="21600">
                <a:moveTo>
                  <a:pt x="122298" y="0"/>
                </a:moveTo>
                <a:lnTo>
                  <a:pt x="122298" y="21600"/>
                </a:lnTo>
                <a:lnTo>
                  <a:pt x="120898" y="20200"/>
                </a:lnTo>
                <a:lnTo>
                  <a:pt x="120898" y="1400"/>
                </a:lnTo>
                <a:close/>
              </a:path>
              <a:path fill="darkenLess" w="122298" h="21600">
                <a:moveTo>
                  <a:pt x="122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898" y="20200"/>
                </a:lnTo>
                <a:close/>
              </a:path>
              <a:path fill="lighten" w="122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298" h="21600">
                <a:moveTo>
                  <a:pt x="54143" y="3794"/>
                </a:moveTo>
                <a:lnTo>
                  <a:pt x="68156" y="10800"/>
                </a:lnTo>
                <a:lnTo>
                  <a:pt x="5414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789360"/>
            <a:ext cx="2447640" cy="431640"/>
          </a:xfrm>
          <a:custGeom>
            <a:avLst/>
            <a:gdLst>
              <a:gd name="textAreaLeft" fmla="*/ 27720 w 2447640"/>
              <a:gd name="textAreaRight" fmla="*/ 2419920 w 24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00" h="21600">
                <a:moveTo>
                  <a:pt x="0" y="0"/>
                </a:moveTo>
                <a:lnTo>
                  <a:pt x="122400" y="0"/>
                </a:lnTo>
                <a:lnTo>
                  <a:pt x="122400" y="21600"/>
                </a:lnTo>
                <a:lnTo>
                  <a:pt x="0" y="21600"/>
                </a:lnTo>
                <a:close/>
              </a:path>
              <a:path fill="lightenLess" w="122400" h="21600">
                <a:moveTo>
                  <a:pt x="0" y="0"/>
                </a:moveTo>
                <a:lnTo>
                  <a:pt x="122400" y="0"/>
                </a:lnTo>
                <a:lnTo>
                  <a:pt x="121000" y="1400"/>
                </a:lnTo>
                <a:lnTo>
                  <a:pt x="1400" y="1400"/>
                </a:lnTo>
                <a:close/>
              </a:path>
              <a:path fill="darken" w="122400" h="21600">
                <a:moveTo>
                  <a:pt x="122400" y="0"/>
                </a:moveTo>
                <a:lnTo>
                  <a:pt x="122400" y="21600"/>
                </a:lnTo>
                <a:lnTo>
                  <a:pt x="121000" y="20200"/>
                </a:lnTo>
                <a:lnTo>
                  <a:pt x="121000" y="1400"/>
                </a:lnTo>
                <a:close/>
              </a:path>
              <a:path fill="darkenLess" w="122400" h="21600">
                <a:moveTo>
                  <a:pt x="12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00" y="20200"/>
                </a:lnTo>
                <a:close/>
              </a:path>
              <a:path fill="lighten" w="12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00" h="21600">
                <a:moveTo>
                  <a:pt x="54194" y="3794"/>
                </a:moveTo>
                <a:lnTo>
                  <a:pt x="68206" y="10800"/>
                </a:lnTo>
                <a:lnTo>
                  <a:pt x="541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3141720"/>
            <a:ext cx="2447640" cy="431640"/>
          </a:xfrm>
          <a:custGeom>
            <a:avLst/>
            <a:gdLst>
              <a:gd name="textAreaLeft" fmla="*/ 27720 w 2447640"/>
              <a:gd name="textAreaRight" fmla="*/ 2419920 w 24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00" h="21600">
                <a:moveTo>
                  <a:pt x="0" y="0"/>
                </a:moveTo>
                <a:lnTo>
                  <a:pt x="122400" y="0"/>
                </a:lnTo>
                <a:lnTo>
                  <a:pt x="122400" y="21600"/>
                </a:lnTo>
                <a:lnTo>
                  <a:pt x="0" y="21600"/>
                </a:lnTo>
                <a:close/>
              </a:path>
              <a:path fill="lightenLess" w="122400" h="21600">
                <a:moveTo>
                  <a:pt x="0" y="0"/>
                </a:moveTo>
                <a:lnTo>
                  <a:pt x="122400" y="0"/>
                </a:lnTo>
                <a:lnTo>
                  <a:pt x="121000" y="1400"/>
                </a:lnTo>
                <a:lnTo>
                  <a:pt x="1400" y="1400"/>
                </a:lnTo>
                <a:close/>
              </a:path>
              <a:path fill="darken" w="122400" h="21600">
                <a:moveTo>
                  <a:pt x="122400" y="0"/>
                </a:moveTo>
                <a:lnTo>
                  <a:pt x="122400" y="21600"/>
                </a:lnTo>
                <a:lnTo>
                  <a:pt x="121000" y="20200"/>
                </a:lnTo>
                <a:lnTo>
                  <a:pt x="121000" y="1400"/>
                </a:lnTo>
                <a:close/>
              </a:path>
              <a:path fill="darkenLess" w="122400" h="21600">
                <a:moveTo>
                  <a:pt x="12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00" y="20200"/>
                </a:lnTo>
                <a:close/>
              </a:path>
              <a:path fill="lighten" w="12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00" h="21600">
                <a:moveTo>
                  <a:pt x="54194" y="3794"/>
                </a:moveTo>
                <a:lnTo>
                  <a:pt x="68206" y="10800"/>
                </a:lnTo>
                <a:lnTo>
                  <a:pt x="541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6. Искусственный пиломатериал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ФС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Д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СП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32000" y="2131920"/>
            <a:ext cx="2303640" cy="43200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04" h="21600">
                <a:moveTo>
                  <a:pt x="0" y="0"/>
                </a:moveTo>
                <a:lnTo>
                  <a:pt x="115104" y="0"/>
                </a:lnTo>
                <a:lnTo>
                  <a:pt x="115104" y="21600"/>
                </a:lnTo>
                <a:lnTo>
                  <a:pt x="0" y="21600"/>
                </a:lnTo>
                <a:close/>
              </a:path>
              <a:path fill="lightenLess" w="115104" h="21600">
                <a:moveTo>
                  <a:pt x="0" y="0"/>
                </a:moveTo>
                <a:lnTo>
                  <a:pt x="115104" y="0"/>
                </a:lnTo>
                <a:lnTo>
                  <a:pt x="113704" y="1400"/>
                </a:lnTo>
                <a:lnTo>
                  <a:pt x="1400" y="1400"/>
                </a:lnTo>
                <a:close/>
              </a:path>
              <a:path fill="darken" w="115104" h="21600">
                <a:moveTo>
                  <a:pt x="115104" y="0"/>
                </a:moveTo>
                <a:lnTo>
                  <a:pt x="115104" y="21600"/>
                </a:lnTo>
                <a:lnTo>
                  <a:pt x="113704" y="20200"/>
                </a:lnTo>
                <a:lnTo>
                  <a:pt x="113704" y="1400"/>
                </a:lnTo>
                <a:close/>
              </a:path>
              <a:path fill="darkenLess" w="115104" h="21600">
                <a:moveTo>
                  <a:pt x="11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04" y="20200"/>
                </a:lnTo>
                <a:close/>
              </a:path>
              <a:path fill="lighten" w="11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04" h="21600">
                <a:moveTo>
                  <a:pt x="50546" y="3794"/>
                </a:moveTo>
                <a:lnTo>
                  <a:pt x="64559" y="10800"/>
                </a:lnTo>
                <a:lnTo>
                  <a:pt x="5054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2000" y="3355920"/>
            <a:ext cx="2303640" cy="43200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104" h="21600">
                <a:moveTo>
                  <a:pt x="0" y="0"/>
                </a:moveTo>
                <a:lnTo>
                  <a:pt x="115104" y="0"/>
                </a:lnTo>
                <a:lnTo>
                  <a:pt x="115104" y="21600"/>
                </a:lnTo>
                <a:lnTo>
                  <a:pt x="0" y="21600"/>
                </a:lnTo>
                <a:close/>
              </a:path>
              <a:path fill="lightenLess" w="115104" h="21600">
                <a:moveTo>
                  <a:pt x="0" y="0"/>
                </a:moveTo>
                <a:lnTo>
                  <a:pt x="115104" y="0"/>
                </a:lnTo>
                <a:lnTo>
                  <a:pt x="113704" y="1400"/>
                </a:lnTo>
                <a:lnTo>
                  <a:pt x="1400" y="1400"/>
                </a:lnTo>
                <a:close/>
              </a:path>
              <a:path fill="darken" w="115104" h="21600">
                <a:moveTo>
                  <a:pt x="115104" y="0"/>
                </a:moveTo>
                <a:lnTo>
                  <a:pt x="115104" y="21600"/>
                </a:lnTo>
                <a:lnTo>
                  <a:pt x="113704" y="20200"/>
                </a:lnTo>
                <a:lnTo>
                  <a:pt x="113704" y="1400"/>
                </a:lnTo>
                <a:close/>
              </a:path>
              <a:path fill="darkenLess" w="115104" h="21600">
                <a:moveTo>
                  <a:pt x="11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04" y="20200"/>
                </a:lnTo>
                <a:close/>
              </a:path>
              <a:path fill="lighten" w="11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04" h="21600">
                <a:moveTo>
                  <a:pt x="50546" y="3794"/>
                </a:moveTo>
                <a:lnTo>
                  <a:pt x="64559" y="10800"/>
                </a:lnTo>
                <a:lnTo>
                  <a:pt x="5054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32000" y="400536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708280"/>
            <a:ext cx="2303640" cy="431640"/>
          </a:xfrm>
          <a:custGeom>
            <a:avLst/>
            <a:gdLst>
              <a:gd name="textAreaLeft" fmla="*/ 27720 w 2303640"/>
              <a:gd name="textAreaRight" fmla="*/ 2275920 w 230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200" h="21600">
                <a:moveTo>
                  <a:pt x="0" y="0"/>
                </a:moveTo>
                <a:lnTo>
                  <a:pt x="115200" y="0"/>
                </a:lnTo>
                <a:lnTo>
                  <a:pt x="115200" y="21600"/>
                </a:lnTo>
                <a:lnTo>
                  <a:pt x="0" y="21600"/>
                </a:lnTo>
                <a:close/>
              </a:path>
              <a:path fill="lightenLess" w="115200" h="21600">
                <a:moveTo>
                  <a:pt x="0" y="0"/>
                </a:moveTo>
                <a:lnTo>
                  <a:pt x="115200" y="0"/>
                </a:lnTo>
                <a:lnTo>
                  <a:pt x="113800" y="1400"/>
                </a:lnTo>
                <a:lnTo>
                  <a:pt x="1400" y="1400"/>
                </a:lnTo>
                <a:close/>
              </a:path>
              <a:path fill="darken" w="115200" h="21600">
                <a:moveTo>
                  <a:pt x="115200" y="0"/>
                </a:moveTo>
                <a:lnTo>
                  <a:pt x="115200" y="21600"/>
                </a:lnTo>
                <a:lnTo>
                  <a:pt x="113800" y="20200"/>
                </a:lnTo>
                <a:lnTo>
                  <a:pt x="113800" y="1400"/>
                </a:lnTo>
                <a:close/>
              </a:path>
              <a:path fill="darkenLess" w="115200" h="21600">
                <a:moveTo>
                  <a:pt x="11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00" y="20200"/>
                </a:lnTo>
                <a:close/>
              </a:path>
              <a:path fill="lighten" w="11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200" h="21600">
                <a:moveTo>
                  <a:pt x="50594" y="3794"/>
                </a:moveTo>
                <a:lnTo>
                  <a:pt x="64606" y="10800"/>
                </a:lnTo>
                <a:lnTo>
                  <a:pt x="505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7. Измерительная шкала штангенциркуля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нони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нострадам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наутилу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надф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51280" y="2852640"/>
            <a:ext cx="2160720" cy="432000"/>
          </a:xfrm>
          <a:custGeom>
            <a:avLst/>
            <a:gdLst>
              <a:gd name="textAreaLeft" fmla="*/ 27720 w 2160720"/>
              <a:gd name="textAreaRight" fmla="*/ 2133000 w 216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64" h="21600">
                <a:moveTo>
                  <a:pt x="46976" y="3794"/>
                </a:moveTo>
                <a:lnTo>
                  <a:pt x="60988" y="10800"/>
                </a:lnTo>
                <a:lnTo>
                  <a:pt x="4697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1280" y="3429000"/>
            <a:ext cx="2160720" cy="431640"/>
          </a:xfrm>
          <a:custGeom>
            <a:avLst/>
            <a:gdLst>
              <a:gd name="textAreaLeft" fmla="*/ 27720 w 2160720"/>
              <a:gd name="textAreaRight" fmla="*/ 2133000 w 216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8054" h="21600">
                <a:moveTo>
                  <a:pt x="0" y="0"/>
                </a:moveTo>
                <a:lnTo>
                  <a:pt x="108054" y="0"/>
                </a:lnTo>
                <a:lnTo>
                  <a:pt x="108054" y="21600"/>
                </a:lnTo>
                <a:lnTo>
                  <a:pt x="0" y="21600"/>
                </a:lnTo>
                <a:close/>
              </a:path>
              <a:path fill="lightenLess" w="108054" h="21600">
                <a:moveTo>
                  <a:pt x="0" y="0"/>
                </a:moveTo>
                <a:lnTo>
                  <a:pt x="108054" y="0"/>
                </a:lnTo>
                <a:lnTo>
                  <a:pt x="106654" y="1400"/>
                </a:lnTo>
                <a:lnTo>
                  <a:pt x="1400" y="1400"/>
                </a:lnTo>
                <a:close/>
              </a:path>
              <a:path fill="darken" w="108054" h="21600">
                <a:moveTo>
                  <a:pt x="108054" y="0"/>
                </a:moveTo>
                <a:lnTo>
                  <a:pt x="108054" y="21600"/>
                </a:lnTo>
                <a:lnTo>
                  <a:pt x="106654" y="20200"/>
                </a:lnTo>
                <a:lnTo>
                  <a:pt x="106654" y="1400"/>
                </a:lnTo>
                <a:close/>
              </a:path>
              <a:path fill="darkenLess" w="108054" h="21600">
                <a:moveTo>
                  <a:pt x="10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54" y="20200"/>
                </a:lnTo>
                <a:close/>
              </a:path>
              <a:path fill="lighten" w="10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54" h="21600">
                <a:moveTo>
                  <a:pt x="47021" y="3794"/>
                </a:moveTo>
                <a:lnTo>
                  <a:pt x="61033" y="10800"/>
                </a:lnTo>
                <a:lnTo>
                  <a:pt x="4702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51280" y="4078440"/>
            <a:ext cx="2160720" cy="431640"/>
          </a:xfrm>
          <a:custGeom>
            <a:avLst/>
            <a:gdLst>
              <a:gd name="textAreaLeft" fmla="*/ 27720 w 2160720"/>
              <a:gd name="textAreaRight" fmla="*/ 2133000 w 216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8054" h="21600">
                <a:moveTo>
                  <a:pt x="0" y="0"/>
                </a:moveTo>
                <a:lnTo>
                  <a:pt x="108054" y="0"/>
                </a:lnTo>
                <a:lnTo>
                  <a:pt x="108054" y="21600"/>
                </a:lnTo>
                <a:lnTo>
                  <a:pt x="0" y="21600"/>
                </a:lnTo>
                <a:close/>
              </a:path>
              <a:path fill="lightenLess" w="108054" h="21600">
                <a:moveTo>
                  <a:pt x="0" y="0"/>
                </a:moveTo>
                <a:lnTo>
                  <a:pt x="108054" y="0"/>
                </a:lnTo>
                <a:lnTo>
                  <a:pt x="106654" y="1400"/>
                </a:lnTo>
                <a:lnTo>
                  <a:pt x="1400" y="1400"/>
                </a:lnTo>
                <a:close/>
              </a:path>
              <a:path fill="darken" w="108054" h="21600">
                <a:moveTo>
                  <a:pt x="108054" y="0"/>
                </a:moveTo>
                <a:lnTo>
                  <a:pt x="108054" y="21600"/>
                </a:lnTo>
                <a:lnTo>
                  <a:pt x="106654" y="20200"/>
                </a:lnTo>
                <a:lnTo>
                  <a:pt x="106654" y="1400"/>
                </a:lnTo>
                <a:close/>
              </a:path>
              <a:path fill="darkenLess" w="108054" h="21600">
                <a:moveTo>
                  <a:pt x="10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54" y="20200"/>
                </a:lnTo>
                <a:close/>
              </a:path>
              <a:path fill="lighten" w="10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54" h="21600">
                <a:moveTo>
                  <a:pt x="47021" y="3794"/>
                </a:moveTo>
                <a:lnTo>
                  <a:pt x="61033" y="10800"/>
                </a:lnTo>
                <a:lnTo>
                  <a:pt x="4702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2276640"/>
            <a:ext cx="2160720" cy="431640"/>
          </a:xfrm>
          <a:custGeom>
            <a:avLst/>
            <a:gdLst>
              <a:gd name="textAreaLeft" fmla="*/ 27720 w 2160720"/>
              <a:gd name="textAreaRight" fmla="*/ 2133000 w 216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8054" h="21600">
                <a:moveTo>
                  <a:pt x="0" y="0"/>
                </a:moveTo>
                <a:lnTo>
                  <a:pt x="108054" y="0"/>
                </a:lnTo>
                <a:lnTo>
                  <a:pt x="108054" y="21600"/>
                </a:lnTo>
                <a:lnTo>
                  <a:pt x="0" y="21600"/>
                </a:lnTo>
                <a:close/>
              </a:path>
              <a:path fill="lightenLess" w="108054" h="21600">
                <a:moveTo>
                  <a:pt x="0" y="0"/>
                </a:moveTo>
                <a:lnTo>
                  <a:pt x="108054" y="0"/>
                </a:lnTo>
                <a:lnTo>
                  <a:pt x="106654" y="1400"/>
                </a:lnTo>
                <a:lnTo>
                  <a:pt x="1400" y="1400"/>
                </a:lnTo>
                <a:close/>
              </a:path>
              <a:path fill="darken" w="108054" h="21600">
                <a:moveTo>
                  <a:pt x="108054" y="0"/>
                </a:moveTo>
                <a:lnTo>
                  <a:pt x="108054" y="21600"/>
                </a:lnTo>
                <a:lnTo>
                  <a:pt x="106654" y="20200"/>
                </a:lnTo>
                <a:lnTo>
                  <a:pt x="106654" y="1400"/>
                </a:lnTo>
                <a:close/>
              </a:path>
              <a:path fill="darkenLess" w="108054" h="21600">
                <a:moveTo>
                  <a:pt x="10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54" y="20200"/>
                </a:lnTo>
                <a:close/>
              </a:path>
              <a:path fill="lighten" w="10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54" h="21600">
                <a:moveTo>
                  <a:pt x="47021" y="3794"/>
                </a:moveTo>
                <a:lnTo>
                  <a:pt x="61033" y="10800"/>
                </a:lnTo>
                <a:lnTo>
                  <a:pt x="4702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2. Приспособление для свер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фор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карам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др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аква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132000" y="2997360"/>
            <a:ext cx="2310120" cy="360360"/>
          </a:xfrm>
          <a:custGeom>
            <a:avLst/>
            <a:gdLst>
              <a:gd name="textAreaLeft" fmla="*/ 23040 w 2310120"/>
              <a:gd name="textAreaRight" fmla="*/ 2287080 w 23101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8352" h="21600">
                <a:moveTo>
                  <a:pt x="0" y="0"/>
                </a:moveTo>
                <a:lnTo>
                  <a:pt x="138352" y="0"/>
                </a:lnTo>
                <a:lnTo>
                  <a:pt x="138352" y="21600"/>
                </a:lnTo>
                <a:lnTo>
                  <a:pt x="0" y="21600"/>
                </a:lnTo>
                <a:close/>
              </a:path>
              <a:path fill="lightenLess" w="138352" h="21600">
                <a:moveTo>
                  <a:pt x="0" y="0"/>
                </a:moveTo>
                <a:lnTo>
                  <a:pt x="138352" y="0"/>
                </a:lnTo>
                <a:lnTo>
                  <a:pt x="136952" y="1400"/>
                </a:lnTo>
                <a:lnTo>
                  <a:pt x="1400" y="1400"/>
                </a:lnTo>
                <a:close/>
              </a:path>
              <a:path fill="darken" w="138352" h="21600">
                <a:moveTo>
                  <a:pt x="138352" y="0"/>
                </a:moveTo>
                <a:lnTo>
                  <a:pt x="138352" y="21600"/>
                </a:lnTo>
                <a:lnTo>
                  <a:pt x="136952" y="20200"/>
                </a:lnTo>
                <a:lnTo>
                  <a:pt x="136952" y="1400"/>
                </a:lnTo>
                <a:close/>
              </a:path>
              <a:path fill="darkenLess" w="138352" h="21600">
                <a:moveTo>
                  <a:pt x="13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952" y="20200"/>
                </a:lnTo>
                <a:close/>
              </a:path>
              <a:path fill="lighten" w="13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8352" h="21600">
                <a:moveTo>
                  <a:pt x="62170" y="3794"/>
                </a:moveTo>
                <a:lnTo>
                  <a:pt x="76183" y="10800"/>
                </a:lnTo>
                <a:lnTo>
                  <a:pt x="62170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132000" y="3573360"/>
            <a:ext cx="2310120" cy="360360"/>
          </a:xfrm>
          <a:custGeom>
            <a:avLst/>
            <a:gdLst>
              <a:gd name="textAreaLeft" fmla="*/ 23040 w 2310120"/>
              <a:gd name="textAreaRight" fmla="*/ 2287080 w 23101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8352" h="21600">
                <a:moveTo>
                  <a:pt x="0" y="0"/>
                </a:moveTo>
                <a:lnTo>
                  <a:pt x="138352" y="0"/>
                </a:lnTo>
                <a:lnTo>
                  <a:pt x="138352" y="21600"/>
                </a:lnTo>
                <a:lnTo>
                  <a:pt x="0" y="21600"/>
                </a:lnTo>
                <a:close/>
              </a:path>
              <a:path fill="lightenLess" w="138352" h="21600">
                <a:moveTo>
                  <a:pt x="0" y="0"/>
                </a:moveTo>
                <a:lnTo>
                  <a:pt x="138352" y="0"/>
                </a:lnTo>
                <a:lnTo>
                  <a:pt x="136952" y="1400"/>
                </a:lnTo>
                <a:lnTo>
                  <a:pt x="1400" y="1400"/>
                </a:lnTo>
                <a:close/>
              </a:path>
              <a:path fill="darken" w="138352" h="21600">
                <a:moveTo>
                  <a:pt x="138352" y="0"/>
                </a:moveTo>
                <a:lnTo>
                  <a:pt x="138352" y="21600"/>
                </a:lnTo>
                <a:lnTo>
                  <a:pt x="136952" y="20200"/>
                </a:lnTo>
                <a:lnTo>
                  <a:pt x="136952" y="1400"/>
                </a:lnTo>
                <a:close/>
              </a:path>
              <a:path fill="darkenLess" w="138352" h="21600">
                <a:moveTo>
                  <a:pt x="13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952" y="20200"/>
                </a:lnTo>
                <a:close/>
              </a:path>
              <a:path fill="lighten" w="13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8352" h="21600">
                <a:moveTo>
                  <a:pt x="62170" y="3794"/>
                </a:moveTo>
                <a:lnTo>
                  <a:pt x="76183" y="10800"/>
                </a:lnTo>
                <a:lnTo>
                  <a:pt x="62170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6" action="ppaction://hlinksldjump"/>
          </p:cNvPr>
          <p:cNvSpPr/>
          <p:nvPr/>
        </p:nvSpPr>
        <p:spPr>
          <a:xfrm>
            <a:off x="3132000" y="4724280"/>
            <a:ext cx="2310120" cy="360360"/>
          </a:xfrm>
          <a:custGeom>
            <a:avLst/>
            <a:gdLst>
              <a:gd name="textAreaLeft" fmla="*/ 23040 w 2310120"/>
              <a:gd name="textAreaRight" fmla="*/ 2287080 w 23101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8352" h="21600">
                <a:moveTo>
                  <a:pt x="0" y="0"/>
                </a:moveTo>
                <a:lnTo>
                  <a:pt x="138352" y="0"/>
                </a:lnTo>
                <a:lnTo>
                  <a:pt x="138352" y="21600"/>
                </a:lnTo>
                <a:lnTo>
                  <a:pt x="0" y="21600"/>
                </a:lnTo>
                <a:close/>
              </a:path>
              <a:path fill="lightenLess" w="138352" h="21600">
                <a:moveTo>
                  <a:pt x="0" y="0"/>
                </a:moveTo>
                <a:lnTo>
                  <a:pt x="138352" y="0"/>
                </a:lnTo>
                <a:lnTo>
                  <a:pt x="136952" y="1400"/>
                </a:lnTo>
                <a:lnTo>
                  <a:pt x="1400" y="1400"/>
                </a:lnTo>
                <a:close/>
              </a:path>
              <a:path fill="darken" w="138352" h="21600">
                <a:moveTo>
                  <a:pt x="138352" y="0"/>
                </a:moveTo>
                <a:lnTo>
                  <a:pt x="138352" y="21600"/>
                </a:lnTo>
                <a:lnTo>
                  <a:pt x="136952" y="20200"/>
                </a:lnTo>
                <a:lnTo>
                  <a:pt x="136952" y="1400"/>
                </a:lnTo>
                <a:close/>
              </a:path>
              <a:path fill="darkenLess" w="138352" h="21600">
                <a:moveTo>
                  <a:pt x="13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952" y="20200"/>
                </a:lnTo>
                <a:close/>
              </a:path>
              <a:path fill="lighten" w="13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8352" h="21600">
                <a:moveTo>
                  <a:pt x="62170" y="3794"/>
                </a:moveTo>
                <a:lnTo>
                  <a:pt x="76183" y="10800"/>
                </a:lnTo>
                <a:lnTo>
                  <a:pt x="62170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8" action="ppaction://hlinksldjump"/>
          </p:cNvPr>
          <p:cNvSpPr/>
          <p:nvPr/>
        </p:nvSpPr>
        <p:spPr>
          <a:xfrm>
            <a:off x="3132000" y="4149720"/>
            <a:ext cx="2303640" cy="358920"/>
          </a:xfrm>
          <a:custGeom>
            <a:avLst/>
            <a:gdLst>
              <a:gd name="textAreaLeft" fmla="*/ 23040 w 2303640"/>
              <a:gd name="textAreaRight" fmla="*/ 2280600 w 230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38517" h="21600">
                <a:moveTo>
                  <a:pt x="0" y="0"/>
                </a:moveTo>
                <a:lnTo>
                  <a:pt x="138517" y="0"/>
                </a:lnTo>
                <a:lnTo>
                  <a:pt x="138517" y="21600"/>
                </a:lnTo>
                <a:lnTo>
                  <a:pt x="0" y="21600"/>
                </a:lnTo>
                <a:close/>
              </a:path>
              <a:path fill="lightenLess" w="138517" h="21600">
                <a:moveTo>
                  <a:pt x="0" y="0"/>
                </a:moveTo>
                <a:lnTo>
                  <a:pt x="138517" y="0"/>
                </a:lnTo>
                <a:lnTo>
                  <a:pt x="137117" y="1400"/>
                </a:lnTo>
                <a:lnTo>
                  <a:pt x="1400" y="1400"/>
                </a:lnTo>
                <a:close/>
              </a:path>
              <a:path fill="darken" w="138517" h="21600">
                <a:moveTo>
                  <a:pt x="138517" y="0"/>
                </a:moveTo>
                <a:lnTo>
                  <a:pt x="138517" y="21600"/>
                </a:lnTo>
                <a:lnTo>
                  <a:pt x="137117" y="20200"/>
                </a:lnTo>
                <a:lnTo>
                  <a:pt x="137117" y="1400"/>
                </a:lnTo>
                <a:close/>
              </a:path>
              <a:path fill="darkenLess" w="138517" h="21600">
                <a:moveTo>
                  <a:pt x="138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117" y="20200"/>
                </a:lnTo>
                <a:close/>
              </a:path>
              <a:path fill="lighten" w="138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8517" h="21600">
                <a:moveTo>
                  <a:pt x="62252" y="3794"/>
                </a:moveTo>
                <a:lnTo>
                  <a:pt x="76265" y="10800"/>
                </a:lnTo>
                <a:lnTo>
                  <a:pt x="6225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8. Деталь картофелесажалки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84644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вил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лож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ножи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сп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32000" y="1916280"/>
            <a:ext cx="2087640" cy="43164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4400" h="21600">
                <a:moveTo>
                  <a:pt x="0" y="0"/>
                </a:moveTo>
                <a:lnTo>
                  <a:pt x="104400" y="0"/>
                </a:lnTo>
                <a:lnTo>
                  <a:pt x="104400" y="21600"/>
                </a:lnTo>
                <a:lnTo>
                  <a:pt x="0" y="21600"/>
                </a:lnTo>
                <a:close/>
              </a:path>
              <a:path fill="lightenLess" w="104400" h="21600">
                <a:moveTo>
                  <a:pt x="0" y="0"/>
                </a:moveTo>
                <a:lnTo>
                  <a:pt x="104400" y="0"/>
                </a:lnTo>
                <a:lnTo>
                  <a:pt x="103000" y="1400"/>
                </a:lnTo>
                <a:lnTo>
                  <a:pt x="1400" y="1400"/>
                </a:lnTo>
                <a:close/>
              </a:path>
              <a:path fill="darken" w="104400" h="21600">
                <a:moveTo>
                  <a:pt x="104400" y="0"/>
                </a:moveTo>
                <a:lnTo>
                  <a:pt x="104400" y="21600"/>
                </a:lnTo>
                <a:lnTo>
                  <a:pt x="103000" y="20200"/>
                </a:lnTo>
                <a:lnTo>
                  <a:pt x="103000" y="1400"/>
                </a:lnTo>
                <a:close/>
              </a:path>
              <a:path fill="darkenLess" w="104400" h="21600">
                <a:moveTo>
                  <a:pt x="10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000" y="20200"/>
                </a:lnTo>
                <a:close/>
              </a:path>
              <a:path fill="lighten" w="10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400" h="21600">
                <a:moveTo>
                  <a:pt x="45194" y="3794"/>
                </a:moveTo>
                <a:lnTo>
                  <a:pt x="59206" y="10800"/>
                </a:lnTo>
                <a:lnTo>
                  <a:pt x="451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32000" y="3139920"/>
            <a:ext cx="2087640" cy="43200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4313" h="21600">
                <a:moveTo>
                  <a:pt x="0" y="0"/>
                </a:moveTo>
                <a:lnTo>
                  <a:pt x="104313" y="0"/>
                </a:lnTo>
                <a:lnTo>
                  <a:pt x="104313" y="21600"/>
                </a:lnTo>
                <a:lnTo>
                  <a:pt x="0" y="21600"/>
                </a:lnTo>
                <a:close/>
              </a:path>
              <a:path fill="lightenLess" w="104313" h="21600">
                <a:moveTo>
                  <a:pt x="0" y="0"/>
                </a:moveTo>
                <a:lnTo>
                  <a:pt x="104313" y="0"/>
                </a:lnTo>
                <a:lnTo>
                  <a:pt x="102913" y="1400"/>
                </a:lnTo>
                <a:lnTo>
                  <a:pt x="1400" y="1400"/>
                </a:lnTo>
                <a:close/>
              </a:path>
              <a:path fill="darken" w="104313" h="21600">
                <a:moveTo>
                  <a:pt x="104313" y="0"/>
                </a:moveTo>
                <a:lnTo>
                  <a:pt x="104313" y="21600"/>
                </a:lnTo>
                <a:lnTo>
                  <a:pt x="102913" y="20200"/>
                </a:lnTo>
                <a:lnTo>
                  <a:pt x="102913" y="1400"/>
                </a:lnTo>
                <a:close/>
              </a:path>
              <a:path fill="darkenLess" w="104313" h="21600">
                <a:moveTo>
                  <a:pt x="104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13" y="20200"/>
                </a:lnTo>
                <a:close/>
              </a:path>
              <a:path fill="lighten" w="104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313" h="21600">
                <a:moveTo>
                  <a:pt x="45150" y="3794"/>
                </a:moveTo>
                <a:lnTo>
                  <a:pt x="59163" y="10800"/>
                </a:lnTo>
                <a:lnTo>
                  <a:pt x="45150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32000" y="3789360"/>
            <a:ext cx="2087640" cy="43164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4400" h="21600">
                <a:moveTo>
                  <a:pt x="0" y="0"/>
                </a:moveTo>
                <a:lnTo>
                  <a:pt x="104400" y="0"/>
                </a:lnTo>
                <a:lnTo>
                  <a:pt x="104400" y="21600"/>
                </a:lnTo>
                <a:lnTo>
                  <a:pt x="0" y="21600"/>
                </a:lnTo>
                <a:close/>
              </a:path>
              <a:path fill="lightenLess" w="104400" h="21600">
                <a:moveTo>
                  <a:pt x="0" y="0"/>
                </a:moveTo>
                <a:lnTo>
                  <a:pt x="104400" y="0"/>
                </a:lnTo>
                <a:lnTo>
                  <a:pt x="103000" y="1400"/>
                </a:lnTo>
                <a:lnTo>
                  <a:pt x="1400" y="1400"/>
                </a:lnTo>
                <a:close/>
              </a:path>
              <a:path fill="darken" w="104400" h="21600">
                <a:moveTo>
                  <a:pt x="104400" y="0"/>
                </a:moveTo>
                <a:lnTo>
                  <a:pt x="104400" y="21600"/>
                </a:lnTo>
                <a:lnTo>
                  <a:pt x="103000" y="20200"/>
                </a:lnTo>
                <a:lnTo>
                  <a:pt x="103000" y="1400"/>
                </a:lnTo>
                <a:close/>
              </a:path>
              <a:path fill="darkenLess" w="104400" h="21600">
                <a:moveTo>
                  <a:pt x="10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000" y="20200"/>
                </a:lnTo>
                <a:close/>
              </a:path>
              <a:path fill="lighten" w="10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400" h="21600">
                <a:moveTo>
                  <a:pt x="45194" y="3794"/>
                </a:moveTo>
                <a:lnTo>
                  <a:pt x="59206" y="10800"/>
                </a:lnTo>
                <a:lnTo>
                  <a:pt x="451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2492280"/>
            <a:ext cx="2087640" cy="43200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4313" h="21600">
                <a:moveTo>
                  <a:pt x="0" y="0"/>
                </a:moveTo>
                <a:lnTo>
                  <a:pt x="104313" y="0"/>
                </a:lnTo>
                <a:lnTo>
                  <a:pt x="104313" y="21600"/>
                </a:lnTo>
                <a:lnTo>
                  <a:pt x="0" y="21600"/>
                </a:lnTo>
                <a:close/>
              </a:path>
              <a:path fill="lightenLess" w="104313" h="21600">
                <a:moveTo>
                  <a:pt x="0" y="0"/>
                </a:moveTo>
                <a:lnTo>
                  <a:pt x="104313" y="0"/>
                </a:lnTo>
                <a:lnTo>
                  <a:pt x="102913" y="1400"/>
                </a:lnTo>
                <a:lnTo>
                  <a:pt x="1400" y="1400"/>
                </a:lnTo>
                <a:close/>
              </a:path>
              <a:path fill="darken" w="104313" h="21600">
                <a:moveTo>
                  <a:pt x="104313" y="0"/>
                </a:moveTo>
                <a:lnTo>
                  <a:pt x="104313" y="21600"/>
                </a:lnTo>
                <a:lnTo>
                  <a:pt x="102913" y="20200"/>
                </a:lnTo>
                <a:lnTo>
                  <a:pt x="102913" y="1400"/>
                </a:lnTo>
                <a:close/>
              </a:path>
              <a:path fill="darkenLess" w="104313" h="21600">
                <a:moveTo>
                  <a:pt x="104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13" y="20200"/>
                </a:lnTo>
                <a:close/>
              </a:path>
              <a:path fill="lighten" w="104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313" h="21600">
                <a:moveTo>
                  <a:pt x="45150" y="3794"/>
                </a:moveTo>
                <a:lnTo>
                  <a:pt x="59163" y="10800"/>
                </a:lnTo>
                <a:lnTo>
                  <a:pt x="45150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9. Расстояние между соседними  витками резьб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240336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дюй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фу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ша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19640" y="2492280"/>
            <a:ext cx="2160360" cy="43200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7946" h="21600">
                <a:moveTo>
                  <a:pt x="0" y="0"/>
                </a:moveTo>
                <a:lnTo>
                  <a:pt x="107946" y="0"/>
                </a:lnTo>
                <a:lnTo>
                  <a:pt x="107946" y="21600"/>
                </a:lnTo>
                <a:lnTo>
                  <a:pt x="0" y="21600"/>
                </a:lnTo>
                <a:close/>
              </a:path>
              <a:path fill="lightenLess" w="107946" h="21600">
                <a:moveTo>
                  <a:pt x="0" y="0"/>
                </a:moveTo>
                <a:lnTo>
                  <a:pt x="107946" y="0"/>
                </a:lnTo>
                <a:lnTo>
                  <a:pt x="106546" y="1400"/>
                </a:lnTo>
                <a:lnTo>
                  <a:pt x="1400" y="1400"/>
                </a:lnTo>
                <a:close/>
              </a:path>
              <a:path fill="darken" w="107946" h="21600">
                <a:moveTo>
                  <a:pt x="107946" y="0"/>
                </a:moveTo>
                <a:lnTo>
                  <a:pt x="107946" y="21600"/>
                </a:lnTo>
                <a:lnTo>
                  <a:pt x="106546" y="20200"/>
                </a:lnTo>
                <a:lnTo>
                  <a:pt x="106546" y="1400"/>
                </a:lnTo>
                <a:close/>
              </a:path>
              <a:path fill="darkenLess" w="107946" h="21600">
                <a:moveTo>
                  <a:pt x="107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46" y="20200"/>
                </a:lnTo>
                <a:close/>
              </a:path>
              <a:path fill="lighten" w="107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46" h="21600">
                <a:moveTo>
                  <a:pt x="46967" y="3794"/>
                </a:moveTo>
                <a:lnTo>
                  <a:pt x="60980" y="10800"/>
                </a:lnTo>
                <a:lnTo>
                  <a:pt x="46967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19640" y="2997360"/>
            <a:ext cx="2160360" cy="43164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8036" h="21600">
                <a:moveTo>
                  <a:pt x="0" y="0"/>
                </a:moveTo>
                <a:lnTo>
                  <a:pt x="108036" y="0"/>
                </a:lnTo>
                <a:lnTo>
                  <a:pt x="108036" y="21600"/>
                </a:lnTo>
                <a:lnTo>
                  <a:pt x="0" y="21600"/>
                </a:lnTo>
                <a:close/>
              </a:path>
              <a:path fill="lightenLess" w="108036" h="21600">
                <a:moveTo>
                  <a:pt x="0" y="0"/>
                </a:moveTo>
                <a:lnTo>
                  <a:pt x="108036" y="0"/>
                </a:lnTo>
                <a:lnTo>
                  <a:pt x="106636" y="1400"/>
                </a:lnTo>
                <a:lnTo>
                  <a:pt x="1400" y="1400"/>
                </a:lnTo>
                <a:close/>
              </a:path>
              <a:path fill="darken" w="108036" h="21600">
                <a:moveTo>
                  <a:pt x="108036" y="0"/>
                </a:moveTo>
                <a:lnTo>
                  <a:pt x="108036" y="21600"/>
                </a:lnTo>
                <a:lnTo>
                  <a:pt x="106636" y="20200"/>
                </a:lnTo>
                <a:lnTo>
                  <a:pt x="106636" y="1400"/>
                </a:lnTo>
                <a:close/>
              </a:path>
              <a:path fill="darkenLess" w="108036" h="21600">
                <a:moveTo>
                  <a:pt x="108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36" y="20200"/>
                </a:lnTo>
                <a:close/>
              </a:path>
              <a:path fill="lighten" w="108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36" h="21600">
                <a:moveTo>
                  <a:pt x="47012" y="3794"/>
                </a:moveTo>
                <a:lnTo>
                  <a:pt x="61024" y="10800"/>
                </a:lnTo>
                <a:lnTo>
                  <a:pt x="4701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19640" y="4005360"/>
            <a:ext cx="2160360" cy="43164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8036" h="21600">
                <a:moveTo>
                  <a:pt x="0" y="0"/>
                </a:moveTo>
                <a:lnTo>
                  <a:pt x="108036" y="0"/>
                </a:lnTo>
                <a:lnTo>
                  <a:pt x="108036" y="21600"/>
                </a:lnTo>
                <a:lnTo>
                  <a:pt x="0" y="21600"/>
                </a:lnTo>
                <a:close/>
              </a:path>
              <a:path fill="lightenLess" w="108036" h="21600">
                <a:moveTo>
                  <a:pt x="0" y="0"/>
                </a:moveTo>
                <a:lnTo>
                  <a:pt x="108036" y="0"/>
                </a:lnTo>
                <a:lnTo>
                  <a:pt x="106636" y="1400"/>
                </a:lnTo>
                <a:lnTo>
                  <a:pt x="1400" y="1400"/>
                </a:lnTo>
                <a:close/>
              </a:path>
              <a:path fill="darken" w="108036" h="21600">
                <a:moveTo>
                  <a:pt x="108036" y="0"/>
                </a:moveTo>
                <a:lnTo>
                  <a:pt x="108036" y="21600"/>
                </a:lnTo>
                <a:lnTo>
                  <a:pt x="106636" y="20200"/>
                </a:lnTo>
                <a:lnTo>
                  <a:pt x="106636" y="1400"/>
                </a:lnTo>
                <a:close/>
              </a:path>
              <a:path fill="darkenLess" w="108036" h="21600">
                <a:moveTo>
                  <a:pt x="108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36" y="20200"/>
                </a:lnTo>
                <a:close/>
              </a:path>
              <a:path fill="lighten" w="108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36" h="21600">
                <a:moveTo>
                  <a:pt x="47012" y="3794"/>
                </a:moveTo>
                <a:lnTo>
                  <a:pt x="61024" y="10800"/>
                </a:lnTo>
                <a:lnTo>
                  <a:pt x="47012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19640" y="3500280"/>
            <a:ext cx="2160360" cy="432000"/>
          </a:xfrm>
          <a:custGeom>
            <a:avLst/>
            <a:gdLst>
              <a:gd name="textAreaLeft" fmla="*/ 27720 w 2160360"/>
              <a:gd name="textAreaRight" fmla="*/ 2132640 w 216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7946" h="21600">
                <a:moveTo>
                  <a:pt x="0" y="0"/>
                </a:moveTo>
                <a:lnTo>
                  <a:pt x="107946" y="0"/>
                </a:lnTo>
                <a:lnTo>
                  <a:pt x="107946" y="21600"/>
                </a:lnTo>
                <a:lnTo>
                  <a:pt x="0" y="21600"/>
                </a:lnTo>
                <a:close/>
              </a:path>
              <a:path fill="lightenLess" w="107946" h="21600">
                <a:moveTo>
                  <a:pt x="0" y="0"/>
                </a:moveTo>
                <a:lnTo>
                  <a:pt x="107946" y="0"/>
                </a:lnTo>
                <a:lnTo>
                  <a:pt x="106546" y="1400"/>
                </a:lnTo>
                <a:lnTo>
                  <a:pt x="1400" y="1400"/>
                </a:lnTo>
                <a:close/>
              </a:path>
              <a:path fill="darken" w="107946" h="21600">
                <a:moveTo>
                  <a:pt x="107946" y="0"/>
                </a:moveTo>
                <a:lnTo>
                  <a:pt x="107946" y="21600"/>
                </a:lnTo>
                <a:lnTo>
                  <a:pt x="106546" y="20200"/>
                </a:lnTo>
                <a:lnTo>
                  <a:pt x="106546" y="1400"/>
                </a:lnTo>
                <a:close/>
              </a:path>
              <a:path fill="darkenLess" w="107946" h="21600">
                <a:moveTo>
                  <a:pt x="107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46" y="20200"/>
                </a:lnTo>
                <a:close/>
              </a:path>
              <a:path fill="lighten" w="107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46" h="21600">
                <a:moveTo>
                  <a:pt x="46967" y="3794"/>
                </a:moveTo>
                <a:lnTo>
                  <a:pt x="60980" y="10800"/>
                </a:lnTo>
                <a:lnTo>
                  <a:pt x="46967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900000" y="1341360"/>
            <a:ext cx="7415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Georgia"/>
              </a:rPr>
              <a:t>Спасибо за игру !!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3276720" y="4149720"/>
            <a:ext cx="2087280" cy="1565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6"/>
          <a:stretch/>
        </p:blipFill>
        <p:spPr>
          <a:xfrm>
            <a:off x="755640" y="3429000"/>
            <a:ext cx="20876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4751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00"/>
                </a:solidFill>
                <a:uFillTx/>
                <a:latin typeface="comic"/>
              </a:rPr>
              <a:t>Молодец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99ff99"/>
                </a:solidFill>
                <a:uFillTx/>
                <a:latin typeface="comic"/>
              </a:rPr>
              <a:t>Правильный ответ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6948360" y="5734080"/>
            <a:ext cx="1800360" cy="576360"/>
          </a:xfrm>
          <a:custGeom>
            <a:avLst/>
            <a:gdLst>
              <a:gd name="textAreaLeft" fmla="*/ 37080 w 1800360"/>
              <a:gd name="textAreaRight" fmla="*/ 1763280 w 1800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7443" h="21600">
                <a:moveTo>
                  <a:pt x="0" y="0"/>
                </a:moveTo>
                <a:lnTo>
                  <a:pt x="67443" y="0"/>
                </a:lnTo>
                <a:lnTo>
                  <a:pt x="67443" y="21600"/>
                </a:lnTo>
                <a:lnTo>
                  <a:pt x="0" y="21600"/>
                </a:lnTo>
                <a:close/>
              </a:path>
              <a:path fill="lightenLess" w="67443" h="21600">
                <a:moveTo>
                  <a:pt x="0" y="0"/>
                </a:moveTo>
                <a:lnTo>
                  <a:pt x="67443" y="0"/>
                </a:lnTo>
                <a:lnTo>
                  <a:pt x="66043" y="1400"/>
                </a:lnTo>
                <a:lnTo>
                  <a:pt x="1400" y="1400"/>
                </a:lnTo>
                <a:close/>
              </a:path>
              <a:path fill="darken" w="67443" h="21600">
                <a:moveTo>
                  <a:pt x="67443" y="0"/>
                </a:moveTo>
                <a:lnTo>
                  <a:pt x="67443" y="21600"/>
                </a:lnTo>
                <a:lnTo>
                  <a:pt x="66043" y="20200"/>
                </a:lnTo>
                <a:lnTo>
                  <a:pt x="66043" y="1400"/>
                </a:lnTo>
                <a:close/>
              </a:path>
              <a:path fill="darkenLess" w="67443" h="21600">
                <a:moveTo>
                  <a:pt x="67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43" y="20200"/>
                </a:lnTo>
                <a:close/>
              </a:path>
              <a:path fill="lighten" w="67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43" h="21600">
                <a:moveTo>
                  <a:pt x="26715" y="3794"/>
                </a:moveTo>
                <a:lnTo>
                  <a:pt x="40728" y="10800"/>
                </a:lnTo>
                <a:lnTo>
                  <a:pt x="26715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3276720" y="170028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YWINNE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7200" spc="-1" strike="noStrike">
                <a:solidFill>
                  <a:srgbClr val="663300"/>
                </a:solidFill>
                <a:latin typeface="comic"/>
              </a:rPr>
              <a:t>Подумай ещё 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"/>
              </a:rPr>
              <a:t>Ответ не верны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611280" y="5877000"/>
            <a:ext cx="2016000" cy="647640"/>
          </a:xfrm>
          <a:custGeom>
            <a:avLst/>
            <a:gdLst>
              <a:gd name="textAreaLeft" fmla="*/ 41760 w 2016000"/>
              <a:gd name="textAreaRight" fmla="*/ 1974240 w 2016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7212" h="21600">
                <a:moveTo>
                  <a:pt x="0" y="0"/>
                </a:moveTo>
                <a:lnTo>
                  <a:pt x="67212" y="0"/>
                </a:lnTo>
                <a:lnTo>
                  <a:pt x="67212" y="21600"/>
                </a:lnTo>
                <a:lnTo>
                  <a:pt x="0" y="21600"/>
                </a:lnTo>
                <a:close/>
              </a:path>
              <a:path fill="lightenLess" w="67212" h="21600">
                <a:moveTo>
                  <a:pt x="0" y="0"/>
                </a:moveTo>
                <a:lnTo>
                  <a:pt x="67212" y="0"/>
                </a:lnTo>
                <a:lnTo>
                  <a:pt x="65812" y="1400"/>
                </a:lnTo>
                <a:lnTo>
                  <a:pt x="1400" y="1400"/>
                </a:lnTo>
                <a:close/>
              </a:path>
              <a:path fill="darken" w="67212" h="21600">
                <a:moveTo>
                  <a:pt x="67212" y="0"/>
                </a:moveTo>
                <a:lnTo>
                  <a:pt x="67212" y="21600"/>
                </a:lnTo>
                <a:lnTo>
                  <a:pt x="65812" y="20200"/>
                </a:lnTo>
                <a:lnTo>
                  <a:pt x="65812" y="1400"/>
                </a:lnTo>
                <a:close/>
              </a:path>
              <a:path fill="darkenLess" w="67212" h="21600">
                <a:moveTo>
                  <a:pt x="6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812" y="20200"/>
                </a:lnTo>
                <a:close/>
              </a:path>
              <a:path fill="lighten" w="6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212" h="21600">
                <a:moveTo>
                  <a:pt x="26600" y="10800"/>
                </a:moveTo>
                <a:lnTo>
                  <a:pt x="40612" y="3794"/>
                </a:lnTo>
                <a:lnTo>
                  <a:pt x="40612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08360" y="1484280"/>
            <a:ext cx="16448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3.  Косая стамеска для точения по дере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5365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аж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 майз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газел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из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2916360" y="2637000"/>
            <a:ext cx="2303280" cy="43164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182" h="21600">
                <a:moveTo>
                  <a:pt x="0" y="0"/>
                </a:moveTo>
                <a:lnTo>
                  <a:pt x="115182" y="0"/>
                </a:lnTo>
                <a:lnTo>
                  <a:pt x="115182" y="21600"/>
                </a:lnTo>
                <a:lnTo>
                  <a:pt x="0" y="21600"/>
                </a:lnTo>
                <a:close/>
              </a:path>
              <a:path fill="lightenLess" w="115182" h="21600">
                <a:moveTo>
                  <a:pt x="0" y="0"/>
                </a:moveTo>
                <a:lnTo>
                  <a:pt x="115182" y="0"/>
                </a:lnTo>
                <a:lnTo>
                  <a:pt x="113782" y="1400"/>
                </a:lnTo>
                <a:lnTo>
                  <a:pt x="1400" y="1400"/>
                </a:lnTo>
                <a:close/>
              </a:path>
              <a:path fill="darken" w="115182" h="21600">
                <a:moveTo>
                  <a:pt x="115182" y="0"/>
                </a:moveTo>
                <a:lnTo>
                  <a:pt x="115182" y="21600"/>
                </a:lnTo>
                <a:lnTo>
                  <a:pt x="113782" y="20200"/>
                </a:lnTo>
                <a:lnTo>
                  <a:pt x="113782" y="1400"/>
                </a:lnTo>
                <a:close/>
              </a:path>
              <a:path fill="darkenLess" w="115182" h="21600">
                <a:moveTo>
                  <a:pt x="11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82" y="20200"/>
                </a:lnTo>
                <a:close/>
              </a:path>
              <a:path fill="lighten" w="11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82" h="21600">
                <a:moveTo>
                  <a:pt x="50585" y="3794"/>
                </a:moveTo>
                <a:lnTo>
                  <a:pt x="64597" y="10800"/>
                </a:lnTo>
                <a:lnTo>
                  <a:pt x="50585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2916360" y="3860640"/>
            <a:ext cx="2303280" cy="43200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5086" h="21600">
                <a:moveTo>
                  <a:pt x="0" y="0"/>
                </a:moveTo>
                <a:lnTo>
                  <a:pt x="115086" y="0"/>
                </a:lnTo>
                <a:lnTo>
                  <a:pt x="115086" y="21600"/>
                </a:lnTo>
                <a:lnTo>
                  <a:pt x="0" y="21600"/>
                </a:lnTo>
                <a:close/>
              </a:path>
              <a:path fill="lightenLess" w="115086" h="21600">
                <a:moveTo>
                  <a:pt x="0" y="0"/>
                </a:moveTo>
                <a:lnTo>
                  <a:pt x="115086" y="0"/>
                </a:lnTo>
                <a:lnTo>
                  <a:pt x="113686" y="1400"/>
                </a:lnTo>
                <a:lnTo>
                  <a:pt x="1400" y="1400"/>
                </a:lnTo>
                <a:close/>
              </a:path>
              <a:path fill="darken" w="115086" h="21600">
                <a:moveTo>
                  <a:pt x="115086" y="0"/>
                </a:moveTo>
                <a:lnTo>
                  <a:pt x="115086" y="21600"/>
                </a:lnTo>
                <a:lnTo>
                  <a:pt x="113686" y="20200"/>
                </a:lnTo>
                <a:lnTo>
                  <a:pt x="113686" y="1400"/>
                </a:lnTo>
                <a:close/>
              </a:path>
              <a:path fill="darkenLess" w="115086" h="21600">
                <a:moveTo>
                  <a:pt x="115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6" y="20200"/>
                </a:lnTo>
                <a:close/>
              </a:path>
              <a:path fill="lighten" w="115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086" h="21600">
                <a:moveTo>
                  <a:pt x="50537" y="3794"/>
                </a:moveTo>
                <a:lnTo>
                  <a:pt x="64550" y="10800"/>
                </a:lnTo>
                <a:lnTo>
                  <a:pt x="50537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2916360" y="4510080"/>
            <a:ext cx="2303280" cy="43164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182" h="21600">
                <a:moveTo>
                  <a:pt x="0" y="0"/>
                </a:moveTo>
                <a:lnTo>
                  <a:pt x="115182" y="0"/>
                </a:lnTo>
                <a:lnTo>
                  <a:pt x="115182" y="21600"/>
                </a:lnTo>
                <a:lnTo>
                  <a:pt x="0" y="21600"/>
                </a:lnTo>
                <a:close/>
              </a:path>
              <a:path fill="lightenLess" w="115182" h="21600">
                <a:moveTo>
                  <a:pt x="0" y="0"/>
                </a:moveTo>
                <a:lnTo>
                  <a:pt x="115182" y="0"/>
                </a:lnTo>
                <a:lnTo>
                  <a:pt x="113782" y="1400"/>
                </a:lnTo>
                <a:lnTo>
                  <a:pt x="1400" y="1400"/>
                </a:lnTo>
                <a:close/>
              </a:path>
              <a:path fill="darken" w="115182" h="21600">
                <a:moveTo>
                  <a:pt x="115182" y="0"/>
                </a:moveTo>
                <a:lnTo>
                  <a:pt x="115182" y="21600"/>
                </a:lnTo>
                <a:lnTo>
                  <a:pt x="113782" y="20200"/>
                </a:lnTo>
                <a:lnTo>
                  <a:pt x="113782" y="1400"/>
                </a:lnTo>
                <a:close/>
              </a:path>
              <a:path fill="darkenLess" w="115182" h="21600">
                <a:moveTo>
                  <a:pt x="11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82" y="20200"/>
                </a:lnTo>
                <a:close/>
              </a:path>
              <a:path fill="lighten" w="11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82" h="21600">
                <a:moveTo>
                  <a:pt x="50585" y="3794"/>
                </a:moveTo>
                <a:lnTo>
                  <a:pt x="64597" y="10800"/>
                </a:lnTo>
                <a:lnTo>
                  <a:pt x="50585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8" action="ppaction://hlinksldjump"/>
          </p:cNvPr>
          <p:cNvSpPr/>
          <p:nvPr/>
        </p:nvSpPr>
        <p:spPr>
          <a:xfrm>
            <a:off x="2916360" y="3284640"/>
            <a:ext cx="2303280" cy="431640"/>
          </a:xfrm>
          <a:custGeom>
            <a:avLst/>
            <a:gdLst>
              <a:gd name="textAreaLeft" fmla="*/ 27720 w 2303280"/>
              <a:gd name="textAreaRight" fmla="*/ 2275560 w 23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5182" h="21600">
                <a:moveTo>
                  <a:pt x="0" y="0"/>
                </a:moveTo>
                <a:lnTo>
                  <a:pt x="115182" y="0"/>
                </a:lnTo>
                <a:lnTo>
                  <a:pt x="115182" y="21600"/>
                </a:lnTo>
                <a:lnTo>
                  <a:pt x="0" y="21600"/>
                </a:lnTo>
                <a:close/>
              </a:path>
              <a:path fill="lightenLess" w="115182" h="21600">
                <a:moveTo>
                  <a:pt x="0" y="0"/>
                </a:moveTo>
                <a:lnTo>
                  <a:pt x="115182" y="0"/>
                </a:lnTo>
                <a:lnTo>
                  <a:pt x="113782" y="1400"/>
                </a:lnTo>
                <a:lnTo>
                  <a:pt x="1400" y="1400"/>
                </a:lnTo>
                <a:close/>
              </a:path>
              <a:path fill="darken" w="115182" h="21600">
                <a:moveTo>
                  <a:pt x="115182" y="0"/>
                </a:moveTo>
                <a:lnTo>
                  <a:pt x="115182" y="21600"/>
                </a:lnTo>
                <a:lnTo>
                  <a:pt x="113782" y="20200"/>
                </a:lnTo>
                <a:lnTo>
                  <a:pt x="113782" y="1400"/>
                </a:lnTo>
                <a:close/>
              </a:path>
              <a:path fill="darkenLess" w="115182" h="21600">
                <a:moveTo>
                  <a:pt x="11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82" y="20200"/>
                </a:lnTo>
                <a:close/>
              </a:path>
              <a:path fill="lighten" w="11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82" h="21600">
                <a:moveTo>
                  <a:pt x="50585" y="3794"/>
                </a:moveTo>
                <a:lnTo>
                  <a:pt x="64597" y="10800"/>
                </a:lnTo>
                <a:lnTo>
                  <a:pt x="50585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4. Вращающаяся часть электродвигате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ро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ста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генера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шу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3492360" y="292428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18" h="21600">
                <a:moveTo>
                  <a:pt x="54203" y="3794"/>
                </a:moveTo>
                <a:lnTo>
                  <a:pt x="68215" y="10800"/>
                </a:lnTo>
                <a:lnTo>
                  <a:pt x="5420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3492360" y="3573360"/>
            <a:ext cx="2448000" cy="43200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316" h="21600">
                <a:moveTo>
                  <a:pt x="0" y="0"/>
                </a:moveTo>
                <a:lnTo>
                  <a:pt x="122316" y="0"/>
                </a:lnTo>
                <a:lnTo>
                  <a:pt x="122316" y="21600"/>
                </a:lnTo>
                <a:lnTo>
                  <a:pt x="0" y="21600"/>
                </a:lnTo>
                <a:close/>
              </a:path>
              <a:path fill="lightenLess" w="122316" h="21600">
                <a:moveTo>
                  <a:pt x="0" y="0"/>
                </a:moveTo>
                <a:lnTo>
                  <a:pt x="122316" y="0"/>
                </a:lnTo>
                <a:lnTo>
                  <a:pt x="120916" y="1400"/>
                </a:lnTo>
                <a:lnTo>
                  <a:pt x="1400" y="1400"/>
                </a:lnTo>
                <a:close/>
              </a:path>
              <a:path fill="darken" w="122316" h="21600">
                <a:moveTo>
                  <a:pt x="122316" y="0"/>
                </a:moveTo>
                <a:lnTo>
                  <a:pt x="122316" y="21600"/>
                </a:lnTo>
                <a:lnTo>
                  <a:pt x="120916" y="20200"/>
                </a:lnTo>
                <a:lnTo>
                  <a:pt x="120916" y="1400"/>
                </a:lnTo>
                <a:close/>
              </a:path>
              <a:path fill="darkenLess" w="122316" h="21600">
                <a:moveTo>
                  <a:pt x="122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16" y="20200"/>
                </a:lnTo>
                <a:close/>
              </a:path>
              <a:path fill="lighten" w="122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16" h="21600">
                <a:moveTo>
                  <a:pt x="54152" y="3794"/>
                </a:moveTo>
                <a:lnTo>
                  <a:pt x="68165" y="10800"/>
                </a:lnTo>
                <a:lnTo>
                  <a:pt x="5415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492360" y="4222800"/>
            <a:ext cx="2448000" cy="43164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2418" h="21600">
                <a:moveTo>
                  <a:pt x="0" y="0"/>
                </a:moveTo>
                <a:lnTo>
                  <a:pt x="122418" y="0"/>
                </a:lnTo>
                <a:lnTo>
                  <a:pt x="122418" y="21600"/>
                </a:lnTo>
                <a:lnTo>
                  <a:pt x="0" y="21600"/>
                </a:lnTo>
                <a:close/>
              </a:path>
              <a:path fill="lightenLess" w="122418" h="21600">
                <a:moveTo>
                  <a:pt x="0" y="0"/>
                </a:moveTo>
                <a:lnTo>
                  <a:pt x="122418" y="0"/>
                </a:lnTo>
                <a:lnTo>
                  <a:pt x="121018" y="1400"/>
                </a:lnTo>
                <a:lnTo>
                  <a:pt x="1400" y="1400"/>
                </a:lnTo>
                <a:close/>
              </a:path>
              <a:path fill="darken" w="122418" h="21600">
                <a:moveTo>
                  <a:pt x="122418" y="0"/>
                </a:moveTo>
                <a:lnTo>
                  <a:pt x="122418" y="21600"/>
                </a:lnTo>
                <a:lnTo>
                  <a:pt x="121018" y="20200"/>
                </a:lnTo>
                <a:lnTo>
                  <a:pt x="121018" y="1400"/>
                </a:lnTo>
                <a:close/>
              </a:path>
              <a:path fill="darkenLess" w="122418" h="21600">
                <a:moveTo>
                  <a:pt x="12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18" y="20200"/>
                </a:lnTo>
                <a:close/>
              </a:path>
              <a:path fill="lighten" w="12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18" h="21600">
                <a:moveTo>
                  <a:pt x="54203" y="3794"/>
                </a:moveTo>
                <a:lnTo>
                  <a:pt x="68215" y="10800"/>
                </a:lnTo>
                <a:lnTo>
                  <a:pt x="5420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8" action="ppaction://hlinksldjump"/>
          </p:cNvPr>
          <p:cNvSpPr/>
          <p:nvPr/>
        </p:nvSpPr>
        <p:spPr>
          <a:xfrm>
            <a:off x="3492360" y="2349360"/>
            <a:ext cx="2448000" cy="432000"/>
          </a:xfrm>
          <a:custGeom>
            <a:avLst/>
            <a:gdLst>
              <a:gd name="textAreaLeft" fmla="*/ 27720 w 2448000"/>
              <a:gd name="textAreaRight" fmla="*/ 2420280 w 244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22316" h="21600">
                <a:moveTo>
                  <a:pt x="0" y="0"/>
                </a:moveTo>
                <a:lnTo>
                  <a:pt x="122316" y="0"/>
                </a:lnTo>
                <a:lnTo>
                  <a:pt x="122316" y="21600"/>
                </a:lnTo>
                <a:lnTo>
                  <a:pt x="0" y="21600"/>
                </a:lnTo>
                <a:close/>
              </a:path>
              <a:path fill="lightenLess" w="122316" h="21600">
                <a:moveTo>
                  <a:pt x="0" y="0"/>
                </a:moveTo>
                <a:lnTo>
                  <a:pt x="122316" y="0"/>
                </a:lnTo>
                <a:lnTo>
                  <a:pt x="120916" y="1400"/>
                </a:lnTo>
                <a:lnTo>
                  <a:pt x="1400" y="1400"/>
                </a:lnTo>
                <a:close/>
              </a:path>
              <a:path fill="darken" w="122316" h="21600">
                <a:moveTo>
                  <a:pt x="122316" y="0"/>
                </a:moveTo>
                <a:lnTo>
                  <a:pt x="122316" y="21600"/>
                </a:lnTo>
                <a:lnTo>
                  <a:pt x="120916" y="20200"/>
                </a:lnTo>
                <a:lnTo>
                  <a:pt x="120916" y="1400"/>
                </a:lnTo>
                <a:close/>
              </a:path>
              <a:path fill="darkenLess" w="122316" h="21600">
                <a:moveTo>
                  <a:pt x="122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16" y="20200"/>
                </a:lnTo>
                <a:close/>
              </a:path>
              <a:path fill="lighten" w="122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16" h="21600">
                <a:moveTo>
                  <a:pt x="54152" y="3794"/>
                </a:moveTo>
                <a:lnTo>
                  <a:pt x="68165" y="10800"/>
                </a:lnTo>
                <a:lnTo>
                  <a:pt x="5415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5. Инструмент для выпиливания криволинейных конту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бази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лоб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зябл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лучковая п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4067280" y="2276640"/>
            <a:ext cx="2017440" cy="431640"/>
          </a:xfrm>
          <a:custGeom>
            <a:avLst/>
            <a:gdLst>
              <a:gd name="textAreaLeft" fmla="*/ 27720 w 2017440"/>
              <a:gd name="textAreaRight" fmla="*/ 1989720 w 2017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90" h="21600">
                <a:moveTo>
                  <a:pt x="0" y="0"/>
                </a:moveTo>
                <a:lnTo>
                  <a:pt x="100890" y="0"/>
                </a:lnTo>
                <a:lnTo>
                  <a:pt x="100890" y="21600"/>
                </a:lnTo>
                <a:lnTo>
                  <a:pt x="0" y="21600"/>
                </a:lnTo>
                <a:close/>
              </a:path>
              <a:path fill="lightenLess" w="100890" h="21600">
                <a:moveTo>
                  <a:pt x="0" y="0"/>
                </a:moveTo>
                <a:lnTo>
                  <a:pt x="100890" y="0"/>
                </a:lnTo>
                <a:lnTo>
                  <a:pt x="99490" y="1400"/>
                </a:lnTo>
                <a:lnTo>
                  <a:pt x="1400" y="1400"/>
                </a:lnTo>
                <a:close/>
              </a:path>
              <a:path fill="darken" w="100890" h="21600">
                <a:moveTo>
                  <a:pt x="100890" y="0"/>
                </a:moveTo>
                <a:lnTo>
                  <a:pt x="100890" y="21600"/>
                </a:lnTo>
                <a:lnTo>
                  <a:pt x="99490" y="20200"/>
                </a:lnTo>
                <a:lnTo>
                  <a:pt x="99490" y="1400"/>
                </a:lnTo>
                <a:close/>
              </a:path>
              <a:path fill="darkenLess" w="100890" h="21600">
                <a:moveTo>
                  <a:pt x="100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90" y="20200"/>
                </a:lnTo>
                <a:close/>
              </a:path>
              <a:path fill="lighten" w="100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90" h="21600">
                <a:moveTo>
                  <a:pt x="43439" y="3794"/>
                </a:moveTo>
                <a:lnTo>
                  <a:pt x="57451" y="10800"/>
                </a:lnTo>
                <a:lnTo>
                  <a:pt x="43439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4067280" y="3500280"/>
            <a:ext cx="2017440" cy="432000"/>
          </a:xfrm>
          <a:custGeom>
            <a:avLst/>
            <a:gdLst>
              <a:gd name="textAreaLeft" fmla="*/ 27720 w 2017440"/>
              <a:gd name="textAreaRight" fmla="*/ 1989720 w 2017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806" h="21600">
                <a:moveTo>
                  <a:pt x="0" y="0"/>
                </a:moveTo>
                <a:lnTo>
                  <a:pt x="100806" y="0"/>
                </a:lnTo>
                <a:lnTo>
                  <a:pt x="100806" y="21600"/>
                </a:lnTo>
                <a:lnTo>
                  <a:pt x="0" y="21600"/>
                </a:lnTo>
                <a:close/>
              </a:path>
              <a:path fill="lightenLess" w="100806" h="21600">
                <a:moveTo>
                  <a:pt x="0" y="0"/>
                </a:moveTo>
                <a:lnTo>
                  <a:pt x="100806" y="0"/>
                </a:lnTo>
                <a:lnTo>
                  <a:pt x="99406" y="1400"/>
                </a:lnTo>
                <a:lnTo>
                  <a:pt x="1400" y="1400"/>
                </a:lnTo>
                <a:close/>
              </a:path>
              <a:path fill="darken" w="100806" h="21600">
                <a:moveTo>
                  <a:pt x="100806" y="0"/>
                </a:moveTo>
                <a:lnTo>
                  <a:pt x="100806" y="21600"/>
                </a:lnTo>
                <a:lnTo>
                  <a:pt x="99406" y="20200"/>
                </a:lnTo>
                <a:lnTo>
                  <a:pt x="99406" y="1400"/>
                </a:lnTo>
                <a:close/>
              </a:path>
              <a:path fill="darkenLess" w="100806" h="21600">
                <a:moveTo>
                  <a:pt x="100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06" y="20200"/>
                </a:lnTo>
                <a:close/>
              </a:path>
              <a:path fill="lighten" w="100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06" h="21600">
                <a:moveTo>
                  <a:pt x="43397" y="3794"/>
                </a:moveTo>
                <a:lnTo>
                  <a:pt x="57409" y="10800"/>
                </a:lnTo>
                <a:lnTo>
                  <a:pt x="43397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4067280" y="4149720"/>
            <a:ext cx="2017440" cy="431640"/>
          </a:xfrm>
          <a:custGeom>
            <a:avLst/>
            <a:gdLst>
              <a:gd name="textAreaLeft" fmla="*/ 27720 w 2017440"/>
              <a:gd name="textAreaRight" fmla="*/ 1989720 w 2017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90" h="21600">
                <a:moveTo>
                  <a:pt x="0" y="0"/>
                </a:moveTo>
                <a:lnTo>
                  <a:pt x="100890" y="0"/>
                </a:lnTo>
                <a:lnTo>
                  <a:pt x="100890" y="21600"/>
                </a:lnTo>
                <a:lnTo>
                  <a:pt x="0" y="21600"/>
                </a:lnTo>
                <a:close/>
              </a:path>
              <a:path fill="lightenLess" w="100890" h="21600">
                <a:moveTo>
                  <a:pt x="0" y="0"/>
                </a:moveTo>
                <a:lnTo>
                  <a:pt x="100890" y="0"/>
                </a:lnTo>
                <a:lnTo>
                  <a:pt x="99490" y="1400"/>
                </a:lnTo>
                <a:lnTo>
                  <a:pt x="1400" y="1400"/>
                </a:lnTo>
                <a:close/>
              </a:path>
              <a:path fill="darken" w="100890" h="21600">
                <a:moveTo>
                  <a:pt x="100890" y="0"/>
                </a:moveTo>
                <a:lnTo>
                  <a:pt x="100890" y="21600"/>
                </a:lnTo>
                <a:lnTo>
                  <a:pt x="99490" y="20200"/>
                </a:lnTo>
                <a:lnTo>
                  <a:pt x="99490" y="1400"/>
                </a:lnTo>
                <a:close/>
              </a:path>
              <a:path fill="darkenLess" w="100890" h="21600">
                <a:moveTo>
                  <a:pt x="100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90" y="20200"/>
                </a:lnTo>
                <a:close/>
              </a:path>
              <a:path fill="lighten" w="100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90" h="21600">
                <a:moveTo>
                  <a:pt x="43439" y="3794"/>
                </a:moveTo>
                <a:lnTo>
                  <a:pt x="57451" y="10800"/>
                </a:lnTo>
                <a:lnTo>
                  <a:pt x="43439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 action="ppaction://hlinksldjump"/>
          </p:cNvPr>
          <p:cNvSpPr/>
          <p:nvPr/>
        </p:nvSpPr>
        <p:spPr>
          <a:xfrm>
            <a:off x="4067280" y="2852640"/>
            <a:ext cx="2017440" cy="432000"/>
          </a:xfrm>
          <a:custGeom>
            <a:avLst/>
            <a:gdLst>
              <a:gd name="textAreaLeft" fmla="*/ 27720 w 2017440"/>
              <a:gd name="textAreaRight" fmla="*/ 1989720 w 2017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806" h="21600">
                <a:moveTo>
                  <a:pt x="0" y="0"/>
                </a:moveTo>
                <a:lnTo>
                  <a:pt x="100806" y="0"/>
                </a:lnTo>
                <a:lnTo>
                  <a:pt x="100806" y="21600"/>
                </a:lnTo>
                <a:lnTo>
                  <a:pt x="0" y="21600"/>
                </a:lnTo>
                <a:close/>
              </a:path>
              <a:path fill="lightenLess" w="100806" h="21600">
                <a:moveTo>
                  <a:pt x="0" y="0"/>
                </a:moveTo>
                <a:lnTo>
                  <a:pt x="100806" y="0"/>
                </a:lnTo>
                <a:lnTo>
                  <a:pt x="99406" y="1400"/>
                </a:lnTo>
                <a:lnTo>
                  <a:pt x="1400" y="1400"/>
                </a:lnTo>
                <a:close/>
              </a:path>
              <a:path fill="darken" w="100806" h="21600">
                <a:moveTo>
                  <a:pt x="100806" y="0"/>
                </a:moveTo>
                <a:lnTo>
                  <a:pt x="100806" y="21600"/>
                </a:lnTo>
                <a:lnTo>
                  <a:pt x="99406" y="20200"/>
                </a:lnTo>
                <a:lnTo>
                  <a:pt x="99406" y="1400"/>
                </a:lnTo>
                <a:close/>
              </a:path>
              <a:path fill="darkenLess" w="100806" h="21600">
                <a:moveTo>
                  <a:pt x="100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06" y="20200"/>
                </a:lnTo>
                <a:close/>
              </a:path>
              <a:path fill="lighten" w="100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806" h="21600">
                <a:moveTo>
                  <a:pt x="43397" y="3794"/>
                </a:moveTo>
                <a:lnTo>
                  <a:pt x="57409" y="10800"/>
                </a:lnTo>
                <a:lnTo>
                  <a:pt x="43397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6. Инструмент для нанесения меток на заготов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) метч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) керне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с) шлямб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) боро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3708360" y="2421000"/>
            <a:ext cx="2808360" cy="431640"/>
          </a:xfrm>
          <a:custGeom>
            <a:avLst/>
            <a:gdLst>
              <a:gd name="textAreaLeft" fmla="*/ 27720 w 2808360"/>
              <a:gd name="textAreaRight" fmla="*/ 2780640 w 280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40436" h="21600">
                <a:moveTo>
                  <a:pt x="0" y="0"/>
                </a:moveTo>
                <a:lnTo>
                  <a:pt x="140436" y="0"/>
                </a:lnTo>
                <a:lnTo>
                  <a:pt x="140436" y="21600"/>
                </a:lnTo>
                <a:lnTo>
                  <a:pt x="0" y="21600"/>
                </a:lnTo>
                <a:close/>
              </a:path>
              <a:path fill="lightenLess" w="140436" h="21600">
                <a:moveTo>
                  <a:pt x="0" y="0"/>
                </a:moveTo>
                <a:lnTo>
                  <a:pt x="140436" y="0"/>
                </a:lnTo>
                <a:lnTo>
                  <a:pt x="139036" y="1400"/>
                </a:lnTo>
                <a:lnTo>
                  <a:pt x="1400" y="1400"/>
                </a:lnTo>
                <a:close/>
              </a:path>
              <a:path fill="darken" w="140436" h="21600">
                <a:moveTo>
                  <a:pt x="140436" y="0"/>
                </a:moveTo>
                <a:lnTo>
                  <a:pt x="140436" y="21600"/>
                </a:lnTo>
                <a:lnTo>
                  <a:pt x="139036" y="20200"/>
                </a:lnTo>
                <a:lnTo>
                  <a:pt x="139036" y="1400"/>
                </a:lnTo>
                <a:close/>
              </a:path>
              <a:path fill="darkenLess" w="140436" h="21600">
                <a:moveTo>
                  <a:pt x="1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036" y="20200"/>
                </a:lnTo>
                <a:close/>
              </a:path>
              <a:path fill="lighten" w="1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436" h="21600">
                <a:moveTo>
                  <a:pt x="63212" y="3794"/>
                </a:moveTo>
                <a:lnTo>
                  <a:pt x="77224" y="10800"/>
                </a:lnTo>
                <a:lnTo>
                  <a:pt x="63212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3708360" y="3645000"/>
            <a:ext cx="2808360" cy="431640"/>
          </a:xfrm>
          <a:custGeom>
            <a:avLst/>
            <a:gdLst>
              <a:gd name="textAreaLeft" fmla="*/ 27720 w 2808360"/>
              <a:gd name="textAreaRight" fmla="*/ 2780640 w 280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40436" h="21600">
                <a:moveTo>
                  <a:pt x="0" y="0"/>
                </a:moveTo>
                <a:lnTo>
                  <a:pt x="140436" y="0"/>
                </a:lnTo>
                <a:lnTo>
                  <a:pt x="140436" y="21600"/>
                </a:lnTo>
                <a:lnTo>
                  <a:pt x="0" y="21600"/>
                </a:lnTo>
                <a:close/>
              </a:path>
              <a:path fill="lightenLess" w="140436" h="21600">
                <a:moveTo>
                  <a:pt x="0" y="0"/>
                </a:moveTo>
                <a:lnTo>
                  <a:pt x="140436" y="0"/>
                </a:lnTo>
                <a:lnTo>
                  <a:pt x="139036" y="1400"/>
                </a:lnTo>
                <a:lnTo>
                  <a:pt x="1400" y="1400"/>
                </a:lnTo>
                <a:close/>
              </a:path>
              <a:path fill="darken" w="140436" h="21600">
                <a:moveTo>
                  <a:pt x="140436" y="0"/>
                </a:moveTo>
                <a:lnTo>
                  <a:pt x="140436" y="21600"/>
                </a:lnTo>
                <a:lnTo>
                  <a:pt x="139036" y="20200"/>
                </a:lnTo>
                <a:lnTo>
                  <a:pt x="139036" y="1400"/>
                </a:lnTo>
                <a:close/>
              </a:path>
              <a:path fill="darkenLess" w="140436" h="21600">
                <a:moveTo>
                  <a:pt x="1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036" y="20200"/>
                </a:lnTo>
                <a:close/>
              </a:path>
              <a:path fill="lighten" w="1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436" h="21600">
                <a:moveTo>
                  <a:pt x="63212" y="3794"/>
                </a:moveTo>
                <a:lnTo>
                  <a:pt x="77224" y="10800"/>
                </a:lnTo>
                <a:lnTo>
                  <a:pt x="63212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3708360" y="4294080"/>
            <a:ext cx="2808360" cy="432000"/>
          </a:xfrm>
          <a:custGeom>
            <a:avLst/>
            <a:gdLst>
              <a:gd name="textAreaLeft" fmla="*/ 27720 w 2808360"/>
              <a:gd name="textAreaRight" fmla="*/ 2780640 w 280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40319" h="21600">
                <a:moveTo>
                  <a:pt x="0" y="0"/>
                </a:moveTo>
                <a:lnTo>
                  <a:pt x="140319" y="0"/>
                </a:lnTo>
                <a:lnTo>
                  <a:pt x="140319" y="21600"/>
                </a:lnTo>
                <a:lnTo>
                  <a:pt x="0" y="21600"/>
                </a:lnTo>
                <a:close/>
              </a:path>
              <a:path fill="lightenLess" w="140319" h="21600">
                <a:moveTo>
                  <a:pt x="0" y="0"/>
                </a:moveTo>
                <a:lnTo>
                  <a:pt x="140319" y="0"/>
                </a:lnTo>
                <a:lnTo>
                  <a:pt x="138919" y="1400"/>
                </a:lnTo>
                <a:lnTo>
                  <a:pt x="1400" y="1400"/>
                </a:lnTo>
                <a:close/>
              </a:path>
              <a:path fill="darken" w="140319" h="21600">
                <a:moveTo>
                  <a:pt x="140319" y="0"/>
                </a:moveTo>
                <a:lnTo>
                  <a:pt x="140319" y="21600"/>
                </a:lnTo>
                <a:lnTo>
                  <a:pt x="138919" y="20200"/>
                </a:lnTo>
                <a:lnTo>
                  <a:pt x="138919" y="1400"/>
                </a:lnTo>
                <a:close/>
              </a:path>
              <a:path fill="darkenLess" w="140319" h="21600">
                <a:moveTo>
                  <a:pt x="140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19" y="20200"/>
                </a:lnTo>
                <a:close/>
              </a:path>
              <a:path fill="lighten" w="140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319" h="21600">
                <a:moveTo>
                  <a:pt x="63153" y="3794"/>
                </a:moveTo>
                <a:lnTo>
                  <a:pt x="77166" y="10800"/>
                </a:lnTo>
                <a:lnTo>
                  <a:pt x="6315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8" action="ppaction://hlinksldjump"/>
          </p:cNvPr>
          <p:cNvSpPr/>
          <p:nvPr/>
        </p:nvSpPr>
        <p:spPr>
          <a:xfrm>
            <a:off x="3708360" y="2997360"/>
            <a:ext cx="2808360" cy="431640"/>
          </a:xfrm>
          <a:custGeom>
            <a:avLst/>
            <a:gdLst>
              <a:gd name="textAreaLeft" fmla="*/ 27720 w 2808360"/>
              <a:gd name="textAreaRight" fmla="*/ 2780640 w 280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40436" h="21600">
                <a:moveTo>
                  <a:pt x="0" y="0"/>
                </a:moveTo>
                <a:lnTo>
                  <a:pt x="140436" y="0"/>
                </a:lnTo>
                <a:lnTo>
                  <a:pt x="140436" y="21600"/>
                </a:lnTo>
                <a:lnTo>
                  <a:pt x="0" y="21600"/>
                </a:lnTo>
                <a:close/>
              </a:path>
              <a:path fill="lightenLess" w="140436" h="21600">
                <a:moveTo>
                  <a:pt x="0" y="0"/>
                </a:moveTo>
                <a:lnTo>
                  <a:pt x="140436" y="0"/>
                </a:lnTo>
                <a:lnTo>
                  <a:pt x="139036" y="1400"/>
                </a:lnTo>
                <a:lnTo>
                  <a:pt x="1400" y="1400"/>
                </a:lnTo>
                <a:close/>
              </a:path>
              <a:path fill="darken" w="140436" h="21600">
                <a:moveTo>
                  <a:pt x="140436" y="0"/>
                </a:moveTo>
                <a:lnTo>
                  <a:pt x="140436" y="21600"/>
                </a:lnTo>
                <a:lnTo>
                  <a:pt x="139036" y="20200"/>
                </a:lnTo>
                <a:lnTo>
                  <a:pt x="139036" y="1400"/>
                </a:lnTo>
                <a:close/>
              </a:path>
              <a:path fill="darkenLess" w="140436" h="21600">
                <a:moveTo>
                  <a:pt x="1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036" y="20200"/>
                </a:lnTo>
                <a:close/>
              </a:path>
              <a:path fill="lighten" w="1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0436" h="21600">
                <a:moveTo>
                  <a:pt x="63212" y="3794"/>
                </a:moveTo>
                <a:lnTo>
                  <a:pt x="77224" y="10800"/>
                </a:lnTo>
                <a:lnTo>
                  <a:pt x="63212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"/>
              </a:rPr>
              <a:t>7. Обработка резанием поверхностей тел вращ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а) то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в) пи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с) свер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д) долбл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708360" y="299736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3708360" y="357192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3708360" y="4221000"/>
            <a:ext cx="2232000" cy="43200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25" h="21600">
                <a:moveTo>
                  <a:pt x="0" y="0"/>
                </a:moveTo>
                <a:lnTo>
                  <a:pt x="111525" y="0"/>
                </a:lnTo>
                <a:lnTo>
                  <a:pt x="111525" y="21600"/>
                </a:lnTo>
                <a:lnTo>
                  <a:pt x="0" y="21600"/>
                </a:lnTo>
                <a:close/>
              </a:path>
              <a:path fill="lightenLess" w="111525" h="21600">
                <a:moveTo>
                  <a:pt x="0" y="0"/>
                </a:moveTo>
                <a:lnTo>
                  <a:pt x="111525" y="0"/>
                </a:lnTo>
                <a:lnTo>
                  <a:pt x="110125" y="1400"/>
                </a:lnTo>
                <a:lnTo>
                  <a:pt x="1400" y="1400"/>
                </a:lnTo>
                <a:close/>
              </a:path>
              <a:path fill="darken" w="111525" h="21600">
                <a:moveTo>
                  <a:pt x="111525" y="0"/>
                </a:moveTo>
                <a:lnTo>
                  <a:pt x="111525" y="21600"/>
                </a:lnTo>
                <a:lnTo>
                  <a:pt x="110125" y="20200"/>
                </a:lnTo>
                <a:lnTo>
                  <a:pt x="110125" y="1400"/>
                </a:lnTo>
                <a:close/>
              </a:path>
              <a:path fill="darkenLess" w="111525" h="21600">
                <a:moveTo>
                  <a:pt x="111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25" y="20200"/>
                </a:lnTo>
                <a:close/>
              </a:path>
              <a:path fill="lighten" w="111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25" h="21600">
                <a:moveTo>
                  <a:pt x="48756" y="3794"/>
                </a:moveTo>
                <a:lnTo>
                  <a:pt x="62769" y="10800"/>
                </a:lnTo>
                <a:lnTo>
                  <a:pt x="48756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3708360" y="2421000"/>
            <a:ext cx="2232000" cy="431640"/>
          </a:xfrm>
          <a:custGeom>
            <a:avLst/>
            <a:gdLst>
              <a:gd name="textAreaLeft" fmla="*/ 27720 w 2232000"/>
              <a:gd name="textAreaRight" fmla="*/ 2204280 w 22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1618" h="21600">
                <a:moveTo>
                  <a:pt x="0" y="0"/>
                </a:moveTo>
                <a:lnTo>
                  <a:pt x="111618" y="0"/>
                </a:lnTo>
                <a:lnTo>
                  <a:pt x="111618" y="21600"/>
                </a:lnTo>
                <a:lnTo>
                  <a:pt x="0" y="21600"/>
                </a:lnTo>
                <a:close/>
              </a:path>
              <a:path fill="lightenLess" w="111618" h="21600">
                <a:moveTo>
                  <a:pt x="0" y="0"/>
                </a:moveTo>
                <a:lnTo>
                  <a:pt x="111618" y="0"/>
                </a:lnTo>
                <a:lnTo>
                  <a:pt x="110218" y="1400"/>
                </a:lnTo>
                <a:lnTo>
                  <a:pt x="1400" y="1400"/>
                </a:lnTo>
                <a:close/>
              </a:path>
              <a:path fill="darken" w="111618" h="21600">
                <a:moveTo>
                  <a:pt x="111618" y="0"/>
                </a:moveTo>
                <a:lnTo>
                  <a:pt x="111618" y="21600"/>
                </a:lnTo>
                <a:lnTo>
                  <a:pt x="110218" y="20200"/>
                </a:lnTo>
                <a:lnTo>
                  <a:pt x="110218" y="1400"/>
                </a:lnTo>
                <a:close/>
              </a:path>
              <a:path fill="darkenLess" w="111618" h="21600">
                <a:moveTo>
                  <a:pt x="11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218" y="20200"/>
                </a:lnTo>
                <a:close/>
              </a:path>
              <a:path fill="lighten" w="11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618" h="21600">
                <a:moveTo>
                  <a:pt x="48803" y="3794"/>
                </a:moveTo>
                <a:lnTo>
                  <a:pt x="62815" y="10800"/>
                </a:lnTo>
                <a:lnTo>
                  <a:pt x="48803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7010280" y="4724280"/>
            <a:ext cx="16941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7:28:07Z</dcterms:created>
  <dc:creator>User</dc:creator>
  <dc:description/>
  <dc:language>en-US</dc:language>
  <cp:lastModifiedBy>User</cp:lastModifiedBy>
  <dcterms:modified xsi:type="dcterms:W3CDTF">2012-02-12T13:54:51Z</dcterms:modified>
  <cp:revision>21</cp:revision>
  <dc:subject/>
  <dc:title>Старинная узорчатая твердая сталь для клинков</dc:title>
</cp:coreProperties>
</file>