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688-4C0E-4473-A003-1A8A8068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17C-BE1E-4995-BBA7-B63E6616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81E-A3B0-42AD-AF38-9F9F3FA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6EE-D790-41E4-83E3-D69C7F4B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DA6-0D0E-4320-AEDE-A249B26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293-1EAD-4374-A24F-3328235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943-2C06-4CB4-B193-DA09D3C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662-325B-4DAC-ACCD-6894746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635-4CB0-4D1D-8862-6234F97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37E-6770-4785-AEBB-A507E4B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27A-2820-430D-B037-38172AA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2D1-E554-4A07-83E3-AC30F4D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CCE7-8EC1-47E6-804D-65C3CC8C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ИК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ЛОГОПЕДА ГДОУ «КУДЕСНИЦА» ВДОВЕНКО М.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55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90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КУК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6200" y="1600200"/>
            <a:ext cx="605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А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Ч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048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ЧТО ДЕЛАЮТ ПТ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384720" cy="25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45600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932360" y="4076640"/>
            <a:ext cx="3456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крепить знания детей о диких птицах средне полосы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тиц на картин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жите и назовите части тела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жите чем покрыто тело у птиц, какого цвета оперение у птицы на карти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жите как передвигаются, чем питаются, где жи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ГОЛУ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СО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82840" y="1600200"/>
            <a:ext cx="617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34:58Z</dcterms:created>
  <dc:creator>Марина</dc:creator>
  <dc:description/>
  <dc:language>en-US</dc:language>
  <cp:lastModifiedBy>Марина</cp:lastModifiedBy>
  <dcterms:modified xsi:type="dcterms:W3CDTF">2012-02-11T07:31:12Z</dcterms:modified>
  <cp:revision>4</cp:revision>
  <dc:subject/>
  <dc:title>ДИКИЕ ПТИЦЫ</dc:title>
</cp:coreProperties>
</file>