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481-D02D-4095-BE51-6608DC22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93B5-450A-4086-B24F-F5BAC5D7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E0C-09D9-4A39-A90B-DF7FF2F7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88F-E22F-40EE-A8A4-54BA32C0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A67C-495A-4206-9238-23379EA4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DA2B-035C-4E08-8D4A-BF34AFBA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5603-C51B-4E09-81EA-35F166BD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6039-37B8-4955-A6A4-8390BD3A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028A-DBEE-42BF-99CB-D8A9AB68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CD76-7FB4-4632-A397-8774D8EB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E591-15BE-4BEB-A2D9-01CDD2D8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DD9-0E9C-4629-94D1-A4FEADA2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CA81-B4C3-4DBB-977C-BB95B7C8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50F3-A8FF-49B9-86DD-BB5F555B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D118-FBC2-4CEA-8E4A-991210CA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ACEE-E0D9-4CCD-856E-AF37BF58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E6F1-0507-4777-8D42-EA039ACA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CBF8-0808-493E-B9FD-2955D177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927A-1473-4414-B381-DA8C4639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F648-3CD9-4DFE-8A16-B955B720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83B-7646-4D49-8C36-EE1833F0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50D-E12F-4263-A3E0-1B6B9C8C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DE8E-D52F-4C11-A8B2-6BDD41BF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030F-39E9-461E-BB47-9B85E103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6655-C0F2-47DD-A797-C388057C62C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E900-AE30-4130-9A67-AC8424342EE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ДИНОЗАВРЫ – УДИВИТЕЛЬНЫЕ ЖИВОТНЫЕ ПРОШЛОГО.             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НИГА РЕКОРД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ПАТОЗАВ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БРАХИОЗАВ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ИРАННОЗАВ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ХИЩНИ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064720" cy="446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ТРАВОЯДНЫЕ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62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68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68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ЛЛОЗАВР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использовал острые зубы, чтобы драться с динозаврами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424720" cy="522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6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ДЕЙНОНИХУС</a:t>
            </a:r>
            <a:br>
              <a:rPr sz="40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Он располосовывал противника острыми когтями на задних лапах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09080" cy="5157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ТРИЦЕРАТОПС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Для нападения использовал три длинных рога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136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ТЕГОЗАВР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защищался острыми длинными шипами на конце хвоста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993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АЧИЦЕФАЛОЗАВР –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бил своих врагов головой.</a:t>
            </a:r>
            <a:br>
              <a:rPr sz="40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1:46:50Z</dcterms:created>
  <dc:creator>2</dc:creator>
  <dc:description/>
  <dc:language>en-US</dc:language>
  <cp:lastModifiedBy>2</cp:lastModifiedBy>
  <dcterms:modified xsi:type="dcterms:W3CDTF">2002-01-01T03:03:14Z</dcterms:modified>
  <cp:revision>5</cp:revision>
  <dc:subject/>
  <dc:title>ДИНОЗАВРЫ – УДИВИТЕЛЬНЫЕ ЖИВОТНЫЕ ПРОШЛОГО.              </dc:title>
</cp:coreProperties>
</file>