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3.jpeg" ContentType="image/jpeg"/>
  <Override PartName="/ppt/media/image9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02EC-D339-4C4C-921D-B1DB5F97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95EB-67BA-4220-A588-EDF74D69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5438-A947-4088-AE7B-7F63C400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3E22-4BCA-480C-A9A3-BCFB3C24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D7CF-D40F-4912-8E99-D4FF4BBF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D626-1389-4CE9-A144-6671FE6C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798C-4A16-4894-B066-E7E55BE2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BBDC-6F9C-41B7-BD11-A19D6444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3D10-B70C-4D71-869A-98A64F49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0559-6E85-4A70-BEFF-E40DE40E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9926-F2B3-4B24-9B2A-9C39A2A4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DBE4-7810-435E-BE6D-07A9E39D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586F-788F-4384-9E22-6450F712C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0" y="1905120"/>
            <a:ext cx="8915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разеологиз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разеологическая единиц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или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разем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— устойчивое по составу и структуре, лексически неделимое и целостное по значению словосочетание или предложение, выполняющее функцию отдельной лексемы (словарной единицы). Часто фразеологизм остаётся достоянием только одного языка; исключением являются так называемые фразеологические кальки. Фразеологизмы описываются в специальных фразеологических словар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5" descr=""/>
          <p:cNvPicPr/>
          <p:nvPr/>
        </p:nvPicPr>
        <p:blipFill>
          <a:blip r:embed="rId1"/>
          <a:stretch/>
        </p:blipFill>
        <p:spPr>
          <a:xfrm>
            <a:off x="1554120" y="244440"/>
            <a:ext cx="5761080" cy="1139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8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зеологическое сращение, или идиома (от греч. ἴδιος — собственный, свойственный) — это семантически неделимый оборот, значение которого совершенно не выводимо из значений составляющих его компонентов. Например, 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одом и гоморр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— 'суматоха, шум'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Прямоугольник 3" descr=""/>
          <p:cNvPicPr/>
          <p:nvPr/>
        </p:nvPicPr>
        <p:blipFill>
          <a:blip r:embed="rId1"/>
          <a:stretch/>
        </p:blipFill>
        <p:spPr>
          <a:xfrm>
            <a:off x="-285840" y="-171360"/>
            <a:ext cx="9698040" cy="1933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зеологическое сочетание (коллокация) — это устойчивый оборот, в состав которого входят слова как со свободным значением, так и с фразеологически связанным, несвободным (употребляемым лишь в данном сочетании). Фразеологические сочетания являются устойчивыми оборотами, однако их целостное значение следует из значений составляющих их отдельных с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Прямоугольник 3" descr=""/>
          <p:cNvPicPr/>
          <p:nvPr/>
        </p:nvPicPr>
        <p:blipFill>
          <a:blip r:embed="rId1"/>
          <a:stretch/>
        </p:blipFill>
        <p:spPr>
          <a:xfrm>
            <a:off x="-365040" y="12600"/>
            <a:ext cx="9942480" cy="12002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152388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ину легко резать, она не трескается, не коробится. Сердцевина осины очень мягкая, и сквозь нее легко просачивается влага. Поэтому-то сердцевину и выдалбливают, разрезав полено вдоль на несколько частей. Эти части называются плахами. Плахи же, закругленные снаружи и выдолбленные изнутри, называются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баклушами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Картинка 8 из 63086"/>
          <p:cNvPicPr/>
          <p:nvPr/>
        </p:nvPicPr>
        <p:blipFill>
          <a:blip r:embed="rId1"/>
          <a:stretch/>
        </p:blipFill>
        <p:spPr>
          <a:xfrm>
            <a:off x="5711760" y="4807080"/>
            <a:ext cx="3203640" cy="205092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4" descr=""/>
          <p:cNvPicPr/>
          <p:nvPr/>
        </p:nvPicPr>
        <p:blipFill>
          <a:blip r:embed="rId2"/>
          <a:stretch/>
        </p:blipFill>
        <p:spPr>
          <a:xfrm>
            <a:off x="85680" y="133200"/>
            <a:ext cx="9077400" cy="1098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 царе Алексее Михайловиче существовал такой порядок: просьбы, жалобы или челобитные, обращенные к царю, опускали в специальный ящик, прибитый к столбу возле дворца в селе Коломенском под Москвой.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те времена все документы писали на бумаге, свертываемой в виде свитка. Свитки эти были длинные, поэтому-то и ящик был длинный, или, как тогда говорили,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 долгий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Картинка 8 из 999"/>
          <p:cNvPicPr/>
          <p:nvPr/>
        </p:nvPicPr>
        <p:blipFill>
          <a:blip r:embed="rId1"/>
          <a:stretch/>
        </p:blipFill>
        <p:spPr>
          <a:xfrm>
            <a:off x="6248520" y="497196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4" descr=""/>
          <p:cNvPicPr/>
          <p:nvPr/>
        </p:nvPicPr>
        <p:blipFill>
          <a:blip r:embed="rId2"/>
          <a:stretch/>
        </p:blipFill>
        <p:spPr>
          <a:xfrm>
            <a:off x="2054160" y="-171360"/>
            <a:ext cx="4962600" cy="10983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 каждого фразеологизма, как и у человека, есть своя история, свои истоки. Уходят они корнями, как правило, в глубины веков, и потому мы часто употребляем их, даже не догадываясь об их истинном значении. 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Прямоугольник 3" descr=""/>
          <p:cNvPicPr/>
          <p:nvPr/>
        </p:nvPicPr>
        <p:blipFill>
          <a:blip r:embed="rId2"/>
          <a:stretch/>
        </p:blipFill>
        <p:spPr>
          <a:xfrm>
            <a:off x="189000" y="317520"/>
            <a:ext cx="8729640" cy="1146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i062.radikal.ru/1003/6c/d15580486e76.jpg"/>
          <p:cNvPicPr/>
          <p:nvPr/>
        </p:nvPicPr>
        <p:blipFill>
          <a:blip r:embed="rId2"/>
          <a:stretch/>
        </p:blipFill>
        <p:spPr>
          <a:xfrm>
            <a:off x="5715000" y="0"/>
            <a:ext cx="2952720" cy="3581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s49.radikal.ru/i126/1003/b3/cb66a6d51685.jpg"/>
          <p:cNvPicPr/>
          <p:nvPr/>
        </p:nvPicPr>
        <p:blipFill>
          <a:blip r:embed="rId3"/>
          <a:stretch/>
        </p:blipFill>
        <p:spPr>
          <a:xfrm>
            <a:off x="3733920" y="1447920"/>
            <a:ext cx="1419120" cy="1228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http://s45.radikal.ru/i107/1003/dd/e666b64427a8.jpg"/>
          <p:cNvPicPr/>
          <p:nvPr/>
        </p:nvPicPr>
        <p:blipFill>
          <a:blip r:embed="rId4"/>
          <a:stretch/>
        </p:blipFill>
        <p:spPr>
          <a:xfrm>
            <a:off x="3886200" y="228600"/>
            <a:ext cx="1066680" cy="1085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http://s004.radikal.ru/i208/1003/31/67c407b3bbe2.jpg"/>
          <p:cNvPicPr/>
          <p:nvPr/>
        </p:nvPicPr>
        <p:blipFill>
          <a:blip r:embed="rId5"/>
          <a:stretch/>
        </p:blipFill>
        <p:spPr>
          <a:xfrm>
            <a:off x="380880" y="3733920"/>
            <a:ext cx="3391200" cy="2162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Картинка 20 из 12413"/>
          <p:cNvPicPr/>
          <p:nvPr/>
        </p:nvPicPr>
        <p:blipFill>
          <a:blip r:embed="rId6"/>
          <a:stretch/>
        </p:blipFill>
        <p:spPr>
          <a:xfrm>
            <a:off x="4495680" y="3657600"/>
            <a:ext cx="3276720" cy="3016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Картинка 24 из 12413"/>
          <p:cNvPicPr/>
          <p:nvPr/>
        </p:nvPicPr>
        <p:blipFill>
          <a:blip r:embed="rId7"/>
          <a:stretch/>
        </p:blipFill>
        <p:spPr>
          <a:xfrm>
            <a:off x="0" y="457200"/>
            <a:ext cx="29923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Картинка 9 из 258364"/>
          <p:cNvPicPr/>
          <p:nvPr/>
        </p:nvPicPr>
        <p:blipFill>
          <a:blip r:embed="rId1"/>
          <a:stretch/>
        </p:blipFill>
        <p:spPr>
          <a:xfrm>
            <a:off x="685800" y="22860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4:23:51Z</dcterms:created>
  <dc:creator>Admin</dc:creator>
  <dc:description/>
  <dc:language>en-US</dc:language>
  <cp:lastModifiedBy>Екатерина</cp:lastModifiedBy>
  <dcterms:modified xsi:type="dcterms:W3CDTF">2012-02-07T16:21:29Z</dcterms:modified>
  <cp:revision>16</cp:revision>
  <dc:subject/>
  <dc:title>Фразеологизмы</dc:title>
</cp:coreProperties>
</file>