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D93-3EDD-4C22-AADB-C388B198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815-63A4-4F8C-A867-3C8DAC6A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438-D4D7-4E27-BB86-E93A5BE6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FFA-7FD6-4089-AEF4-FF6F7531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071B-BF20-4C50-93FC-1C078DCE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055A-B2E5-4A3E-8B10-A056DCEB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78BD-66F2-45D4-B875-68975874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D92B-1892-44DA-A718-60C7C31C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6DD5-C5D8-46E0-BA1E-1B6FADAD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079B-94DA-4247-8510-C8A8F143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421F-1EBC-44E3-AFD7-3C3E5A2D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771-3C27-4820-AFC6-B3C59FB0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72A6-3ADC-4D1F-ADDC-1A74637E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AE12-C161-4088-9EFE-8BE7BC5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F9A4-4A04-401C-B5CE-582850E6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63DF-9605-445E-A5EA-4977B1AF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F6BF-243B-479E-BEE6-D4F073F4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26C-C22F-4B57-8740-1AEDEFCE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4C6-97BF-4D85-8B58-AD18A5A0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2FA-5F0E-4774-997E-622EDBCC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4F6-A383-43BF-8E79-3253368F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4EC-E9EB-401B-86C0-D4E70010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D80-041C-497C-BD7C-BFD5AF24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095-8CA0-4D96-A91E-F2FAA5BA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D5F-0223-434A-9EEE-413C2BD1B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E683-051E-4BAA-90FE-F02D95B05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omovenok.kz/wp-content/uploads/2009/01/197028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Тема: «Изменение имен существительных по падежам в единственном числе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278880" y="4526640"/>
            <a:ext cx="321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138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НЕГИР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има на подходе и – поползень вро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авно всё, что нужно нашёл и припас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о снова он в спешке то прячет ореш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о с ягодой в клюве косится на на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етка (рябина) (Р.п.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Гулять (улица) (Д.п.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Любоваться (снежинка) (Т.п.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5486400" cy="3581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46609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1"/>
          <p:cNvSpPr/>
          <p:nvPr/>
        </p:nvSpPr>
        <p:spPr>
          <a:xfrm>
            <a:off x="1905120" y="2133720"/>
            <a:ext cx="5429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егодня на уроке я:</a:t>
            </a:r>
            <a:br>
              <a:rPr sz="4400"/>
            </a:b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научился…..</a:t>
            </a:r>
            <a:br>
              <a:rPr sz="4400"/>
            </a:b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было интересно…</a:t>
            </a:r>
            <a:br>
              <a:rPr sz="4400"/>
            </a:b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было трудно ….</a:t>
            </a:r>
            <a:br>
              <a:rPr sz="4400"/>
            </a:b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мои ощущения…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3353760" y="762120"/>
            <a:ext cx="225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Итог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Закрепить умение различать падежи, определять тип склонения имен существитель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Закрепить навык написания окончания имен существительных в единственном чис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Повторение правил орфограф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7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rimo"/>
              </a:rPr>
              <a:t>Заколдован невидимкой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rimo"/>
              </a:rPr>
              <a:t></a:t>
            </a:r>
            <a:r>
              <a:rPr b="0" lang="ru-RU" sz="4800" spc="-1" strike="noStrike">
                <a:solidFill>
                  <a:srgbClr val="ffffff"/>
                </a:solidFill>
                <a:latin typeface="Primo"/>
              </a:rPr>
              <a:t>Дремлет лес под сказку сна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rimo"/>
              </a:rPr>
              <a:t>                      </a:t>
            </a:r>
            <a:r>
              <a:rPr b="0" lang="ru-RU" sz="4800" spc="-1" strike="noStrike">
                <a:solidFill>
                  <a:srgbClr val="ffffff"/>
                </a:solidFill>
                <a:latin typeface="Primo"/>
              </a:rPr>
              <a:t>С. Есенин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5664240" cy="40892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146040" y="5273280"/>
            <a:ext cx="391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38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rimo"/>
              </a:rPr>
              <a:t>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МЕДВЕД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5931000" cy="4432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430800" y="5196240"/>
            <a:ext cx="30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38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ЛИСИЦ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952880" cy="4521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735360" y="4891680"/>
            <a:ext cx="19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38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ЗАЯ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2844720" cy="4216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344840" y="550116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38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СО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Воробей фото"/>
          <p:cNvPicPr/>
          <p:nvPr/>
        </p:nvPicPr>
        <p:blipFill>
          <a:blip r:embed="rId1"/>
          <a:stretch/>
        </p:blipFill>
        <p:spPr>
          <a:xfrm>
            <a:off x="1066680" y="22860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583080" y="4891680"/>
            <a:ext cx="331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l" pos="6138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ВОРОБ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2-12T15:16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