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gif" ContentType="image/gif"/>
  <Override PartName="/ppt/media/image19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3.wmf" ContentType="image/x-wmf"/>
  <Override PartName="/ppt/media/image15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42F47-A0EA-4735-AC75-1C2CAD5950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DCCB6-8E63-4834-B69F-A0286590F7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07A78-6090-4641-A59F-E1A192DB85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43465-0865-4BAD-BA8D-A350EE4161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436E7-C1A4-469C-81E4-C12CABC992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7898E-9FAA-4CCC-98A1-4706FFED3A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3E729-A548-4664-B618-0A5A3FD49F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77B0F-3FFB-4316-888C-37C3351CE2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B61-4A3B-4C37-B538-5E3D8D4C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01C-3C59-46D1-836D-F2991648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7D2-7435-41B7-A380-495EB29B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D8C-47B2-46A4-B715-63397CA8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481-495D-44FA-B6C6-2C759909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E8B-981D-499E-B5D1-CEA291CF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E97-0828-42E5-A82F-9253D2A2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9F4-098B-4DF7-B980-D19C37E3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1D9-420E-4A05-A965-01E25668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4BA-7A7F-4B4B-8BBA-3C48B592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23B-168E-4289-9475-7415E15D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CD5-7272-49F8-864F-1D616CAF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D3B17E-B3B0-467C-AFE5-832EE2C1B5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 rot="20993400">
            <a:off x="1707840" y="5257440"/>
            <a:ext cx="38764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хорош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меть писа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 rot="21383400">
            <a:off x="2472840" y="1922040"/>
            <a:ext cx="28447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ок пис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902680" y="779400"/>
            <a:ext cx="4284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ово в сло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2"/>
          <p:cNvSpPr/>
          <p:nvPr/>
        </p:nvSpPr>
        <p:spPr>
          <a:xfrm>
            <a:off x="1754280" y="2065320"/>
            <a:ext cx="6072120" cy="1714680"/>
          </a:xfrm>
          <a:prstGeom prst="ellipse">
            <a:avLst/>
          </a:prstGeom>
          <a:noFill/>
          <a:ln w="93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722320" y="2279520"/>
            <a:ext cx="47314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ГАСТРОН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808000" y="2279520"/>
            <a:ext cx="47314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ГАМСОТОР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C:\Documents and Settings\user\Мои документы\Мои рисунки\Рисунок4.wmf"/>
          <p:cNvPicPr/>
          <p:nvPr/>
        </p:nvPicPr>
        <p:blipFill>
          <a:blip r:embed="rId1"/>
          <a:stretch/>
        </p:blipFill>
        <p:spPr>
          <a:xfrm>
            <a:off x="7040520" y="4422600"/>
            <a:ext cx="2286000" cy="237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Картинка 171 из 439189"/>
          <p:cNvPicPr/>
          <p:nvPr/>
        </p:nvPicPr>
        <p:blipFill>
          <a:blip r:embed="rId1"/>
          <a:stretch/>
        </p:blipFill>
        <p:spPr>
          <a:xfrm rot="20764200">
            <a:off x="450360" y="764640"/>
            <a:ext cx="2494080" cy="19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TextBox 2"/>
          <p:cNvSpPr/>
          <p:nvPr/>
        </p:nvSpPr>
        <p:spPr>
          <a:xfrm>
            <a:off x="3206520" y="1279440"/>
            <a:ext cx="5810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я Пишичит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user\Рабочий стол\Отсканировано 18.12.2011 22-29.bmp"/>
          <p:cNvPicPr/>
          <p:nvPr/>
        </p:nvPicPr>
        <p:blipFill>
          <a:blip r:embed="rId2"/>
          <a:srcRect l="4313" t="0" r="2157" b="0"/>
          <a:stretch/>
        </p:blipFill>
        <p:spPr>
          <a:xfrm>
            <a:off x="325440" y="2851200"/>
            <a:ext cx="6786720" cy="2076480"/>
          </a:xfrm>
          <a:prstGeom prst="rect">
            <a:avLst/>
          </a:prstGeom>
          <a:ln w="19080">
            <a:solidFill>
              <a:srgbClr val="262699"/>
            </a:solidFill>
            <a:miter/>
          </a:ln>
        </p:spPr>
      </p:pic>
      <p:pic>
        <p:nvPicPr>
          <p:cNvPr id="58" name="Picture 6" descr="C:\Documents and Settings\user\Рабочий стол\fmt_73_id_32516.jpg"/>
          <p:cNvPicPr/>
          <p:nvPr/>
        </p:nvPicPr>
        <p:blipFill>
          <a:blip r:embed="rId3"/>
          <a:stretch/>
        </p:blipFill>
        <p:spPr>
          <a:xfrm>
            <a:off x="6326280" y="4351320"/>
            <a:ext cx="42782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user\Рабочий стол\Рисунок1.png"/>
          <p:cNvPicPr/>
          <p:nvPr/>
        </p:nvPicPr>
        <p:blipFill>
          <a:blip r:embed="rId1"/>
          <a:stretch/>
        </p:blipFill>
        <p:spPr>
          <a:xfrm>
            <a:off x="1682640" y="5464080"/>
            <a:ext cx="2273400" cy="20955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log_beg.jpg"/>
          <p:cNvPicPr/>
          <p:nvPr/>
        </p:nvPicPr>
        <p:blipFill>
          <a:blip r:embed="rId2"/>
          <a:stretch/>
        </p:blipFill>
        <p:spPr>
          <a:xfrm>
            <a:off x="182520" y="4494240"/>
            <a:ext cx="1714680" cy="23954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76680a85e1da.jpg"/>
          <p:cNvPicPr/>
          <p:nvPr/>
        </p:nvPicPr>
        <p:blipFill>
          <a:blip r:embed="rId3"/>
          <a:stretch/>
        </p:blipFill>
        <p:spPr>
          <a:xfrm>
            <a:off x="7683480" y="279360"/>
            <a:ext cx="1933560" cy="2032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355320" y="422280"/>
            <a:ext cx="675072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берите слоги и запишит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то был у слона на дн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ж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54160" y="1851120"/>
            <a:ext cx="982656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Ан- ло –ти – мед – па – кр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– </a:t>
            </a:r>
            <a:r>
              <a:rPr b="1" lang="ru-RU" sz="6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пе - ведь – ко –ли -  зеб  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дил – ра- ка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850920" y="1851120"/>
            <a:ext cx="918288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Антилопа, медвед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крокодил, зебра, пелика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zebra05.png"/>
          <p:cNvPicPr/>
          <p:nvPr/>
        </p:nvPicPr>
        <p:blipFill>
          <a:blip r:embed="rId4"/>
          <a:stretch/>
        </p:blipFill>
        <p:spPr>
          <a:xfrm>
            <a:off x="4826160" y="5299200"/>
            <a:ext cx="2214360" cy="2260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multik139"/>
          <p:cNvPicPr/>
          <p:nvPr/>
        </p:nvPicPr>
        <p:blipFill>
          <a:blip r:embed="rId5"/>
          <a:stretch/>
        </p:blipFill>
        <p:spPr>
          <a:xfrm>
            <a:off x="3325680" y="4565520"/>
            <a:ext cx="2357640" cy="2357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Картинка 23 из 28850"/>
          <p:cNvPicPr/>
          <p:nvPr/>
        </p:nvPicPr>
        <p:blipFill>
          <a:blip r:embed="rId6"/>
          <a:stretch/>
        </p:blipFill>
        <p:spPr>
          <a:xfrm>
            <a:off x="5326200" y="3708360"/>
            <a:ext cx="2786040" cy="248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Картинка 69 из 206"/>
          <p:cNvPicPr/>
          <p:nvPr/>
        </p:nvPicPr>
        <p:blipFill>
          <a:blip r:embed="rId7"/>
          <a:stretch/>
        </p:blipFill>
        <p:spPr>
          <a:xfrm flipH="1" rot="824400">
            <a:off x="7286400" y="5076720"/>
            <a:ext cx="2792160" cy="24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545400" y="636480"/>
            <a:ext cx="780228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сбежавшую букву </a:t>
            </a:r>
            <a:r>
              <a:rPr b="1" lang="ru-RU" sz="54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829080" y="2351160"/>
            <a:ext cx="1503720" cy="660600"/>
          </a:xfrm>
          <a:prstGeom prst="rect">
            <a:avLst/>
          </a:prstGeom>
          <a:solidFill>
            <a:srgbClr val="d2d2f4"/>
          </a:solidFill>
          <a:ln w="93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191966"/>
                </a:solidFill>
                <a:latin typeface="Arial"/>
              </a:rPr>
              <a:t>НГ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5472000" y="2351160"/>
            <a:ext cx="1555560" cy="717120"/>
          </a:xfrm>
          <a:prstGeom prst="rect">
            <a:avLst/>
          </a:prstGeom>
          <a:solidFill>
            <a:srgbClr val="d2d2f4"/>
          </a:solidFill>
          <a:ln w="93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191966"/>
                </a:solidFill>
                <a:latin typeface="Arial"/>
              </a:rPr>
              <a:t>СТК</a:t>
            </a:r>
            <a:r>
              <a:rPr b="0" lang="ru-RU" sz="4400" spc="-1" strike="noStrike">
                <a:solidFill>
                  <a:srgbClr val="191966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209040" y="2351160"/>
            <a:ext cx="1236960" cy="660600"/>
          </a:xfrm>
          <a:prstGeom prst="rect">
            <a:avLst/>
          </a:prstGeom>
          <a:solidFill>
            <a:srgbClr val="d2d2f4"/>
          </a:solidFill>
          <a:ln w="93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191966"/>
                </a:solidFill>
                <a:latin typeface="Arial"/>
              </a:rPr>
              <a:t>МР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7877160" y="2351160"/>
            <a:ext cx="1552320" cy="660600"/>
          </a:xfrm>
          <a:prstGeom prst="rect">
            <a:avLst/>
          </a:prstGeom>
          <a:solidFill>
            <a:srgbClr val="d2d2f4"/>
          </a:solidFill>
          <a:ln w="93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191966"/>
                </a:solidFill>
                <a:latin typeface="Arial"/>
              </a:rPr>
              <a:t>БРБ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57240" y="3922560"/>
            <a:ext cx="10134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191966"/>
                </a:solidFill>
                <a:latin typeface="Arial"/>
              </a:rPr>
              <a:t>Награда, марка, стакан, бараба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6" descr="Картинка 654 из 9751"/>
          <p:cNvPicPr/>
          <p:nvPr/>
        </p:nvPicPr>
        <p:blipFill>
          <a:blip r:embed="rId1"/>
          <a:stretch/>
        </p:blipFill>
        <p:spPr>
          <a:xfrm>
            <a:off x="5608800" y="4846680"/>
            <a:ext cx="1687320" cy="2030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Картинка 34 из 315529"/>
          <p:cNvPicPr/>
          <p:nvPr/>
        </p:nvPicPr>
        <p:blipFill>
          <a:blip r:embed="rId2"/>
          <a:stretch/>
        </p:blipFill>
        <p:spPr>
          <a:xfrm rot="20975400">
            <a:off x="2697120" y="4772160"/>
            <a:ext cx="2284560" cy="163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Рисунок 5" descr="baraban_tula.jpg"/>
          <p:cNvPicPr/>
          <p:nvPr/>
        </p:nvPicPr>
        <p:blipFill>
          <a:blip r:embed="rId3"/>
          <a:stretch/>
        </p:blipFill>
        <p:spPr>
          <a:xfrm>
            <a:off x="7612200" y="4851360"/>
            <a:ext cx="1643040" cy="169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:\грамоты\Отсканировано 14.12.2011 22-06.bmp"/>
          <p:cNvPicPr/>
          <p:nvPr/>
        </p:nvPicPr>
        <p:blipFill>
          <a:blip r:embed="rId4"/>
          <a:srcRect l="965" t="688" r="965" b="688"/>
          <a:stretch/>
        </p:blipFill>
        <p:spPr>
          <a:xfrm>
            <a:off x="468360" y="4708440"/>
            <a:ext cx="1574640" cy="22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2943720" y="779400"/>
            <a:ext cx="44326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ь анаграммы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1209600" y="1565280"/>
            <a:ext cx="1171440" cy="547200"/>
          </a:xfrm>
          <a:prstGeom prst="rect">
            <a:avLst/>
          </a:prstGeom>
          <a:noFill/>
          <a:ln w="93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заг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2541600" y="1636560"/>
            <a:ext cx="366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3061440" y="1494000"/>
            <a:ext cx="3911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62699"/>
                </a:solidFill>
                <a:latin typeface="Arial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163160" y="2351160"/>
            <a:ext cx="1264320" cy="547200"/>
          </a:xfrm>
          <a:prstGeom prst="rect">
            <a:avLst/>
          </a:prstGeom>
          <a:noFill/>
          <a:ln w="93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ма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166400" y="3208320"/>
            <a:ext cx="1258200" cy="547200"/>
          </a:xfrm>
          <a:prstGeom prst="rect">
            <a:avLst/>
          </a:prstGeom>
          <a:noFill/>
          <a:ln w="93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нак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152000" y="3994200"/>
            <a:ext cx="1287000" cy="547200"/>
          </a:xfrm>
          <a:prstGeom prst="rect">
            <a:avLst/>
          </a:prstGeom>
          <a:noFill/>
          <a:ln w="93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кул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612880" y="2422440"/>
            <a:ext cx="366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612880" y="3208320"/>
            <a:ext cx="366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612880" y="4065480"/>
            <a:ext cx="366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204360" y="3065400"/>
            <a:ext cx="3911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62699"/>
                </a:solidFill>
                <a:latin typeface="Arial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3204360" y="2208240"/>
            <a:ext cx="3911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62699"/>
                </a:solidFill>
                <a:latin typeface="Arial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3347280" y="3851280"/>
            <a:ext cx="3911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62699"/>
                </a:solidFill>
                <a:latin typeface="Arial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2400840" y="5580000"/>
            <a:ext cx="52282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Газон, замок, канат, ку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6720" y="1994040"/>
            <a:ext cx="714384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9000"/>
          </a:bodyPr>
          <a:p>
            <a:pPr marL="270720" indent="-2707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Мышки вышли как-то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Посмотреть, который ч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(ходьба на мест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Зернышки покушал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Тишину послуша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(тихо сел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539880" y="851040"/>
            <a:ext cx="3902040" cy="70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зминут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10" descr="46843673_mouse13.gif"/>
          <p:cNvPicPr/>
          <p:nvPr/>
        </p:nvPicPr>
        <p:blipFill>
          <a:blip r:embed="rId1"/>
          <a:stretch/>
        </p:blipFill>
        <p:spPr>
          <a:xfrm>
            <a:off x="6611760" y="3637080"/>
            <a:ext cx="483732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4"/>
          <p:cNvSpPr/>
          <p:nvPr/>
        </p:nvSpPr>
        <p:spPr>
          <a:xfrm>
            <a:off x="3825720" y="1779480"/>
            <a:ext cx="3743640" cy="2305080"/>
          </a:xfrm>
          <a:prstGeom prst="rect">
            <a:avLst/>
          </a:prstGeom>
          <a:solidFill>
            <a:srgbClr val="ddf3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>
            <a:off x="3825720" y="1779480"/>
            <a:ext cx="187344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 flipV="1">
            <a:off x="5611680" y="1779480"/>
            <a:ext cx="1871640" cy="115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"/>
          <p:cNvPicPr/>
          <p:nvPr/>
        </p:nvPicPr>
        <p:blipFill>
          <a:blip r:embed="rId1"/>
          <a:srcRect l="0" t="0" r="46760" b="0"/>
          <a:stretch/>
        </p:blipFill>
        <p:spPr>
          <a:xfrm>
            <a:off x="682560" y="1351080"/>
            <a:ext cx="1965240" cy="2971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2325600" y="779400"/>
            <a:ext cx="6572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могите Незнай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Картинка 34 из 315529"/>
          <p:cNvPicPr/>
          <p:nvPr/>
        </p:nvPicPr>
        <p:blipFill>
          <a:blip r:embed="rId2"/>
          <a:stretch/>
        </p:blipFill>
        <p:spPr>
          <a:xfrm rot="20975400">
            <a:off x="6303600" y="2925720"/>
            <a:ext cx="878040" cy="62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TextBox 8"/>
          <p:cNvSpPr/>
          <p:nvPr/>
        </p:nvSpPr>
        <p:spPr>
          <a:xfrm>
            <a:off x="2495520" y="5003640"/>
            <a:ext cx="37605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Скоро  Новый го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Встреть его весе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newy46"/>
          <p:cNvPicPr/>
          <p:nvPr/>
        </p:nvPicPr>
        <p:blipFill>
          <a:blip r:embed="rId1"/>
          <a:stretch/>
        </p:blipFill>
        <p:spPr>
          <a:xfrm>
            <a:off x="6897600" y="1636560"/>
            <a:ext cx="2897280" cy="40658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1057680" y="826920"/>
            <a:ext cx="6112080" cy="67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</a:rPr>
              <a:t>Говорят: под Новый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</a:rPr>
              <a:t>Что ни пожелается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</a:rPr>
              <a:t>Всё всегда произойдё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</a:rPr>
              <a:t>Всё всегда сбыв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</a:rPr>
              <a:t>Могут даже у ребя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</a:rPr>
              <a:t>Сбыться все желан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</a:rPr>
              <a:t>Нужно только, говоря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</a:rPr>
              <a:t>Приложить старани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</a:rPr>
              <a:t>Как же нам не загад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</a:rPr>
              <a:t>Скромное желание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</a:rPr>
              <a:t>На «отлично» выполня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</a:rPr>
              <a:t>Школьные задани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0:15:10Z</dcterms:created>
  <dc:creator/>
  <dc:description/>
  <dc:language>en-US</dc:language>
  <cp:lastModifiedBy>WIN7XP</cp:lastModifiedBy>
  <dcterms:modified xsi:type="dcterms:W3CDTF">2012-02-12T04:30:44Z</dcterms:modified>
  <cp:revision>26</cp:revision>
  <dc:subject/>
  <dc:title>Слайд 1</dc:title>
</cp:coreProperties>
</file>