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15B1-F6F0-43BB-9889-F4C72645E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68BC-A38F-4926-8B3E-BAB7373CF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109D-2FDC-457F-8B86-99E546133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8546-9BD0-4610-80D7-05D4C1192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F1648-F872-4483-8BBB-C9B04470E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EFC2D-9D62-4D5B-9F9E-587FB6A68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BE6B0-F8C9-4971-8114-C2064008D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BC688-5685-451A-8C62-031C26A72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A6871-6213-44C2-9194-5EC7737D1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0DE99-0720-4536-A001-0C1CF2F79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EF5FA-5539-42A6-B79E-524432A7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78AA-6C91-4FA6-AC45-110ABCF14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119D6-419B-480C-9A93-3853B91A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44A69-EBD8-40E8-ABDA-9EFD8A67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818CF-6F37-4BF9-A842-CE6E97A7F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4E972-3159-4F7B-A5A4-92F284547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49B77-2286-4E21-9870-9136B9281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0633-4391-4950-995D-E50BF53B1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7769-5DFA-4180-AF3A-A332C07FB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289A-1A7B-4678-BB26-E4AE81FEF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7CC2-EFC1-47EE-9704-E94CBD80B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F267-3F61-48E2-AD1B-ADEF47B7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E002-22FE-42B0-8A67-7DCE2204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178A-95F8-4272-9BEC-61BCDB20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D457A-034A-4BB1-A6B4-31770145E82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84C55-42E0-4978-98F5-898FCC7D66A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онкурсная работа ученицы 1 «А» класса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елютиной Дарь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Им гордится вся семья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ослевоенное врем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душка после войны работал плотником, так же он реставрировал и строили дома из подручных местных материалов, кирпичи были из глины и соломы. У него с бабушкой родилось 8 детей. Родители держали большое хозяйство: коров, овец, птиц. У них так же была большая пасека. Выращивали огромный сад, огород, большой виноградник в котором было  больше 10-ти сортов винограда. Все делалось в ручную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чень много сил и труда потребовалось в послевоенное время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4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Гутенев Александр Дмитриевич, родился 5 мая 1918 г. в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. Красногвардейском.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Умер 21 апреля 2008г. Не дожив до своего 90-летия всего две недел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5" descr="Фотка01"/>
          <p:cNvPicPr/>
          <p:nvPr/>
        </p:nvPicPr>
        <p:blipFill>
          <a:blip r:embed="rId1"/>
          <a:stretch/>
        </p:blipFill>
        <p:spPr>
          <a:xfrm>
            <a:off x="324000" y="171360"/>
            <a:ext cx="8494560" cy="636912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17"/>
          <p:cNvSpPr/>
          <p:nvPr/>
        </p:nvSpPr>
        <p:spPr>
          <a:xfrm>
            <a:off x="1332000" y="3860640"/>
            <a:ext cx="215640" cy="505080"/>
          </a:xfrm>
          <a:prstGeom prst="upArrow">
            <a:avLst>
              <a:gd name="adj1" fmla="val 50000"/>
              <a:gd name="adj2" fmla="val 58556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4" descr="Фотка01"/>
          <p:cNvPicPr/>
          <p:nvPr/>
        </p:nvPicPr>
        <p:blipFill>
          <a:blip r:embed="rId1"/>
          <a:stretch/>
        </p:blipFill>
        <p:spPr>
          <a:xfrm>
            <a:off x="2268360" y="476280"/>
            <a:ext cx="4303800" cy="57373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4" descr="Фотка01"/>
          <p:cNvPicPr/>
          <p:nvPr/>
        </p:nvPicPr>
        <p:blipFill>
          <a:blip r:embed="rId1"/>
          <a:stretch/>
        </p:blipFill>
        <p:spPr>
          <a:xfrm>
            <a:off x="684360" y="476280"/>
            <a:ext cx="7727760" cy="57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 армию был призван в 1937 г.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4 года служил в армии. Оттуда же в 1941г. был призван на войну. Дедушка был ранен, лечился в сочинском госпитале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9" descr="Копия (2) Фотка0515"/>
          <p:cNvPicPr/>
          <p:nvPr/>
        </p:nvPicPr>
        <p:blipFill>
          <a:blip r:embed="rId1"/>
          <a:stretch/>
        </p:blipFill>
        <p:spPr>
          <a:xfrm>
            <a:off x="468360" y="2924280"/>
            <a:ext cx="2633760" cy="35114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2" descr="Копия (2) Фотка0515"/>
          <p:cNvPicPr/>
          <p:nvPr/>
        </p:nvPicPr>
        <p:blipFill>
          <a:blip r:embed="rId2"/>
          <a:stretch/>
        </p:blipFill>
        <p:spPr>
          <a:xfrm>
            <a:off x="2700360" y="836640"/>
            <a:ext cx="4056120" cy="50418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3" descr="Копия (2) Фотка0515"/>
          <p:cNvPicPr/>
          <p:nvPr/>
        </p:nvPicPr>
        <p:blipFill>
          <a:blip r:embed="rId3"/>
          <a:stretch/>
        </p:blipFill>
        <p:spPr>
          <a:xfrm>
            <a:off x="6227640" y="333360"/>
            <a:ext cx="2633760" cy="32734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очине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395280" y="977760"/>
            <a:ext cx="8424720" cy="75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Моя семья в Великой Отечественной Войн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нашей семье только дедушка Саша участвовал в Великой Отечественной Войне. Дедушка рассказывал как  он воевал, как было страшно и тяжело. Когда дедушке исполнилось 18 лет его призвали в армию, он служил 4 года, а потом сразу же его призвали на войну. Его не было дома 8 лет. Дедушка был сержантом. Он с солдатами прятался в лесу. У них были лошади и сторожевые собаки. Лошадей ставили в ямы чтобы их не убили, потому что на них не только ездили, но и перевозили тяжелые пушки. Люди спали тоже в вырытых ямах на соломе, с ними были сторожевые собаки и одна из собак грела дедушку когда было холодно. Один раз ночью дедушка проснулся и отошел и как раз на это место упала бомб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324000" y="684720"/>
            <a:ext cx="835164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йна для дедушки закончилась в Чехословакии. Но первое время солдаты не верили, что война закончилась. Когда передали по радио, что мы победили, все были так рады, что плакали. Всем нужно было возвращаться и строить разрушенное. За боевые заслуги дедушку наградили медалями и орден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 любила своего дедушку за его смелость, за то , что он защищал нашу Родину и с уважением отношусь ко всем солдата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й брат тоже служит в армии и мне очень не хочется, чтобы снова повторилась вой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6:26:17Z</dcterms:created>
  <dc:creator>XTreme</dc:creator>
  <dc:description/>
  <dc:language>en-US</dc:language>
  <cp:lastModifiedBy>Дима</cp:lastModifiedBy>
  <dcterms:modified xsi:type="dcterms:W3CDTF">2012-02-12T09:46:09Z</dcterms:modified>
  <cp:revision>4</cp:revision>
  <dc:subject/>
  <dc:title>Конкурсная работа ученицы 3 «А» класса Селютиной Кристины</dc:title>
</cp:coreProperties>
</file>