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FC98-A61F-4F29-97E6-878EFD9B2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7361-0A3F-4731-A911-BBD6BF124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7493-DB11-4CC4-9529-366E89ACC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A8B7-B7C2-45A2-A901-A94198D29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0C7A5-E3AA-4A0E-AFF9-0E2E4B66A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8D121-EDB3-44A4-A06F-EEE493285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C9EDB-E447-4FAF-8AB6-4E36BB383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4CD1E-CC0C-45FF-BAAB-1EB12185B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C4300-E8DD-469F-A885-0D9607B2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4B9F6-6DEA-4DD9-9F15-648D8C143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1CE9C-D7A4-4AF7-A2C1-CD845260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7280-18A1-4631-A3F2-0256790FD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A7140-59AB-4347-9A73-4F0FD84A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F7DDE-2540-4FA8-B95C-70E21881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C04A6-C682-4304-AA3E-24CEE2603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C2522-D29A-4F81-8916-8E83DC27A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DDFC8-7B2F-4F61-A4E0-9982AD685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1F06-3575-4DA7-9908-F6410C279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53F5-1EEC-455A-81C2-A3689D20A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6C7A-ADD2-478C-9D98-4C0A85619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4096-A2CE-4293-A3D8-60F570B2A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D374-A5D7-45A8-B457-F62A5637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03C6-4C25-4274-8ACC-B8D6D6DF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7167-9EC8-4810-A956-F9AC78AF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BA0AB-DBFC-4613-8BB5-209667B80F3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065F5-D145-40D6-893E-E9308CB1928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Математический хоккей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граем по теме «Квадратные уравнен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Щербина А.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БОУ  СОШ  №1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ород Снежин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лябин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55640" y="4797360"/>
            <a:ext cx="1368360" cy="13683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55640" y="4797360"/>
            <a:ext cx="1368360" cy="13683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5e0818"/>
                </a:solidFill>
                <a:latin typeface="Arial"/>
              </a:rPr>
              <a:t>Заполнить ячейки таблицы и пропуски в формулах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57200" y="1719360"/>
          <a:ext cx="8229600" cy="44132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авнени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9c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 корне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9c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едение корне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9ce8"/>
                    </a:solidFill>
                  </a:tcPr>
                </a:tc>
              </a:tr>
              <a:tr h="88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r>
                        <a:rPr b="0" lang="en-US" sz="2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х-6=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r>
                        <a:rPr b="0" lang="en-US" sz="2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х+...=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r>
                        <a:rPr b="0" lang="en-US" sz="2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…х+1=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r>
                        <a:rPr b="0" lang="ru-RU" sz="2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…х+…=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5e0818"/>
                </a:solidFill>
                <a:latin typeface="Arial"/>
              </a:rPr>
              <a:t>Заполнить ячейки таблицы и пропуски в формулах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457200" y="1719360"/>
          <a:ext cx="8229600" cy="44132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авнени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9c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 корне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9c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едение корне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9ce8"/>
                    </a:solidFill>
                  </a:tcPr>
                </a:tc>
              </a:tr>
              <a:tr h="88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r>
                        <a:rPr b="0" lang="en-US" sz="2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х-6=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-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r>
                        <a:rPr b="0" lang="en-US" sz="2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х+2=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r>
                        <a:rPr b="0" lang="en-US" sz="2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3х+1=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r>
                        <a:rPr b="0" lang="en-US" sz="2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х-7=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Отметить уравнения, корнями которых являются числа 4 и -5: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692360" y="1719360"/>
          <a:ext cx="5327640" cy="4411440"/>
        </p:xfrm>
        <a:graphic>
          <a:graphicData uri="http://schemas.openxmlformats.org/drawingml/2006/table">
            <a:tbl>
              <a:tblPr/>
              <a:tblGrid>
                <a:gridCol w="5327640"/>
              </a:tblGrid>
              <a:tr h="110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Х</a:t>
                      </a:r>
                      <a:r>
                        <a:rPr b="0" lang="en-US" sz="4400" spc="-1" strike="noStrike" baseline="30000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4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Х-20=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10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Х</a:t>
                      </a:r>
                      <a:r>
                        <a:rPr b="0" lang="en-US" sz="4400" spc="-1" strike="noStrike" baseline="30000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4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+Х-20=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10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Х</a:t>
                      </a:r>
                      <a:r>
                        <a:rPr b="0" lang="en-US" sz="4400" spc="-1" strike="noStrike" baseline="30000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4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Х+20=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10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Х</a:t>
                      </a:r>
                      <a:r>
                        <a:rPr b="0" lang="en-US" sz="4400" spc="-1" strike="noStrike" baseline="30000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4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+Х+20=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Отметить уравнения, корнями которых являются числа 4 и -5: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692360" y="1700280"/>
          <a:ext cx="5327640" cy="4430520"/>
        </p:xfrm>
        <a:graphic>
          <a:graphicData uri="http://schemas.openxmlformats.org/drawingml/2006/table">
            <a:tbl>
              <a:tblPr/>
              <a:tblGrid>
                <a:gridCol w="5327640"/>
              </a:tblGrid>
              <a:tr h="112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Х</a:t>
                      </a:r>
                      <a:r>
                        <a:rPr b="0" lang="en-US" sz="4400" spc="-1" strike="noStrike" baseline="30000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4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Х-20=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10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Х</a:t>
                      </a:r>
                      <a:r>
                        <a:rPr b="0" lang="en-US" sz="4400" spc="-1" strike="noStrike" baseline="30000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4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+Х-20=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</a:tr>
              <a:tr h="110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Х</a:t>
                      </a:r>
                      <a:r>
                        <a:rPr b="0" lang="en-US" sz="4400" spc="-1" strike="noStrike" baseline="30000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4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Х+20=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10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Х</a:t>
                      </a:r>
                      <a:r>
                        <a:rPr b="0" lang="en-US" sz="4400" spc="-1" strike="noStrike" baseline="30000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4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+Х+20=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2" dur="2000" fill="hold"/>
                                        <p:tgtEl>
                                          <p:spTgt spid="2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Вычислить дискриминанты квадратных уравнений и указать число их корней: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457200" y="1719360"/>
          <a:ext cx="8229600" cy="44114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0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уравнени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искриминант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число корне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10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r>
                        <a:rPr b="0" lang="en-US" sz="2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4х+6=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х</a:t>
                      </a:r>
                      <a:r>
                        <a:rPr b="0" lang="en-US" sz="2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8х+1=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х</a:t>
                      </a:r>
                      <a:r>
                        <a:rPr b="0" lang="en-US" sz="2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х-7=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9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Вычислить дискриминанты квадратных уравнений и указать число их корней: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457200" y="1719360"/>
          <a:ext cx="8229600" cy="44114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0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уравнени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искриминант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число корне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10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r>
                        <a:rPr b="0" lang="en-US" sz="2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4х+6=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-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Нет корне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х</a:t>
                      </a:r>
                      <a:r>
                        <a:rPr b="0" lang="en-US" sz="2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8х+1=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Один корен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х</a:t>
                      </a:r>
                      <a:r>
                        <a:rPr b="0" lang="en-US" sz="2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х-7=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8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Два корн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12a05"/>
                </a:solidFill>
                <a:latin typeface="Arial"/>
              </a:rPr>
              <a:t>Решить уравнения: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457200" y="1719360"/>
          <a:ext cx="8229240" cy="441108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220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х</a:t>
                      </a:r>
                      <a:r>
                        <a:rPr b="0" lang="en-US" sz="4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8х+3=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r>
                        <a:rPr b="0" lang="en-US" sz="4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х=7х+2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12a05"/>
                </a:solidFill>
                <a:latin typeface="Arial"/>
              </a:rPr>
              <a:t>Решить уравнения: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457200" y="1719360"/>
          <a:ext cx="8218080" cy="4411080"/>
        </p:xfrm>
        <a:graphic>
          <a:graphicData uri="http://schemas.openxmlformats.org/drawingml/2006/table">
            <a:tbl>
              <a:tblPr/>
              <a:tblGrid>
                <a:gridCol w="4109040"/>
                <a:gridCol w="4109040"/>
              </a:tblGrid>
              <a:tr h="220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х</a:t>
                      </a:r>
                      <a:r>
                        <a:rPr b="0" lang="en-US" sz="4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8х+3=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 и 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r>
                        <a:rPr b="0" lang="en-US" sz="4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х=7х+2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+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7020000" y="4005360"/>
                <a:ext cx="64764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7093080" y="4797360"/>
                <a:ext cx="64764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Найти и записать коэффициенты квадратных уравнений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57200" y="2577600"/>
            <a:ext cx="4038480" cy="269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5" name=""/>
          <p:cNvGraphicFramePr/>
          <p:nvPr/>
        </p:nvGraphicFramePr>
        <p:xfrm>
          <a:off x="611280" y="1844640"/>
          <a:ext cx="8064360" cy="3960720"/>
        </p:xfrm>
        <a:graphic>
          <a:graphicData uri="http://schemas.openxmlformats.org/drawingml/2006/table">
            <a:tbl>
              <a:tblPr/>
              <a:tblGrid>
                <a:gridCol w="2016000"/>
                <a:gridCol w="2016000"/>
                <a:gridCol w="2016360"/>
                <a:gridCol w="201600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авнени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9c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9c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9c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9ce8"/>
                    </a:solidFill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r>
                        <a:rPr b="0" lang="en-US" sz="2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х+6=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9х</a:t>
                      </a:r>
                      <a:r>
                        <a:rPr b="0" lang="en-US" sz="2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r>
                        <a:rPr b="0" lang="en-US" sz="2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х=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х-4+5х</a:t>
                      </a:r>
                      <a:r>
                        <a:rPr b="0" lang="en-US" sz="2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Найти и записать коэффициенты квадратных уравнений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57200" y="2577600"/>
            <a:ext cx="4038480" cy="269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"/>
          <p:cNvGraphicFramePr/>
          <p:nvPr/>
        </p:nvGraphicFramePr>
        <p:xfrm>
          <a:off x="611280" y="1844640"/>
          <a:ext cx="8064360" cy="3960720"/>
        </p:xfrm>
        <a:graphic>
          <a:graphicData uri="http://schemas.openxmlformats.org/drawingml/2006/table">
            <a:tbl>
              <a:tblPr/>
              <a:tblGrid>
                <a:gridCol w="2016000"/>
                <a:gridCol w="2016000"/>
                <a:gridCol w="2016360"/>
                <a:gridCol w="201600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авнени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9c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9c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9c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9ce8"/>
                    </a:solidFill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r>
                        <a:rPr b="0" lang="en-US" sz="2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х+6=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9х</a:t>
                      </a:r>
                      <a:r>
                        <a:rPr b="0" lang="en-US" sz="2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r>
                        <a:rPr b="0" lang="en-US" sz="2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х=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х-4+5х</a:t>
                      </a:r>
                      <a:r>
                        <a:rPr b="0" lang="en-US" sz="2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Имеется уравнение 4х-2х(х+3)=5х.</a:t>
            </a:r>
            <a:br>
              <a:rPr sz="28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Отметить среди представленных уравнение, равносильное данному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57200" y="1719360"/>
          <a:ext cx="8229600" cy="441144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10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х</a:t>
                      </a:r>
                      <a:r>
                        <a:rPr b="0" lang="en-US" sz="4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3х=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0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х</a:t>
                      </a:r>
                      <a:r>
                        <a:rPr b="0" lang="en-US" sz="4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х=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0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х</a:t>
                      </a:r>
                      <a:r>
                        <a:rPr b="0" lang="en-US" sz="4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х=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0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х</a:t>
                      </a:r>
                      <a:r>
                        <a:rPr b="0" lang="en-US" sz="4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х=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Имеется уравнение 4х-2х(х+3)=5х.</a:t>
            </a:r>
            <a:br>
              <a:rPr sz="28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Отметить среди представленных уравнение, равносильное данному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57200" y="1719360"/>
          <a:ext cx="8229600" cy="441144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10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х</a:t>
                      </a:r>
                      <a:r>
                        <a:rPr b="0" lang="en-US" sz="4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3х=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0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х</a:t>
                      </a:r>
                      <a:r>
                        <a:rPr b="0" lang="en-US" sz="4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х=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</a:tr>
              <a:tr h="110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х</a:t>
                      </a:r>
                      <a:r>
                        <a:rPr b="0" lang="en-US" sz="4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х=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0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х</a:t>
                      </a:r>
                      <a:r>
                        <a:rPr b="0" lang="en-US" sz="4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х=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5" dur="2000" fill="hold"/>
                                        <p:tgtEl>
                                          <p:spTgt spid="1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Соединить отрезками уравнения с соответствующими утверждениями: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00000" y="1989000"/>
            <a:ext cx="2592360" cy="86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рав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4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59280" y="1989000"/>
            <a:ext cx="2592360" cy="86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меет два кор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00000" y="3573360"/>
            <a:ext cx="2592360" cy="86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равн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х-х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00000" y="5229360"/>
            <a:ext cx="2592360" cy="86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рав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х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59280" y="3573360"/>
            <a:ext cx="2592360" cy="86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меет один кор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859280" y="5229360"/>
            <a:ext cx="2592360" cy="86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 имеет корн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492360" y="2492280"/>
            <a:ext cx="1295640" cy="3168720"/>
          </a:xfrm>
          <a:prstGeom prst="line">
            <a:avLst/>
          </a:prstGeom>
          <a:ln w="38160">
            <a:solidFill>
              <a:srgbClr val="ff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564000" y="4005360"/>
            <a:ext cx="12240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3492360" y="2349000"/>
            <a:ext cx="1224000" cy="3311640"/>
          </a:xfrm>
          <a:prstGeom prst="line">
            <a:avLst/>
          </a:prstGeom>
          <a:ln w="38160">
            <a:solidFill>
              <a:srgbClr val="ff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8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8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8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Соединить отрезками уравнения с соответствующими им корнями: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16000" y="1844640"/>
            <a:ext cx="2951280" cy="5763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2х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16000" y="2781360"/>
            <a:ext cx="2951280" cy="5763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4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16000" y="3645000"/>
            <a:ext cx="2951280" cy="5760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4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16000" y="4508640"/>
            <a:ext cx="2951280" cy="5760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х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116000" y="5445000"/>
            <a:ext cx="2951280" cy="5763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х+х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148360" y="1628640"/>
            <a:ext cx="2016000" cy="5763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 и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020000" y="2708280"/>
            <a:ext cx="2016000" cy="5763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 и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04000" y="4221000"/>
            <a:ext cx="2016000" cy="5763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и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227640" y="5805360"/>
            <a:ext cx="2016360" cy="5763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 корн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956720" y="3429000"/>
            <a:ext cx="1008000" cy="431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659640" y="2276640"/>
            <a:ext cx="1008000" cy="431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596360" y="5229360"/>
            <a:ext cx="1008000" cy="431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4067280" y="3212640"/>
            <a:ext cx="2952720" cy="2521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067280" y="2133720"/>
            <a:ext cx="2736720" cy="2158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067280" y="3068640"/>
            <a:ext cx="2233440" cy="2808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4067280" y="2205000"/>
            <a:ext cx="1296720" cy="172872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4067280" y="2707920"/>
            <a:ext cx="2592360" cy="2089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20"/>
                            </p:stCondLst>
                            <p:childTnLst>
                              <p:par>
                                <p:cTn id="1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600"/>
                            </p:stCondLst>
                            <p:childTnLst>
                              <p:par>
                                <p:cTn id="2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880"/>
                            </p:stCondLst>
                            <p:childTnLst>
                              <p:par>
                                <p:cTn id="2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120"/>
                            </p:stCondLst>
                            <p:childTnLst>
                              <p:par>
                                <p:cTn id="2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500"/>
                            </p:stCondLst>
                            <p:childTnLst>
                              <p:par>
                                <p:cTn id="25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000"/>
                            </p:stCondLst>
                            <p:childTnLst>
                              <p:par>
                                <p:cTn id="26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Заполнить ячейки таблиц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57200" y="1719360"/>
          <a:ext cx="8229600" cy="4411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0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скримина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корн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110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ьше нул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вадратное уравнение имеет два корн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вен нул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Заполнить ячейки таблиц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57200" y="1719360"/>
          <a:ext cx="8229600" cy="4411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0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скримина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корн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110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ьше нул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 корн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е нул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вадратное уравнение имеет два корн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вен нул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коре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3T16:14:43Z</dcterms:created>
  <dc:creator>User</dc:creator>
  <dc:description/>
  <dc:language>en-US</dc:language>
  <cp:lastModifiedBy>Stas</cp:lastModifiedBy>
  <dcterms:modified xsi:type="dcterms:W3CDTF">2012-02-11T12:44:08Z</dcterms:modified>
  <cp:revision>5</cp:revision>
  <dc:subject/>
  <dc:title>Найти и записать коэффициенты квадратных уравнений</dc:title>
</cp:coreProperties>
</file>