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65B-BD6C-47E7-942F-E7EF54B8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87A-0295-4C9D-8D9D-64CB1EAC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159-9342-4F65-B020-2B90C78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749-0908-4F7B-8BFF-59FD8D46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2FA-EB63-439E-BCDB-16F06AA2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9630-4310-44BB-9260-9E07546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6532-3E1E-43FC-BB58-E8A1C14C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4933-47EC-40CA-B3F5-9329CFED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98C3-B01F-481A-84C3-5114F9FD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C87-C444-407F-837E-97128377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02A-00B3-4273-9832-7309C85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D4C-93D0-4D15-B9F9-82516EA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B02A-C03D-47D0-9EE9-14767F2E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5E2-F687-4D8F-827A-1E6D604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8ED5-4E0B-4ACC-8D29-E7651A5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E7BD-E1E4-471A-BFB2-3FA419E4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0C71-F708-46BB-8E7D-58A45D33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969-6840-4289-8C28-8B7EBCD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DAB-823A-44E4-89BB-B2C94EF2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18A-6A3B-423F-907A-64F3AAB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D5C-E6CE-4ABA-8F36-54BF58B9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D25-827D-4E5A-9EA7-9C0086B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BCE-3F2C-419B-B323-26DAE60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346-6B6F-4D63-A506-C15A973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ADF-2BAC-4264-828A-348684C27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7E1-F600-4D66-980D-5EF0A6AAA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1484280"/>
            <a:ext cx="28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1413000"/>
            <a:ext cx="46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280" y="1890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ект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“</a:t>
            </a: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Моя малая Родина</a:t>
            </a: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734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6 г. Пав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Печенев 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544500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ан в 1930 году как завод автотракторного инструмента. Введён в строй в 1932 году. В апреле 1952 года преобразован в автобусный завод. Сюда переведено производство автобусов с ГЗА. Первые автобусы собраны 5 августа 1952 года. С 1958 года выпускает автобусы собственной разработки (на шасси ГАЗ). Выпускал также фургоны и полуприцепы. 30 июля 1998 года выпущен полумилионный автобус. С 2001 года входит в холдинг "РусАвтобусПром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11592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вловский Автобусный Зав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ПА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144000" cy="1798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дельный ряд ПАЗ включает базовые модели семейств малого класса ПАЗ-3205 и ПАЗ-3204, низкопольный автобус малого класса ПАЗ-3237 «Лужок», а также специальные автобусы — ПАЗ-3206 с колесной формулой 4x4, ПАЗ-32053-70 школьный, грузопассажирский ПАЗ 32053-20 и другие спецавтомобили. Модернизация базовой модели ПАЗ-3205 и расширение модельного ряда ведется в соответствии с требованиями времени и потребительскими предпочтениями основных клиентов — транспорт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бусы ПАЗ неоднократно удостаивались высоких наград в крупнейших конкурсах в номинациях «Лучший городской автобус» (приз профессионалов) и «Комтранс» (приз жюри конкурс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12000" y="0"/>
            <a:ext cx="3132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1890 году народник А.Г. Штанге основал в Павлове «Павловскую кустарную артель металлистов» в советское время переименованную в завод им. С.М. Кирова. В 1971 году завод им. С.М. Кирова был удостоен высокой награды Родины - ордена «Знак Почё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26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ловый набо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ой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47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кресенская церк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836640"/>
            <a:ext cx="38894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городе Павлово замечательна церковь Воскресения Христова, отличающаяся высотой и красивой архитектурой. Она сооружаема была в продолжении нескольку лет, а приведена к концу и освящена в 1778 году нижегородец епископом Анто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260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несенская  церк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32000" y="0"/>
            <a:ext cx="62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кола №6 им. В. И. Ле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ша школа была во время ВОВ военным госпиталем. После войны в ней стали учится дети . В этой школе учились мои родители . Сейчас учимся мы с бра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89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вловский филиал ННГУ им. Н.И.Лобачев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615456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ткрытие нового учебного корпуса филиала было 28 мая 200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онец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8000" y="112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4581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2400" y="4859280"/>
            <a:ext cx="596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3336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51577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Павлово был основан в 1566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71640" y="620640"/>
            <a:ext cx="38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г. Павлово – на - О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5445000"/>
            <a:ext cx="61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С 1918 года Павлово — уездный город Нижегородской губернии, с 1929 — районный центр Нижегородского (Горьковского) края (Нижегородской области с 1936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47640" y="5013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т город районного значения в Нижегородской области России, административный центр Павловского района. Город расположен на правом берегу реки Оки на Перемиловских горах, в 79 км от Нижнего Новгорода. Конечная станция однопутной тепловозной железнодорожной линии Окская — Метал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40360" y="260280"/>
            <a:ext cx="3203640" cy="338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зей открыт 18 декабря 1936 года при Павловском промысловом союзе артелей по обработке металлов. Первоначально назывался Промышленным и отражал историю развития сталеслесарной промышленности в знаменитом Павловском кустарном районе. В 1980 г. получил статус государствен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8000" y="0"/>
            <a:ext cx="28083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зей расположен на набережной Оки в памятнике архитектуры областного значение - бывшей усадьбе купца II гильдии В.И. Гомулина (1885 г., эклектика). Усадьба замкнута в виде неправильного прямоугольника, образуемого зданиями дома, флигеля каретника и оградой с двумя арочными воротами. Это единственная усадьба в Павлове с развитой пространственной структурой и сложным силуэтом. Отделка здания пластична и разнообразна: орнаменты из красного кирпича в сочетании с белым камнем, художественный металл (решетки ворот и ограды крыш, чугунные литые навесы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ликолепно внутреннее убранство дома: мраморные подоконники, декоративные печи; в каждом зале свой узор художественной лепнины и наборного парк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8360" y="189000"/>
            <a:ext cx="3816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рт народной селекции, первые растения появились в г. Павлово-на-Оке Нижегородской области в середине XIX века, предположительно завезены из Тур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кустарного промысла и широкий торговый обмен с зарубежными странами в стародавние времена привели к распространению лимонных деревьев в Павло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коре слава о павловских лимонах пошла по всей России. Более ста лет назад "живой" товар из кустарного села наравне с другой невидалью нарасхват раскупали на шумных нижегородских ярмар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ом 2005 года, к дню города Павлова в сквере на пл.Базарной был установлен мемориал "Павловский лимон", посвященный городу и его историческим традициям - почти полтора века спустя лимон стал одним из официально признанных символов Павл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1640" y="333360"/>
            <a:ext cx="5184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В настоящий момент ТЦ CITRON является первым в г. Павлово (Нижегородская область) и районе торговым центром современного формата торговли. Центр дает горожанам возможность совершать покупки в цивилизованном торговом центр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Проект направлен на удовлетворение не восполненного спроса на качественные торговые площади со стороны торговых операторов и на удовлетворение сформировавшейся у жителей города и близ лежащих городов потребности совершать покупки в комфортных условиях. Торговый центр введен в эксплуатацию 26 сентября 2008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84360" y="5661000"/>
            <a:ext cx="66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Этот кинотеатр Спартак  был построен в далёком 1927 году , а сейчас он развлекательный центр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47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орец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2:49:30Z</dcterms:created>
  <dc:creator>User</dc:creator>
  <dc:description/>
  <dc:language>en-US</dc:language>
  <cp:lastModifiedBy>User</cp:lastModifiedBy>
  <dcterms:modified xsi:type="dcterms:W3CDTF">2012-02-12T13:58:02Z</dcterms:modified>
  <cp:revision>14</cp:revision>
  <dc:subject/>
  <dc:title>Слайд 1</dc:title>
</cp:coreProperties>
</file>