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692-02DA-43ED-9DF6-326AB325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54D-F0C4-4497-942D-15399820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640-33FE-4978-A225-9953B1B4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94-A32C-4262-A5FF-E07F17C0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942A-5907-4AE4-AAE4-899A5FE8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CB94-A560-44BF-AA27-7090FF5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4570-0C14-4C5B-A2E5-BA00E836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C1DC-33F4-414E-B054-2E3DE48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2B75-8AF5-4060-96A0-78A6CA9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EA2-7949-4B27-A749-79898C2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F386-2717-4784-A03F-C39A37EA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3D9-202B-4763-9DFD-A467B00F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AFA9-E51C-4948-8CCD-4CE8BF6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398B-B76F-4AB3-AE37-A93E31E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75B-CE53-4ED2-A0AA-B5523F0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892-10F2-4D8B-BC62-6B6E555C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530E-B750-41DD-B6F0-4155C5C1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E03-AC61-4301-B2CE-1E576325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DEC-244D-4A98-B1A4-BB3DE0D9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D69-7328-4FC0-B976-75450EF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01B-2E2D-46AC-B84F-35E71B47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3E2-EAFF-4B97-B60E-2C0E946F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58E-1C82-4A56-AACE-EC0A9F9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5CB-D474-4863-8661-5A82319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B89C-D3AA-46B5-A5E0-E77F044D64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DF1-064C-4349-87BB-1FF1C73CFDF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Не бывает на войне детей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5418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Классный час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Савицкая Галина Ивановн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ГБОУ НПО ПЛ №8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769080" cy="3584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imes New Roman"/>
              </a:rPr>
              <a:t>871-дневная блокада нашего города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3887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аек хлеба составлял 250г на работающего и 125г на ребенка и ничего больше, кроме воды из Невы. Жители города выдержал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 голода, холода и бомбежек погибло около миллиона ленинградцев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,1"/>
          <p:cNvPicPr/>
          <p:nvPr/>
        </p:nvPicPr>
        <p:blipFill>
          <a:blip r:embed="rId1"/>
          <a:stretch/>
        </p:blipFill>
        <p:spPr>
          <a:xfrm rot="828000">
            <a:off x="5546880" y="1328760"/>
            <a:ext cx="2374920" cy="178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84133912"/>
          <p:cNvPicPr/>
          <p:nvPr/>
        </p:nvPicPr>
        <p:blipFill>
          <a:blip r:embed="rId2"/>
          <a:stretch/>
        </p:blipFill>
        <p:spPr>
          <a:xfrm>
            <a:off x="7072200" y="4419720"/>
            <a:ext cx="1738440" cy="223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leningrad"/>
          <p:cNvPicPr/>
          <p:nvPr/>
        </p:nvPicPr>
        <p:blipFill>
          <a:blip r:embed="rId3"/>
          <a:stretch/>
        </p:blipFill>
        <p:spPr>
          <a:xfrm rot="620400">
            <a:off x="6762600" y="2974680"/>
            <a:ext cx="2357640" cy="145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40"/>
          <p:cNvPicPr/>
          <p:nvPr/>
        </p:nvPicPr>
        <p:blipFill>
          <a:blip r:embed="rId4"/>
          <a:stretch/>
        </p:blipFill>
        <p:spPr>
          <a:xfrm>
            <a:off x="4148280" y="4629240"/>
            <a:ext cx="2627280" cy="1801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41"/>
          <p:cNvPicPr/>
          <p:nvPr/>
        </p:nvPicPr>
        <p:blipFill>
          <a:blip r:embed="rId5"/>
          <a:stretch/>
        </p:blipFill>
        <p:spPr>
          <a:xfrm>
            <a:off x="4189320" y="2987640"/>
            <a:ext cx="244944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амяти погибших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новь скупая слеза сторожит тишину, вы о жизни мечтали, уходя на войн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колько юных тогда не вернулось назад, не дожив, не допев, под гранитом лежат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лядя в вечный огонь – тихой скорби сиянье – ты послушай святую минуту молчань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87480"/>
            <a:ext cx="9828360" cy="6770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В огне сгорело детство,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Но не прошло бесследно, нет,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И носим мы в себе наследство –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И боль, и радость грозных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лет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времени есть своя память – история.  И потому мир никогда не забывает о трагедиях, потрясших планету в разные эпохи, в том числе и о жестоких войнах. Потому что и сейчас где-то тоже идет война, свистят пули, рассыпаются от снарядов в крошки, в пыль дома и горят детские кроватки. Наш разговор сегодня – это  память обо всем пережитом и взрослыми, и детьми в военные годы. Ведь время все быстрее уносит свидетелей и участников, тех, кто был, кто знал, кто видел и выстрадал боль и ужас утрат  и радость надежд в ожидании победы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Мы знаем по сбивчивым трудным рассказам,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 горьком победном пути,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этому должен хотя бы наш разум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орогой страданья пройти!.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417672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941 год. Начало лета. Мальчишки и девчонки, наши сверстники, радовались наступившим каникулам. А выпускники прощались со школой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6" descr="балл"/>
          <p:cNvPicPr/>
          <p:nvPr/>
        </p:nvPicPr>
        <p:blipFill>
          <a:blip r:embed="rId1"/>
          <a:stretch/>
        </p:blipFill>
        <p:spPr>
          <a:xfrm rot="353400">
            <a:off x="5038560" y="3789000"/>
            <a:ext cx="4105440" cy="288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 rot="516000">
            <a:off x="4500360" y="2133360"/>
            <a:ext cx="3574800" cy="28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Солнечным ранним утром в июне,                                                      В час, когда пробуждалась страна.                 Прозвучало впервые для юных                                       Это страшное слово - ВОЙН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7280" y="2276280"/>
            <a:ext cx="4246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з заявления  советского правительств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егодня, в  4 часа утра, без предъявления каких-либо претензий к Советскому Союзу, без объявления войны,   германские войска напали на нашу страну, атаковали наши границы во многих местах и подвергли бомбежке со своих самолетов наши города – Житомир, Киев, Севастополь, Каунас  и многие другие города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7" descr="9v"/>
          <p:cNvPicPr/>
          <p:nvPr/>
        </p:nvPicPr>
        <p:blipFill>
          <a:blip r:embed="rId1"/>
          <a:stretch/>
        </p:blipFill>
        <p:spPr>
          <a:xfrm>
            <a:off x="684360" y="2133720"/>
            <a:ext cx="325116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92200" y="49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Как внезапно ворвалась война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418страшных мучительных дне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7 миллионов погибших, искалеченных, осиротевших, обездоленных. Среди них не только воины, но и дети – мальчишки и девчонки, не успевшие узнать, что такое жизнь, но познавшие страдание и взглянувшие в глаза смерти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64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1941-1942</a:t>
            </a:r>
            <a:br>
              <a:rPr sz="44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амые страшные военные годы…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лаза девчонки семилетней, как два померкших огонька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 детском личике заметней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большая, тяжкая тоск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7" descr="49"/>
          <p:cNvPicPr/>
          <p:nvPr/>
        </p:nvPicPr>
        <p:blipFill>
          <a:blip r:embed="rId1"/>
          <a:stretch/>
        </p:blipFill>
        <p:spPr>
          <a:xfrm rot="409800">
            <a:off x="4067280" y="2637000"/>
            <a:ext cx="4356000" cy="34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8064360" cy="28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ни встретили войну в разном возрасте. Кто-то совсем крохой, кто-то подростком, а кто-то был на пороге юности. Война застала их в столичных городах и маленьких деревеньках, дома и в гостях у бабушки, в пионерском лагере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а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еднем крае и в глубоком тыл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7" name="Picture 4" descr="d8"/>
          <p:cNvPicPr/>
          <p:nvPr/>
        </p:nvPicPr>
        <p:blipFill>
          <a:blip r:embed="rId1"/>
          <a:stretch/>
        </p:blipFill>
        <p:spPr>
          <a:xfrm>
            <a:off x="536400" y="3328920"/>
            <a:ext cx="3230640" cy="227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1"/>
          <p:cNvPicPr/>
          <p:nvPr/>
        </p:nvPicPr>
        <p:blipFill>
          <a:blip r:embed="rId2"/>
          <a:stretch/>
        </p:blipFill>
        <p:spPr>
          <a:xfrm>
            <a:off x="2614680" y="4853160"/>
            <a:ext cx="290196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0"/>
          <p:cNvPicPr/>
          <p:nvPr/>
        </p:nvPicPr>
        <p:blipFill>
          <a:blip r:embed="rId3"/>
          <a:stretch/>
        </p:blipFill>
        <p:spPr>
          <a:xfrm>
            <a:off x="5962680" y="3187800"/>
            <a:ext cx="2730600" cy="232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07"/>
          <p:cNvPicPr/>
          <p:nvPr/>
        </p:nvPicPr>
        <p:blipFill>
          <a:blip r:embed="rId4"/>
          <a:stretch/>
        </p:blipFill>
        <p:spPr>
          <a:xfrm>
            <a:off x="3767040" y="3389400"/>
            <a:ext cx="2189160" cy="207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Будто бы вставшие из пепла дети-узники обращаются к нам, ко всем живущим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692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мните о нас: …любили мы и жизнь, и Родину, но мы сгорели живыми в огне. Пусть скорбь и печаль обернуть в мужество и силу, чтобы утвердить навечно мир и покой на земле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5" descr="1616"/>
          <p:cNvPicPr/>
          <p:nvPr/>
        </p:nvPicPr>
        <p:blipFill>
          <a:blip r:embed="rId1"/>
          <a:stretch/>
        </p:blipFill>
        <p:spPr>
          <a:xfrm rot="560400">
            <a:off x="971640" y="4436640"/>
            <a:ext cx="3097080" cy="219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8"/>
          <p:cNvPicPr/>
          <p:nvPr/>
        </p:nvPicPr>
        <p:blipFill>
          <a:blip r:embed="rId2"/>
          <a:stretch/>
        </p:blipFill>
        <p:spPr>
          <a:xfrm rot="21136800">
            <a:off x="190440" y="2125800"/>
            <a:ext cx="370224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5640" y="333000"/>
            <a:ext cx="6985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ти и война – понятия несовместимые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е, что попали на войну, должны были расстаться с детством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    Кто возвратит детство ребёнку, прошедшему через ужас войны? Что поняли, увидели, запомнили дети войны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    Много. Об этом смогут рассказать они сам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d3"/>
          <p:cNvPicPr/>
          <p:nvPr/>
        </p:nvPicPr>
        <p:blipFill>
          <a:blip r:embed="rId1"/>
          <a:stretch/>
        </p:blipFill>
        <p:spPr>
          <a:xfrm>
            <a:off x="406440" y="3068640"/>
            <a:ext cx="33735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47"/>
          <p:cNvPicPr/>
          <p:nvPr/>
        </p:nvPicPr>
        <p:blipFill>
          <a:blip r:embed="rId2"/>
          <a:stretch/>
        </p:blipFill>
        <p:spPr>
          <a:xfrm>
            <a:off x="6875640" y="3573360"/>
            <a:ext cx="2016000" cy="277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4067280" y="3068640"/>
            <a:ext cx="2504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5:38:28Z</dcterms:created>
  <dc:creator>Савицкий Р.Н.</dc:creator>
  <dc:description/>
  <dc:language>en-US</dc:language>
  <cp:lastModifiedBy>801146</cp:lastModifiedBy>
  <dcterms:modified xsi:type="dcterms:W3CDTF">2012-02-12T17:53:16Z</dcterms:modified>
  <cp:revision>11</cp:revision>
  <dc:subject/>
  <dc:title>«Не бывает на войне дете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11049</vt:lpwstr>
  </property>
</Properties>
</file>