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DEC-2893-4202-A9DA-B8B2C112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EB7-C0D3-42BC-9659-2D74A59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710-86CA-4CD5-AD85-CE3AD4B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506-C369-4BED-A21E-86ECC10D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751-6DD4-4F89-A583-BC2AA2D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5D6-9F0B-447A-9E78-658B8EF3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9A7-F594-496A-A3EA-ABB3F8D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3B1-5BE6-4741-8CB2-98BB2F9C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07C-3667-4472-9221-9E81DE9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225-BF8E-4887-B67C-357A83A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C84-46E9-4F48-8501-9D37C09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80C-8B91-481A-A659-8744BF1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928B-E634-4318-8F55-90BD5E96F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b" descr="738bdd7a0c3455b749292bd3b2c23926_full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42" name="imgb" descr="http://www.only.ee/uploads/posts/2009-09/1253106919_d09ed181d0b5d0bdd18c.jpg"/>
          <p:cNvPicPr/>
          <p:nvPr/>
        </p:nvPicPr>
        <p:blipFill>
          <a:blip r:embed="rId2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Радуга-дуга - лето поле радуга фото фотосайт"/>
          <p:cNvPicPr/>
          <p:nvPr/>
        </p:nvPicPr>
        <p:blipFill>
          <a:blip r:embed="rId3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imgb" descr="s_vesna"/>
          <p:cNvPicPr/>
          <p:nvPr/>
        </p:nvPicPr>
        <p:blipFill>
          <a:blip r:embed="rId4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Seas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Солнечный денек - лужайка клены солнце лето фото фотосай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Summ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mmer is sunny and hot. The weather is dry. Sometimes it rains and st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3960" y="3505320"/>
            <a:ext cx="38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The summer sun in the sky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Shining, shining up so high</a:t>
            </a:r>
            <a:br>
              <a:rPr sz="1800"/>
            </a:b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Makes it warm for outside fun.</a:t>
            </a:r>
            <a:br>
              <a:rPr sz="1800"/>
            </a:b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To play at the park and run,</a:t>
            </a:r>
            <a:br>
              <a:rPr sz="1800"/>
            </a:b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To swim and hike and fish,</a:t>
            </a:r>
            <a:br>
              <a:rPr sz="1800"/>
            </a:b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And to go on a picnic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105880" y="2647800"/>
            <a:ext cx="355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Лето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Говорит в июне мама: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"Наступает ле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ummer.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то проводит в городе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Летний отпуск,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ет тут моря, нет залива..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ету даже речк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river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—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оглашается малыш, —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Где ловить мне рыбу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fish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ам бы сесть с тобой на поезд,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В лес густой уехать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orest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"Хорошо, мышонок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mouse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нимем дачу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country house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ummer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590920" y="198216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 love summer! Summer is hot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sun and shade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water to wade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frogs and bugs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grass for rugs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eating outside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a tree-swing ride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tomatoes and corn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dew in the morn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dogs and boys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And lots of noise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a hot sunny sky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t's summer. That's why....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I love su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gb" descr="738bdd7a0c3455b749292bd3b2c23926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Win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weather is frosty and snowy. It often snows. The temperature usually is below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5880" y="3196800"/>
            <a:ext cx="251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January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Now is here --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A fine new start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or a whole new year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The snow comes down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In the dark of night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hen we awake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The world is white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In January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hen there's snow,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e get our sleds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And away we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78720" y="2647800"/>
            <a:ext cx="379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Зим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е страшна зима мн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winter!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 меня есть теплый свитер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Рукавички и носки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зову ребят скорей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коньках кататься,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kate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 на лыжах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ki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снежки играли,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nowballs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За воротник заполз мороз —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Хитер мороз, непрост!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иду домой, открою шкаф —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Там теплый мамин шарфик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scarf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ержись морозец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frost!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KKoF4_utFrjBX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372120" y="2148120"/>
            <a:ext cx="239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 year to be glad in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nd not to be sad in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o gain in, to give in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 happy new year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 new year for trying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nd never for sighing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 new year to live in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h, hold it most d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gb" descr="s_vesn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spring the snow is melting. Sometimes it freezes at nights. Day time the sun is shining and the weather becomes warm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84840" y="3277080"/>
            <a:ext cx="359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The March wind roars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Like a lion in the sky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And makes us shiver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As he passes by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When winds are soft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And the days are warm and clear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Just like a gentle lamb,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Then spring is her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802040" y="3201120"/>
            <a:ext cx="3897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н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пло посмотрит солнце вниз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а сразу ожив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зеленеют листь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leaves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илетит к нам птичка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ir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преле птицы будят нас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мы с тобою говорим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Смотри, пробилась травка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gras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хорошо весною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spr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!"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523880"/>
          <a:ext cx="8686800" cy="4572000"/>
        </p:xfrm>
        <a:graphic>
          <a:graphicData uri="http://schemas.openxmlformats.org/drawingml/2006/table">
            <a:tbl>
              <a:tblPr/>
              <a:tblGrid>
                <a:gridCol w="4141800"/>
                <a:gridCol w="4545000"/>
              </a:tblGrid>
              <a:tr h="478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FROM fairest creatures we desire increase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That thereby beauty's rose might never die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But as the riper should by time decease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His tender heir might bear his memory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But thou, contracted to thine own bright eyes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Feed'st thy light'st flame with self-substantial fuel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Making a famine where abundance lies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Thyself thy foe, to thy sweet self too cruel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Thou that art now the world's fresh ornament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And only herald to the gaudy spring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Within thine own bud buriest thy content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And, tender churl, makest waste in niggarding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Pity the world, or else this glutton be,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To eat the world's due, by the grave and the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Как хотелось бы нам, чтобы вечно жила красот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Чтобы нежные розы хранили румяную свежесть!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о тугая пчела дребезжит над цветком неспроста 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абухающий плод в лепестках облетающих брезжит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Отчего же тебя никакая любовь не влечёт?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И железно жесток из-под век обжигающий пламень?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ак бесплодное солнце в безводной пустыне печёт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И песок золотой помертвело спекается в камень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вой пленительный облик, прекрасная - только намёк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а грядущей весны настоящее, зрелое буйство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ы - изящная почка. А где же, простите, цветок?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Где же плод, наконец, властелин изощрённого вкуса?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Мир проглотит, конечно, и мякоть, и скрытую твердь..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Да, прожорлива жизнь... Но гораздо прожорливей смерть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gb" descr="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Aut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 is rainy and wet generally. But usually September is rather warm and sunny. In the end of November it starts snowy and fro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240" y="3810240"/>
            <a:ext cx="341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; autumn is here!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he little grey squirrels tell us 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; 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; autumn is here!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he golden leaves tell us that. 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; 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; autumn is here!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he cool breezes tell us that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Autumn is her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279600" y="3810240"/>
            <a:ext cx="288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This is the season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When fruit is sweet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This is the season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When school friends meet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When noisy and gay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And browned by the sun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With their books and bags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To school they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5940360" y="2287800"/>
            <a:ext cx="320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ен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гляди в окно скорей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стучится? —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ждик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in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упает осен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utumn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выходят на работу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асфальте дети мел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рисуют — места не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тья желтые там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yellow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также красных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d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у мы рукой помаше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ет влажный ветер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й, смотри, грибочек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ushroom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дной ноге стоит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303</cp:lastModifiedBy>
  <dcterms:modified xsi:type="dcterms:W3CDTF">2010-04-20T07:1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