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4EB9-56C1-4026-A13D-7D72DC6D7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м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40E-5C94-4640-AC80-99B2ABE1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5C2-C87C-4EEF-A946-F9664E1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1F0-E849-4F31-9D5B-071C0BBC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0E2-B31C-445F-8405-1A6162F5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7E9-B213-4C1C-A571-E20285D3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720-FFA0-44B7-8968-C8260135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B89-74F1-46AE-8321-BFCAE2A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912-E5C8-49FA-BE32-A97FB2F8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BE9-740F-4A7E-82E7-E41AE8B4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8B3-07E2-4315-AA7C-3E2FA54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77A-DA79-4057-93A9-CAA4F93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B8F-27C3-4409-A795-4F463F8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AA7-34B5-466E-A0C4-BF0880FD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1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Портрет одного сл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«МУЗЫ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92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Ударно-клавиш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Фортепиано                     Клави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248436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418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Щипково-клавиш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Клаве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09708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Электро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Синтезатор                     Электро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889440" cy="410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96072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000" y="260280"/>
            <a:ext cx="80658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Д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Клавишно-дух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Орган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0" r="0" b="8749"/>
          <a:stretch/>
        </p:blipFill>
        <p:spPr>
          <a:xfrm>
            <a:off x="1979640" y="1484280"/>
            <a:ext cx="489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Языч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Аккордеон                       Бая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3887640" cy="33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Языч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Фисгармония                 Мелод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4944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3050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Вопросы 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1)  Назовите 3-и любые жанра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2)  Что такое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3)  Назовите 3-и любые группы музыкальных инстр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Назовите эти музыкальные инстр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а)                    б)                   в)                 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194292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1943280" cy="20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04000" y="4149720"/>
            <a:ext cx="19432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Поп, хип-хоп, дис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Вид искусства, художественным материалом которого является 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Духовые, струнные, клавиш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а) клавесин, б) фисгармония, в) клавикорд, г)аккорде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16036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При работе мне помог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Интернет - 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28414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Презентацию созда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Ученица 6б класса МБОУСОШ №154 Кадашова Ше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Учитель: Горбачева М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311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Я выбрала слово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музыка, потому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Очень люблю слушать му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Увлекаюсь музы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Посещаю музыкальную шк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Играю на фортепи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54720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Музыка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Вид искусства, художественным материалом которого является 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или ж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Вид искусства объединяющий тоны в благозвучные группы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12598"/>
          <a:stretch/>
        </p:blipFill>
        <p:spPr>
          <a:xfrm>
            <a:off x="3492360" y="4724280"/>
            <a:ext cx="216072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7559"/>
          <a:stretch/>
        </p:blipFill>
        <p:spPr>
          <a:xfrm>
            <a:off x="6516720" y="4508640"/>
            <a:ext cx="1944720" cy="179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17892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Музыка быв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Вок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Инструмент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Этн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На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Аутент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Класс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Электр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5989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Музыкальные стили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и жан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Дж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П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Ди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Рэ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Хип – х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Элек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5249" t="6561" r="5249" b="6561"/>
          <a:stretch/>
        </p:blipFill>
        <p:spPr>
          <a:xfrm>
            <a:off x="5651640" y="1197000"/>
            <a:ext cx="3024000" cy="274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376720" cy="263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2363760" cy="2733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7672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rcRect l="25195" t="25195" r="25195" b="25195"/>
          <a:stretch/>
        </p:blipFill>
        <p:spPr>
          <a:xfrm>
            <a:off x="1116000" y="5734080"/>
            <a:ext cx="135576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Gothic"/>
              </a:rPr>
              <a:t>Музыкальные 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Музыкальный инструмент – обычно предмет, с помощью которого музыканты извлекают любые, и в том числе немузыкальные неорганизованные зв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Группы, на которые делятся музыкальные инструмен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Стру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Уда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Клавиш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Струнно-смыч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Струнно-щип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Д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Электр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16872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Медные д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Язычковые д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Деревянные дух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392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Клавиш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Ударно-клавишные (фортепиано и старинный клавикор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Щипково-клавишные (клавесин и его разновид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Электр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Электронные (синтезатор, электроорг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Ду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Клавишно-духовой (орган и его разновид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Язычковые (фисгармония, баян, аккордеон, мелод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25195"/>
          <a:stretch/>
        </p:blipFill>
        <p:spPr>
          <a:xfrm>
            <a:off x="6551640" y="0"/>
            <a:ext cx="259236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0:24:33Z</dcterms:created>
  <dc:creator>Шахин</dc:creator>
  <dc:description/>
  <dc:language>en-US</dc:language>
  <cp:lastModifiedBy>LAN_OS</cp:lastModifiedBy>
  <dcterms:modified xsi:type="dcterms:W3CDTF">2011-12-06T08:23:27Z</dcterms:modified>
  <cp:revision>11</cp:revision>
  <dc:subject/>
  <dc:title>Слайд 1</dc:title>
</cp:coreProperties>
</file>