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22.wmf" ContentType="image/x-wmf"/>
  <Override PartName="/ppt/media/image20.png" ContentType="image/png"/>
  <Override PartName="/ppt/media/image19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3.jpeg" ContentType="image/jpeg"/>
  <Override PartName="/ppt/media/image16.png" ContentType="image/png"/>
  <Override PartName="/ppt/media/image7.png" ContentType="image/png"/>
  <Override PartName="/ppt/media/image15.wmf" ContentType="image/x-wmf"/>
  <Override PartName="/ppt/media/image1.png" ContentType="image/png"/>
  <Override PartName="/ppt/media/image21.gif" ContentType="image/gi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D24-C59F-4E2E-85B9-50235541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EA5-8E5C-4837-8A13-55E2F679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3F4-CE1F-4AAC-9C87-CC416072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060-0AE5-4FC3-AED8-12D05AEE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688A-87BD-4C04-AB9C-423321AB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FF1A-936E-4F1E-9C16-D50E4D41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3A39-C652-4FD6-962D-8A3C21D4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A976-343E-4EB1-B22D-8CC5B01C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2F1A-47C5-47F7-A251-C131A310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FE0E-E518-4BE1-9750-28D65C6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52A8-7D9A-4F2C-BDF3-A7ABCC71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7DD-FAF4-4A37-B9CD-D994E850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5FFC-441E-45FE-9858-0D016176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CD00-80CE-488B-A5AE-BE59856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4BB0-0121-4C1F-83BF-5EF2CF7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77D2-9F67-48D1-BF66-1024BBDE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6ADF-4809-4840-BE64-BAF39648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F97-B261-402F-9551-F965879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0C0-D4E0-49A0-9666-941073E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46C-F957-4BDB-94FF-4182BE70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443-7279-49EA-857F-B9CFCA10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18A-AC13-46FD-8A2A-BC77CDC8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411-FE80-468C-A902-3A7FDE4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9D3-B2CD-4833-9785-331DF7D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FEDB-05AA-4804-9D22-4CD15E93AE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4B86-DB49-4D83-BDB1-0C4344F672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7405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2920" y="5229360"/>
            <a:ext cx="72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Garamond"/>
              </a:rPr>
              <a:t>БЕЗ ДРУГА В ЖИЗНИ ТУ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350"/>
                            </p:stCondLst>
                            <p:childTnLst>
                              <p:par>
                                <p:cTn id="17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3026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«Искренность отношений,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правда в общении – 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вот дружба»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                              Суворов А. В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1680" y="3357720"/>
            <a:ext cx="16668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632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«Если заводишь новых</a:t>
            </a:r>
            <a:br>
              <a:rPr sz="4400"/>
            </a:b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друзей, не забывай о старых»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Эразм Роттердамск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9640" y="5013360"/>
            <a:ext cx="1258920" cy="1422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740720" y="5013360"/>
            <a:ext cx="12538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«Настоящая дружба правдива и отважна»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                                      Байрон Д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3860280"/>
            <a:ext cx="77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40323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«Дружба одного разумного</a:t>
            </a:r>
            <a:br>
              <a:rPr sz="4400"/>
            </a:b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человека дороже дружбы</a:t>
            </a:r>
            <a:br>
              <a:rPr sz="4400"/>
            </a:b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всех неразумных»</a:t>
            </a:r>
            <a:br>
              <a:rPr sz="4400"/>
            </a:b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                                Демокри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2924280"/>
            <a:ext cx="43196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300720" y="3684600"/>
            <a:ext cx="23036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«Без дружбы никакое 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общение между людьми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не имеет ценности»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     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                                  Сокра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0" name="Рисунок 10" descr=""/>
          <p:cNvPicPr/>
          <p:nvPr/>
        </p:nvPicPr>
        <p:blipFill>
          <a:blip r:embed="rId2"/>
          <a:stretch/>
        </p:blipFill>
        <p:spPr>
          <a:xfrm>
            <a:off x="0" y="2997360"/>
            <a:ext cx="2590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«Дружба –гавань, к которой стремится человек, она </a:t>
            </a: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доставляет радость и спокойствие духа»</a:t>
            </a: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                                          Тассо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9640" y="3708360"/>
            <a:ext cx="2880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Законы дружб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дин за всех, все за одн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 погибай, а товарища выруча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рожи дружбой, уважай друз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 груби, не злись, не жаднича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тупай друг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 стыдись просить про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упай так, как хочешь, чтобы поступали с тоб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ff"/>
                                      </p:to>
                                    </p:animClr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ff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5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05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5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305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5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05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Продолжи пословицу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Человек без друзей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5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8343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Человек без друзей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что дерево без корн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300"/>
                            </p:stCondLst>
                            <p:childTnLst>
                              <p:par>
                                <p:cTn id="26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979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Не имей сто рублей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80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«В мире нет ничего лучше и</a:t>
            </a: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приятнее дружбы; исключить</a:t>
            </a: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из жизни дружбу – все равно</a:t>
            </a: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что лишить мир солнечного </a:t>
            </a: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света.»     </a:t>
            </a: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                                          Цицерон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8000" y="3930480"/>
            <a:ext cx="44276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Не имей сто рублей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а имей сто друз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16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33112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8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250"/>
                            </p:stCondLst>
                            <p:childTnLst>
                              <p:par>
                                <p:cTn id="28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9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417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Для друга пироги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940360" y="3789360"/>
            <a:ext cx="1946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9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Для друга пироги,  для врага кулак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1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Не тот друг, кто медком мажет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1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95400"/>
            <a:ext cx="793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62064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Не тот друг, кто медком мажет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а тот, кто правду в глаза скаже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2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3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Без друга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50"/>
                            </p:stCondLst>
                            <p:childTnLst>
                              <p:par>
                                <p:cTn id="34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4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920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Без друга на сердце вьюг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419640" y="45766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9efee"/>
                </a:solidFill>
                <a:latin typeface="Garamond"/>
              </a:rPr>
              <a:t>Дружба -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близкие отношения, основанные на взаимном доверии, привязанности, общности интере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Рисунок 7" descr=""/>
          <p:cNvPicPr/>
          <p:nvPr/>
        </p:nvPicPr>
        <p:blipFill>
          <a:blip r:embed="rId1"/>
          <a:stretch/>
        </p:blipFill>
        <p:spPr>
          <a:xfrm>
            <a:off x="2590920" y="3500280"/>
            <a:ext cx="267480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« У друзей все общее,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и дружба есть равенство»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                                       Пифаго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2"/>
          <a:stretch/>
        </p:blipFill>
        <p:spPr>
          <a:xfrm>
            <a:off x="900000" y="3376440"/>
            <a:ext cx="4208400" cy="277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84360" y="1412640"/>
            <a:ext cx="83008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9efee"/>
                </a:solidFill>
                <a:latin typeface="Garamond"/>
              </a:rPr>
              <a:t>Друг -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, который связан с кем-нибудь дружб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Рисунок 34" descr=""/>
          <p:cNvPicPr/>
          <p:nvPr/>
        </p:nvPicPr>
        <p:blipFill>
          <a:blip r:embed="rId1"/>
          <a:stretch/>
        </p:blipFill>
        <p:spPr>
          <a:xfrm>
            <a:off x="2627280" y="3413160"/>
            <a:ext cx="374652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102,-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102,-1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425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«Наслаждаться общением –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главный признак  дружбы»</a:t>
            </a: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                                Аристоте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4511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9efee"/>
                </a:solidFill>
                <a:latin typeface="Garamond"/>
              </a:rPr>
              <a:t>Кто такой друг?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494080" y="1682640"/>
            <a:ext cx="4084560" cy="3936960"/>
            <a:chOff x="2494080" y="1682640"/>
            <a:chExt cx="4084560" cy="3936960"/>
          </a:xfrm>
        </p:grpSpPr>
        <p:sp>
          <p:nvSpPr>
            <p:cNvPr id="132" name="_s137234"/>
            <p:cNvSpPr/>
            <p:nvPr/>
          </p:nvSpPr>
          <p:spPr>
            <a:xfrm flipH="1" flipV="1">
              <a:off x="3525480" y="3475080"/>
              <a:ext cx="507960" cy="164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37233"/>
            <p:cNvSpPr/>
            <p:nvPr/>
          </p:nvSpPr>
          <p:spPr>
            <a:xfrm>
              <a:off x="2494080" y="2782800"/>
              <a:ext cx="1058760" cy="105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защитни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37232"/>
            <p:cNvSpPr/>
            <p:nvPr/>
          </p:nvSpPr>
          <p:spPr>
            <a:xfrm flipH="1">
              <a:off x="3911400" y="4229280"/>
              <a:ext cx="314280" cy="43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37231"/>
            <p:cNvSpPr/>
            <p:nvPr/>
          </p:nvSpPr>
          <p:spPr>
            <a:xfrm>
              <a:off x="3071880" y="456084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партнер п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доверитель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ному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общени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137230"/>
            <p:cNvSpPr/>
            <p:nvPr/>
          </p:nvSpPr>
          <p:spPr>
            <a:xfrm>
              <a:off x="4844880" y="4229280"/>
              <a:ext cx="316080" cy="43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137229"/>
            <p:cNvSpPr/>
            <p:nvPr/>
          </p:nvSpPr>
          <p:spPr>
            <a:xfrm>
              <a:off x="4941720" y="4560840"/>
              <a:ext cx="105912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партне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по игр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137228"/>
            <p:cNvSpPr/>
            <p:nvPr/>
          </p:nvSpPr>
          <p:spPr>
            <a:xfrm flipV="1">
              <a:off x="5037120" y="3472920"/>
              <a:ext cx="509760" cy="1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37227"/>
            <p:cNvSpPr/>
            <p:nvPr/>
          </p:nvSpPr>
          <p:spPr>
            <a:xfrm>
              <a:off x="5519880" y="2782800"/>
              <a:ext cx="1058760" cy="105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близкий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понимающ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челове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7226"/>
            <p:cNvSpPr/>
            <p:nvPr/>
          </p:nvSpPr>
          <p:spPr>
            <a:xfrm flipV="1">
              <a:off x="4535640" y="2739960"/>
              <a:ext cx="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7225"/>
            <p:cNvSpPr/>
            <p:nvPr/>
          </p:nvSpPr>
          <p:spPr>
            <a:xfrm>
              <a:off x="4006800" y="1682640"/>
              <a:ext cx="1058760" cy="105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помощни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7224"/>
            <p:cNvSpPr/>
            <p:nvPr/>
          </p:nvSpPr>
          <p:spPr>
            <a:xfrm>
              <a:off x="4006800" y="3274920"/>
              <a:ext cx="1058760" cy="105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дру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147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«Друзья на то и  существуют, чтобы помогать друг другу»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                                 Роллан Р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24360" y="5084280"/>
            <a:ext cx="461952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Рисунок 19" descr=""/>
          <p:cNvPicPr/>
          <p:nvPr/>
        </p:nvPicPr>
        <p:blipFill>
          <a:blip r:embed="rId2"/>
          <a:stretch/>
        </p:blipFill>
        <p:spPr>
          <a:xfrm>
            <a:off x="468360" y="3575160"/>
            <a:ext cx="42465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0848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«Истинный друг 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познается в несчастье»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                                Эзоп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1280" y="4106880"/>
            <a:ext cx="2232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7:42:25Z</dcterms:created>
  <dc:creator>Ольга</dc:creator>
  <dc:description/>
  <dc:language>en-US</dc:language>
  <cp:lastModifiedBy>my</cp:lastModifiedBy>
  <dcterms:modified xsi:type="dcterms:W3CDTF">2011-02-11T12:35:43Z</dcterms:modified>
  <cp:revision>10</cp:revision>
  <dc:subject/>
  <dc:title>Слайд 1</dc:title>
</cp:coreProperties>
</file>