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6FB-F9F6-43D2-8583-22D750D6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AB6-BAAC-4CF1-89B7-FFC8E1FF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493-2CD9-4756-BC18-2BF84F83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15E-2832-4B06-83F0-E59C27B7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7208-B371-4517-91D3-DC2F6C34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703-39DA-4D2E-9947-A72F972D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9644-367E-4AB8-9514-F81A6300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93BF-9F0E-4BD4-88C8-7C24936E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15DF-44EA-4915-BA1D-2E68F3D0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6E78-6C41-4DFD-A5C2-73A8468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BA98-E27E-4AB9-9246-50DDDD2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108-F4D0-4BA4-B1F0-1973844C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13C6-D185-4EA5-9DA6-7ADC7EFD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D81-7C26-4935-B2C9-288945C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9DCF-DC91-412A-8D0E-2B6B7A7D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C52C-EC3B-479D-BDD3-A88DC386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CF97-6FE6-41F2-AD41-7BF6FBCD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D36-2257-4C4B-B473-1E5B7AB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C6B-7B64-4151-8578-C0666120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750-A58C-4302-9E3F-F06902D2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176-D40F-4652-BEE5-4B87DFB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460-E4A1-4A79-8430-2AF44F9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24B-9DE7-41DD-BA13-BA245FEE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EA3-5869-49CF-8091-92BA559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DD79-1DED-42A7-9D6F-A2DE379975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0DA4-8DD2-4334-A706-B4C23C4177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2565360"/>
            <a:ext cx="74757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« Повышение качества образования за счет использования современных методов обучения новых педагогических техник и технологий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испытывает интерес к детям, их мыслям, чувствам, создает у каждого ученика чувство, что его понимают и принимают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владеет умением «подать себя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ети испытывают и проявляют интерес, уважение к учител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внимателен ко всем детям, это дает возможность высказаться каждому ребенку; умеет организовать меру помощи, чтобы каждый испытал успех деятельно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умеет во время диалога на уроке отдавать инициативу детя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содействует спокойному, естественному поведению детей на урок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44520"/>
            <a:ext cx="806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общени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учитель – ученик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я придерживаюсь следующих критерие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общении учащихся друг с другом я работаю и добиваюсь следующих показателе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ти умеют общаться без постоянного вмешательства взрослых, испытывают интерес к групповой и парной формам работы, в заданиях на коллективное творчество умеют распределять роли, добиваются слаженности и взаимопоним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ти испытывают интерес к мыслям, суждениям, знаниям однокласс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еники владеют диалогической формой общения, умеют слушать друг друга, поддерживать чужие идеи и развивать 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ллектив класса мобилизует познавательную деятельность уче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ти владеют мимикой, могут открыто передавать свои чувства, умеют устанавливать зрительный и вербальный конта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074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«Чем выше и дальше каждый из нас идет, тем яснее видит, что предела достижений совершенства не существует.  Дело не в том, какой высоты ты достигнешь сегодня, а в том, чтобы двигаться вперёд вместе с вечным движением жизни»             (Е.И.Рерих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3789360"/>
            <a:ext cx="76406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бразование - важнейшее из земных благ,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если оно наивысшего качества.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В противном случае оно совершенно бесполезно.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Р.Киплинг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ссмотрим некоторые аспекты «педагогического производства» при традиционном и личностно – ориентированном обучении, построенном на принципе антропоцентризм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79280" y="1773360"/>
            <a:ext cx="8321040" cy="4516560"/>
            <a:chOff x="179280" y="1773360"/>
            <a:chExt cx="8321040" cy="4516560"/>
          </a:xfrm>
        </p:grpSpPr>
        <p:cxnSp>
          <p:nvCxnSpPr>
            <p:cNvPr id="89" name="_s28685"/>
            <p:cNvCxnSpPr>
              <a:stCxn id="90" idx="0"/>
              <a:endCxn id="91" idx="2"/>
            </p:cNvCxnSpPr>
            <p:nvPr/>
          </p:nvCxnSpPr>
          <p:spPr>
            <a:xfrm flipV="1" rot="16200000">
              <a:off x="5007600" y="2910960"/>
              <a:ext cx="903960" cy="224028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8683"/>
            <p:cNvCxnSpPr>
              <a:stCxn id="93" idx="0"/>
              <a:endCxn id="91" idx="2"/>
            </p:cNvCxnSpPr>
            <p:nvPr/>
          </p:nvCxnSpPr>
          <p:spPr>
            <a:xfrm flipH="1" flipV="1" rot="5400000">
              <a:off x="2768040" y="2910600"/>
              <a:ext cx="903960" cy="224100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28679"/>
            <p:cNvSpPr/>
            <p:nvPr/>
          </p:nvSpPr>
          <p:spPr>
            <a:xfrm>
              <a:off x="2419920" y="1773360"/>
              <a:ext cx="3840480" cy="1806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Verdana"/>
                </a:rPr>
                <a:t>Традиционное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8680"/>
            <p:cNvSpPr/>
            <p:nvPr/>
          </p:nvSpPr>
          <p:spPr>
            <a:xfrm>
              <a:off x="179280" y="4483440"/>
              <a:ext cx="3840480" cy="1806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Цель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Формирование знаний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умений и навы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8682"/>
            <p:cNvSpPr/>
            <p:nvPr/>
          </p:nvSpPr>
          <p:spPr>
            <a:xfrm>
              <a:off x="4659840" y="4483440"/>
              <a:ext cx="3840480" cy="1806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Качество образов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оценивало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на уровне знани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умений, навыков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79280" y="114480"/>
            <a:ext cx="8784360" cy="5329080"/>
            <a:chOff x="179280" y="114480"/>
            <a:chExt cx="8784360" cy="5329080"/>
          </a:xfrm>
        </p:grpSpPr>
        <p:cxnSp>
          <p:nvCxnSpPr>
            <p:cNvPr id="95" name="_s30734"/>
            <p:cNvCxnSpPr>
              <a:stCxn id="96" idx="0"/>
              <a:endCxn id="97" idx="2"/>
            </p:cNvCxnSpPr>
            <p:nvPr/>
          </p:nvCxnSpPr>
          <p:spPr>
            <a:xfrm flipV="1" rot="16200000">
              <a:off x="5221080" y="1595880"/>
              <a:ext cx="1066320" cy="2365200"/>
            </a:xfrm>
            <a:prstGeom prst="bentConnector3">
              <a:avLst>
                <a:gd name="adj1" fmla="val 116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30732"/>
            <p:cNvCxnSpPr>
              <a:stCxn id="99" idx="0"/>
              <a:endCxn id="97" idx="2"/>
            </p:cNvCxnSpPr>
            <p:nvPr/>
          </p:nvCxnSpPr>
          <p:spPr>
            <a:xfrm flipH="1" flipV="1" rot="5400000">
              <a:off x="2855880" y="1595520"/>
              <a:ext cx="1066320" cy="2366280"/>
            </a:xfrm>
            <a:prstGeom prst="bentConnector3">
              <a:avLst>
                <a:gd name="adj1" fmla="val 116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7" name="_s30728"/>
            <p:cNvSpPr/>
            <p:nvPr/>
          </p:nvSpPr>
          <p:spPr>
            <a:xfrm>
              <a:off x="2544840" y="114480"/>
              <a:ext cx="4054320" cy="213156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Личностно – ориентированно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30729"/>
            <p:cNvSpPr/>
            <p:nvPr/>
          </p:nvSpPr>
          <p:spPr>
            <a:xfrm>
              <a:off x="179280" y="3312000"/>
              <a:ext cx="4054320" cy="213156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Цель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Verdana"/>
                </a:rPr>
                <a:t>Развитие личности учащегося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0731"/>
            <p:cNvSpPr/>
            <p:nvPr/>
          </p:nvSpPr>
          <p:spPr>
            <a:xfrm>
              <a:off x="4909320" y="3312000"/>
              <a:ext cx="4054320" cy="213156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Показатели качеств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е только знания, умения, навыки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о и качественные изме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личности обучающего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4581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«Развитие личности – смысл и цель современного образования… Новыми нормами становятся жизнь в постоянно изменяющихся условиях, что требует умения решать постоянно возникающие новые, нестандартные проблемы; жизнь в условиях поликультурного общества»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ким образом, современная школа должна воспитывать готовность человека к «инновационному поведению»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76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о введении к Концепции государственного стандарта общего образования сказ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476280"/>
            <a:ext cx="80010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знаком любой системы является её целостность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бщность цел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бщие задачи обучения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диные дидактические принципы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ипические свойства методической системы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истема изучения результативност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ребования к организационным формам и условиям протекания учебного процесса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ость педагогической системы Л.В.Занкова достигается благодаря взаимодействию всех её частей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Цель  обучения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достижение оптимального общего развития каждого ребён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Задач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представить учащимся широкую целостную картину мира средствами науки, литературы, искусства и непосредственного познания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 своей работе я использую следующие дидактические принципы –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учение на высоком уровне трудности с соблюдением меры трудности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дущая роль теоретических знаний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ознание процесса учения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ыстрый темп прохождения учебного материал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целенаправленная и систематическая работа над общим развитием всех учащихся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учение по развивающей системе Л.В.Занкова осуществляется на основании единой методической системы, обладающей типическими свойствами, охватывающими все учебные предметы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- многогранность, процессуальность, коллизии, вариант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4:00:50Z</dcterms:created>
  <dc:creator>Customer</dc:creator>
  <dc:description/>
  <dc:language>en-US</dc:language>
  <cp:lastModifiedBy>Customer</cp:lastModifiedBy>
  <dcterms:modified xsi:type="dcterms:W3CDTF">2010-08-26T15:37:45Z</dcterms:modified>
  <cp:revision>3</cp:revision>
  <dc:subject/>
  <dc:title>« Повышение качества образования за счет использования современных методов обучения новых педагогических техник и технологий»</dc:title>
</cp:coreProperties>
</file>