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2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D934-38C3-41BC-BF1F-A39EFDCE8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29F4-931E-4858-B958-B44F71DC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9713-F921-44D0-AAC9-85AD7A451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1125-F392-4D22-82CE-B58B131E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81A4-B482-4B06-AC27-EA4A2EBC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C780-3BFB-412B-A3F0-D165E3A2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5E02-D035-4965-979E-74DD41AA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E671-720F-47B9-A801-66167FF4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A1EE-FE6D-45D6-8DE7-BB047949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9056-E910-4401-B7FA-62B9D506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C8D9-759D-4518-BAC5-F3111A28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8431-0ACE-4831-8955-0924B73F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F3AA-F1D4-4470-9328-07940349F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Консультация</a:t>
            </a:r>
            <a:br>
              <a:rPr sz="32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МДОУ Д/С «Северное сияние»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с.п.Нижнесортым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Родителям о введении в действие Федеральных государственных требований к структуре основной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общеобразовательной программы дошкольно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5" descr="92502837.jpg"/>
          <p:cNvPicPr/>
          <p:nvPr/>
        </p:nvPicPr>
        <p:blipFill>
          <a:blip r:embed="rId1"/>
          <a:stretch/>
        </p:blipFill>
        <p:spPr>
          <a:xfrm>
            <a:off x="876240" y="2060640"/>
            <a:ext cx="362448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00ff00"/>
            </a:gs>
            <a:gs pos="100000">
              <a:srgbClr val="8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Основной принцип взаимосвязи образовательных областей – </a:t>
            </a:r>
            <a:r>
              <a:rPr b="1" i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интеграция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783432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льтернатива современному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едметному принципу (недостатку современного дошкольного образовани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2205720"/>
            <a:ext cx="669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ff"/>
                </a:solidFill>
                <a:latin typeface="Arial"/>
              </a:rPr>
              <a:t>Все образовательные области связаны друг с другом: читая, ребенок познает; познавая, рассказывает о том, что узнал; взаимодействует со сверстниками и взрослыми в процессе исследований и обсуждений. Так взаимопроникновение и взаимосвязь образовательных областей обеспечивают формирование у ребенка целостной картины окружающего м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34920" y="3212640"/>
            <a:ext cx="5257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cc00ff"/>
                </a:solidFill>
                <a:latin typeface="Arial Black"/>
              </a:rPr>
              <a:t>В новых условиях возрастет роль </a:t>
            </a:r>
            <a:br>
              <a:rPr sz="2000"/>
            </a:br>
            <a:r>
              <a:rPr b="1" i="1" lang="en-US" sz="2000" spc="-1" strike="noStrike">
                <a:solidFill>
                  <a:srgbClr val="cc00ff"/>
                </a:solidFill>
                <a:latin typeface="Arial Black"/>
              </a:rPr>
              <a:t>взаимосвязи в работе узких специалистов и воспитателей</a:t>
            </a:r>
            <a:r>
              <a:rPr b="1" i="1" lang="en-US" sz="2400" spc="-1" strike="noStrike">
                <a:solidFill>
                  <a:srgbClr val="cc00ff"/>
                </a:solidFill>
                <a:latin typeface="Arial Black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597120" cy="2467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364000" y="404640"/>
            <a:ext cx="3443400" cy="2349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211640" y="4437000"/>
            <a:ext cx="4500720" cy="2195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39640" y="4221000"/>
            <a:ext cx="2575080" cy="2449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 rot="10566000">
            <a:off x="3129120" y="5373360"/>
            <a:ext cx="976320" cy="360360"/>
          </a:xfrm>
          <a:custGeom>
            <a:avLst/>
            <a:gdLst>
              <a:gd name="textAreaLeft" fmla="*/ 122040 w 976320"/>
              <a:gd name="textAreaRight" fmla="*/ 854280 w 9763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40360" y="1557360"/>
            <a:ext cx="976320" cy="360360"/>
          </a:xfrm>
          <a:custGeom>
            <a:avLst/>
            <a:gdLst>
              <a:gd name="textAreaLeft" fmla="*/ 122040 w 976320"/>
              <a:gd name="textAreaRight" fmla="*/ 854280 w 9763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4981800">
            <a:off x="7235640" y="3428640"/>
            <a:ext cx="975960" cy="360360"/>
          </a:xfrm>
          <a:custGeom>
            <a:avLst/>
            <a:gdLst>
              <a:gd name="textAreaLeft" fmla="*/ 122040 w 975960"/>
              <a:gd name="textAreaRight" fmla="*/ 854280 w 9759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6490400">
            <a:off x="231480" y="3232080"/>
            <a:ext cx="976320" cy="360360"/>
          </a:xfrm>
          <a:custGeom>
            <a:avLst/>
            <a:gdLst>
              <a:gd name="textAreaLeft" fmla="*/ 122040 w 976320"/>
              <a:gd name="textAreaRight" fmla="*/ 854280 w 9763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484360" y="1989000"/>
            <a:ext cx="3384720" cy="2160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бразовате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Физическая куль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268360" y="3789360"/>
            <a:ext cx="648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1908000" y="2060640"/>
            <a:ext cx="719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284720" y="1196640"/>
            <a:ext cx="1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867280" y="2133360"/>
            <a:ext cx="720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3716280"/>
            <a:ext cx="79200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4508640"/>
            <a:ext cx="2521080" cy="865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484280"/>
            <a:ext cx="1800360" cy="1008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189000"/>
            <a:ext cx="2087280" cy="981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у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59640" y="1484280"/>
            <a:ext cx="2305080" cy="936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циал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35640" y="4508640"/>
            <a:ext cx="2232000" cy="936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ммуник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649400">
            <a:off x="5379840" y="623520"/>
            <a:ext cx="2006280" cy="360360"/>
          </a:xfrm>
          <a:custGeom>
            <a:avLst/>
            <a:gdLst>
              <a:gd name="textAreaLeft" fmla="*/ 351000 w 2006280"/>
              <a:gd name="textAreaRight" fmla="*/ 1454760 w 200628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5206200">
            <a:off x="6993000" y="3312720"/>
            <a:ext cx="2006640" cy="511200"/>
          </a:xfrm>
          <a:custGeom>
            <a:avLst/>
            <a:gdLst>
              <a:gd name="textAreaLeft" fmla="*/ 351000 w 2006640"/>
              <a:gd name="textAreaRight" fmla="*/ 1454760 w 2006640"/>
              <a:gd name="textAreaTop" fmla="*/ 68400 h 511200"/>
              <a:gd name="textAreaBottom" fmla="*/ 442800 h 511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0575600">
            <a:off x="3201480" y="5371920"/>
            <a:ext cx="2006640" cy="431640"/>
          </a:xfrm>
          <a:custGeom>
            <a:avLst/>
            <a:gdLst>
              <a:gd name="textAreaLeft" fmla="*/ 351000 w 2006640"/>
              <a:gd name="textAreaRight" fmla="*/ 1454760 w 200664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6540800">
            <a:off x="-246960" y="3207600"/>
            <a:ext cx="2006640" cy="433440"/>
          </a:xfrm>
          <a:custGeom>
            <a:avLst/>
            <a:gdLst>
              <a:gd name="textAreaLeft" fmla="*/ 351000 w 2006640"/>
              <a:gd name="textAreaRight" fmla="*/ 1454760 w 200664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9856400">
            <a:off x="1403280" y="691920"/>
            <a:ext cx="2006640" cy="433080"/>
          </a:xfrm>
          <a:custGeom>
            <a:avLst/>
            <a:gdLst>
              <a:gd name="textAreaLeft" fmla="*/ 351000 w 2006640"/>
              <a:gd name="textAreaRight" fmla="*/ 1454760 w 2006640"/>
              <a:gd name="textAreaTop" fmla="*/ 57960 h 433080"/>
              <a:gd name="textAreaBottom" fmla="*/ 375120 h 433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ff"/>
                </a:solidFill>
                <a:latin typeface="Arial"/>
              </a:rPr>
              <a:t>Отказ от учебно-дисциплинарной модели образовательного процесса (специально организованной деятельност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826920" y="1628640"/>
            <a:ext cx="2743200" cy="1008360"/>
          </a:xfrm>
          <a:prstGeom prst="ellipse">
            <a:avLst/>
          </a:prstGeom>
          <a:solidFill>
            <a:srgbClr val="fcf05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entury Gothic"/>
                <a:ea typeface="Arial"/>
              </a:rPr>
              <a:t>Познавательно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entury Gothic"/>
                <a:ea typeface="Arial"/>
              </a:rPr>
              <a:t>исследователь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4"/>
          <p:cNvSpPr/>
          <p:nvPr/>
        </p:nvSpPr>
        <p:spPr>
          <a:xfrm>
            <a:off x="250920" y="2924280"/>
            <a:ext cx="2376360" cy="936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entury Gothic"/>
                <a:ea typeface="Arial"/>
              </a:rPr>
              <a:t>Коммуникати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395280" y="4149720"/>
            <a:ext cx="2376360" cy="1081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22613"/>
                </a:solidFill>
                <a:latin typeface="Century Gothic"/>
                <a:ea typeface="Arial"/>
              </a:rPr>
              <a:t>Продукти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8"/>
          <p:cNvSpPr/>
          <p:nvPr/>
        </p:nvSpPr>
        <p:spPr>
          <a:xfrm>
            <a:off x="2411280" y="5157720"/>
            <a:ext cx="2667240" cy="10080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entury Gothic"/>
                <a:ea typeface="Arial"/>
              </a:rPr>
              <a:t>Музык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entury Gothic"/>
                <a:ea typeface="Arial"/>
              </a:rPr>
              <a:t>художеств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7"/>
          <p:cNvSpPr/>
          <p:nvPr/>
        </p:nvSpPr>
        <p:spPr>
          <a:xfrm>
            <a:off x="3924360" y="1341360"/>
            <a:ext cx="185256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entury Gothic"/>
                <a:ea typeface="Arial"/>
              </a:rPr>
              <a:t>Игр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6516720" y="1916280"/>
            <a:ext cx="2232000" cy="914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  <a:ea typeface="Arial"/>
              </a:rPr>
              <a:t>Двига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6732720" y="3500280"/>
            <a:ext cx="2232000" cy="93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Труд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5219640" y="4941720"/>
            <a:ext cx="3305160" cy="1008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d050"/>
                </a:solidFill>
                <a:latin typeface="Century Gothic"/>
                <a:ea typeface="Arial"/>
              </a:rPr>
              <a:t>Чтение художестве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d050"/>
                </a:solidFill>
                <a:latin typeface="Century Gothic"/>
                <a:ea typeface="Arial"/>
              </a:rPr>
              <a:t>ной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3203640" y="2781360"/>
            <a:ext cx="3124080" cy="1439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Gothic"/>
                <a:ea typeface="Arial"/>
              </a:rPr>
              <a:t>Образователь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Gothic"/>
                <a:ea typeface="Arial"/>
              </a:rPr>
              <a:t>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066920" y="4437000"/>
            <a:ext cx="144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771640" y="414972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700360" y="342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3347640" y="249228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32360" y="234900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443640" y="2852640"/>
            <a:ext cx="433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43640" y="3716280"/>
            <a:ext cx="2890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24360" y="4365720"/>
            <a:ext cx="360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ffffff"/>
            </a:gs>
            <a:gs pos="100000">
              <a:srgbClr val="8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47640" y="3141720"/>
            <a:ext cx="534996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Для мотивации образовательной деятельности  предлагается  усвоение образовательного материала в процессе подготовки и проведения каких-либо значимых и интересных для дошкольников событий: Российские праздники (Новый год, День семьи и др.), международные праздники (День доброты, День Земли и др.), сезонные собы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i" descr=""/>
          <p:cNvPicPr/>
          <p:nvPr/>
        </p:nvPicPr>
        <p:blipFill>
          <a:blip r:embed="rId1"/>
          <a:stretch/>
        </p:blipFill>
        <p:spPr>
          <a:xfrm>
            <a:off x="755640" y="3573360"/>
            <a:ext cx="2200320" cy="2185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3728880" cy="2797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788000" y="260280"/>
            <a:ext cx="373212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00ff00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8487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4000" spc="-1" strike="noStrike">
                <a:solidFill>
                  <a:srgbClr val="d60093"/>
                </a:solidFill>
                <a:latin typeface="Arial"/>
              </a:rPr>
              <a:t>Проектная деятельность становится приоритетно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779640" y="1915920"/>
            <a:ext cx="5113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Критерием того, что данный принцип заработает, станет живое, активное, заинтересованное  участие ребенка в том или ином проекте, а не цепочка действий по указанию взрослого. Ведь только активный человек может стать успешны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7" descr="oplachivaemyy_opros_dlya_mam_detey_0_12_mes_30242996_1_F.jpg"/>
          <p:cNvPicPr/>
          <p:nvPr/>
        </p:nvPicPr>
        <p:blipFill>
          <a:blip r:embed="rId1"/>
          <a:stretch/>
        </p:blipFill>
        <p:spPr>
          <a:xfrm>
            <a:off x="324000" y="1989000"/>
            <a:ext cx="3396960" cy="38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ffffff"/>
            </a:gs>
            <a:gs pos="100000">
              <a:srgbClr val="8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971640" y="2997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 Black"/>
                <a:ea typeface="Arial"/>
              </a:rPr>
              <a:t>Желаемый образ выпуск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0" y="333360"/>
            <a:ext cx="4427640" cy="2162520"/>
          </a:xfrm>
          <a:prstGeom prst="wedgeRectCallout">
            <a:avLst>
              <a:gd name="adj1" fmla="val 54370"/>
              <a:gd name="adj2" fmla="val 73166"/>
            </a:avLst>
          </a:prstGeom>
          <a:gradFill rotWithShape="0">
            <a:gsLst>
              <a:gs pos="0">
                <a:srgbClr val="ff8d8d"/>
              </a:gs>
              <a:gs pos="50000">
                <a:srgbClr val="ffffff"/>
              </a:gs>
              <a:gs pos="100000">
                <a:srgbClr val="ff8d8d"/>
              </a:gs>
            </a:gsLst>
            <a:lin ang="5400000"/>
          </a:gra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entury Gothic"/>
                <a:ea typeface="Arial"/>
              </a:rPr>
              <a:t> </a:t>
            </a:r>
            <a:r>
              <a:rPr b="1" lang="en-US" sz="1600" spc="-1" strike="noStrike">
                <a:solidFill>
                  <a:srgbClr val="0000cc"/>
                </a:solidFill>
                <a:latin typeface="Century Gothic"/>
                <a:ea typeface="Arial"/>
              </a:rPr>
              <a:t>Физическое разви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Century Gothic"/>
                <a:ea typeface="Arial"/>
              </a:rPr>
              <a:t> </a:t>
            </a:r>
            <a:r>
              <a:rPr b="1" lang="en-US" sz="1200" spc="-1" strike="noStrike">
                <a:solidFill>
                  <a:srgbClr val="0000cc"/>
                </a:solidFill>
                <a:latin typeface="Century Gothic"/>
                <a:ea typeface="Arial"/>
              </a:rPr>
              <a:t>Физически и психически здоровый ребенок, у которого сформированы основы двигательной и гигиенической культуры. Физически развитый ребенок, с развитым представлением о здоровом образе жизни,  о здоровье и средствах его укрепления, о функционировании организма и правилах заботы о нем, со знаниями о правилах безопасного поведения и разумных действиях в непредвиденных ситуациях, способах оказания элементарной помощи и самопомощ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4932360" y="260280"/>
            <a:ext cx="4017960" cy="2162520"/>
          </a:xfrm>
          <a:prstGeom prst="wedgeRectCallout">
            <a:avLst>
              <a:gd name="adj1" fmla="val -56708"/>
              <a:gd name="adj2" fmla="val 75995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entury Gothic"/>
                <a:ea typeface="Arial"/>
              </a:rPr>
              <a:t>Социально-личностное развитие.</a:t>
            </a:r>
            <a:r>
              <a:rPr b="1" lang="en-US" sz="1200" spc="-1" strike="noStrike">
                <a:solidFill>
                  <a:srgbClr val="ff0000"/>
                </a:solidFill>
                <a:latin typeface="Century Gothic"/>
                <a:ea typeface="Arial"/>
              </a:rPr>
              <a:t> Маленький патриот и гражданин, любящий свою Роди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entury Gothic"/>
                <a:ea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entury Gothic"/>
                <a:ea typeface="Arial"/>
              </a:rPr>
              <a:t>Уверенный, инициативный ребенок, знакомый с моральными нормами, умеющий  строить доброжелательные отношения со взрослыми и детьми разного возраста, управлять своим поведением, подчиняться установленным правил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entury Gothic"/>
                <a:ea typeface="Arial"/>
              </a:rPr>
              <a:t>Самостоятельный, организованный, аккуратный, опрятны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0" y="4221000"/>
            <a:ext cx="4000680" cy="2711880"/>
          </a:xfrm>
          <a:prstGeom prst="wedgeRectCallout">
            <a:avLst>
              <a:gd name="adj1" fmla="val 58805"/>
              <a:gd name="adj2" fmla="val -75509"/>
            </a:avLst>
          </a:prstGeom>
          <a:gradFill rotWithShape="0">
            <a:gsLst>
              <a:gs pos="0">
                <a:srgbClr val="c3efff"/>
              </a:gs>
              <a:gs pos="50000">
                <a:srgbClr val="ffffff"/>
              </a:gs>
              <a:gs pos="100000">
                <a:srgbClr val="c3efff"/>
              </a:gs>
            </a:gsLst>
            <a:lin ang="5400000"/>
          </a:gra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Century Gothic"/>
                <a:ea typeface="Arial"/>
              </a:rPr>
              <a:t>Художественно-эстетическое разви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Century Gothic"/>
                <a:ea typeface="Arial"/>
              </a:rPr>
              <a:t>Воспитанник – ребенок, который приобщен</a:t>
            </a:r>
            <a:r>
              <a:rPr b="1" lang="en-US" sz="1400" spc="-1" strike="noStrike">
                <a:solidFill>
                  <a:srgbClr val="006600"/>
                </a:solidFill>
                <a:latin typeface="Century Gothic"/>
                <a:ea typeface="Arial"/>
              </a:rPr>
              <a:t> </a:t>
            </a:r>
            <a:r>
              <a:rPr b="1" lang="ru-RU" sz="1400" spc="-1" strike="noStrike">
                <a:solidFill>
                  <a:srgbClr val="006600"/>
                </a:solidFill>
                <a:latin typeface="Century Gothic"/>
                <a:ea typeface="Arial"/>
              </a:rPr>
              <a:t>к русской народной культуре и к общечеловеческим ценностям, различающий явления прекрасного и безобразного  в искусстве и в жизни..Творчески активный, всегда желающий включиться в творческую деятельность. Имеет начальные представления о разных видах искусст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7"/>
          <p:cNvSpPr/>
          <p:nvPr/>
        </p:nvSpPr>
        <p:spPr>
          <a:xfrm>
            <a:off x="4429080" y="4076640"/>
            <a:ext cx="4500720" cy="3196080"/>
          </a:xfrm>
          <a:prstGeom prst="wedgeRectCallout">
            <a:avLst>
              <a:gd name="adj1" fmla="val -46865"/>
              <a:gd name="adj2" fmla="val -65981"/>
            </a:avLst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5400000"/>
          </a:gra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Century Gothic"/>
                <a:ea typeface="Arial"/>
              </a:rPr>
              <a:t>Познавательно-речевое разви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cc"/>
                </a:solidFill>
                <a:latin typeface="Century Gothic"/>
                <a:ea typeface="Arial"/>
              </a:rPr>
              <a:t> </a:t>
            </a:r>
            <a:r>
              <a:rPr b="1" lang="en-US" sz="1200" spc="-1" strike="noStrike">
                <a:solidFill>
                  <a:srgbClr val="9900cc"/>
                </a:solidFill>
                <a:latin typeface="Century Gothic"/>
                <a:ea typeface="Arial"/>
              </a:rPr>
              <a:t>Воспитанник – маленький исследователь, с радостью и удивлением открывающий для себя окружающий мир, стремящийся к активной деятельности. Любознателен, способен к самостоятельному решению познавательных задач, умеет осознанно использовать разные способы и приемы познания, имеет интерес к экспериментированию, готов к логическому позна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cc"/>
                </a:solidFill>
                <a:latin typeface="Century Gothic"/>
                <a:ea typeface="Arial"/>
              </a:rPr>
              <a:t>Воспитанник, у которого сформированы  элементарные естественнонаучные и математические  представления. </a:t>
            </a:r>
            <a:r>
              <a:rPr b="1" lang="en-US" sz="1200" spc="-1" strike="noStrike">
                <a:solidFill>
                  <a:srgbClr val="9900cc"/>
                </a:solidFill>
                <a:latin typeface="Arial"/>
              </a:rPr>
              <a:t>усвоивший начальные сведения о русской грамоте  и  истории цивил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8"/>
          <p:cNvGrpSpPr/>
          <p:nvPr/>
        </p:nvGrpSpPr>
        <p:grpSpPr>
          <a:xfrm>
            <a:off x="468360" y="2708280"/>
            <a:ext cx="1428480" cy="1357200"/>
            <a:chOff x="468360" y="2708280"/>
            <a:chExt cx="1428480" cy="1357200"/>
          </a:xfrm>
        </p:grpSpPr>
        <p:sp>
          <p:nvSpPr>
            <p:cNvPr id="144" name="Freeform 9"/>
            <p:cNvSpPr/>
            <p:nvPr/>
          </p:nvSpPr>
          <p:spPr>
            <a:xfrm>
              <a:off x="468360" y="2720880"/>
              <a:ext cx="565560" cy="39240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480600" y="3563640"/>
              <a:ext cx="1410120" cy="496800"/>
            </a:xfrm>
            <a:prstGeom prst="pie">
              <a:avLst/>
            </a:prstGeom>
            <a:solidFill>
              <a:srgbClr val="3df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474480" y="2708280"/>
              <a:ext cx="1422360" cy="135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2"/>
            <p:cNvSpPr/>
            <p:nvPr/>
          </p:nvSpPr>
          <p:spPr>
            <a:xfrm>
              <a:off x="1760400" y="3579120"/>
              <a:ext cx="120600" cy="374040"/>
            </a:xfrm>
            <a:prstGeom prst="pie">
              <a:avLst/>
            </a:prstGeom>
            <a:solidFill>
              <a:srgbClr val="3df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3"/>
            <p:cNvSpPr/>
            <p:nvPr/>
          </p:nvSpPr>
          <p:spPr>
            <a:xfrm>
              <a:off x="1238400" y="2736360"/>
              <a:ext cx="18360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4"/>
            <p:cNvSpPr/>
            <p:nvPr/>
          </p:nvSpPr>
          <p:spPr>
            <a:xfrm>
              <a:off x="1137600" y="2793960"/>
              <a:ext cx="375480" cy="322560"/>
            </a:xfrm>
            <a:prstGeom prst="pie">
              <a:avLst/>
            </a:prstGeom>
            <a:solidFill>
              <a:srgbClr val="ff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"/>
            <p:cNvSpPr/>
            <p:nvPr/>
          </p:nvSpPr>
          <p:spPr>
            <a:xfrm>
              <a:off x="1285560" y="2828160"/>
              <a:ext cx="81360" cy="3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6"/>
            <p:cNvSpPr/>
            <p:nvPr/>
          </p:nvSpPr>
          <p:spPr>
            <a:xfrm>
              <a:off x="485280" y="2880000"/>
              <a:ext cx="331560" cy="124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7"/>
            <p:cNvSpPr/>
            <p:nvPr/>
          </p:nvSpPr>
          <p:spPr>
            <a:xfrm>
              <a:off x="1446120" y="2893680"/>
              <a:ext cx="24840" cy="28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8"/>
            <p:cNvSpPr/>
            <p:nvPr/>
          </p:nvSpPr>
          <p:spPr>
            <a:xfrm>
              <a:off x="1326600" y="2880000"/>
              <a:ext cx="24840" cy="2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9"/>
            <p:cNvSpPr/>
            <p:nvPr/>
          </p:nvSpPr>
          <p:spPr>
            <a:xfrm>
              <a:off x="1398600" y="2934360"/>
              <a:ext cx="4536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0"/>
            <p:cNvSpPr/>
            <p:nvPr/>
          </p:nvSpPr>
          <p:spPr>
            <a:xfrm>
              <a:off x="1147320" y="2935800"/>
              <a:ext cx="24840" cy="1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1"/>
            <p:cNvSpPr/>
            <p:nvPr/>
          </p:nvSpPr>
          <p:spPr>
            <a:xfrm>
              <a:off x="479160" y="2982600"/>
              <a:ext cx="158400" cy="3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2"/>
            <p:cNvSpPr/>
            <p:nvPr/>
          </p:nvSpPr>
          <p:spPr>
            <a:xfrm>
              <a:off x="1329480" y="3018240"/>
              <a:ext cx="86400" cy="40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3"/>
            <p:cNvSpPr/>
            <p:nvPr/>
          </p:nvSpPr>
          <p:spPr>
            <a:xfrm>
              <a:off x="866160" y="3096000"/>
              <a:ext cx="215280" cy="9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4"/>
            <p:cNvSpPr/>
            <p:nvPr/>
          </p:nvSpPr>
          <p:spPr>
            <a:xfrm>
              <a:off x="1292040" y="3135240"/>
              <a:ext cx="34560" cy="1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5"/>
            <p:cNvSpPr/>
            <p:nvPr/>
          </p:nvSpPr>
          <p:spPr>
            <a:xfrm>
              <a:off x="871920" y="3177360"/>
              <a:ext cx="209160" cy="47880"/>
            </a:xfrm>
            <a:prstGeom prst="pi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26"/>
            <p:cNvSpPr/>
            <p:nvPr/>
          </p:nvSpPr>
          <p:spPr>
            <a:xfrm>
              <a:off x="1205280" y="3161880"/>
              <a:ext cx="237240" cy="1958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7"/>
            <p:cNvSpPr/>
            <p:nvPr/>
          </p:nvSpPr>
          <p:spPr>
            <a:xfrm>
              <a:off x="1554480" y="3175560"/>
              <a:ext cx="94320" cy="92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8"/>
            <p:cNvSpPr/>
            <p:nvPr/>
          </p:nvSpPr>
          <p:spPr>
            <a:xfrm>
              <a:off x="1533960" y="3178800"/>
              <a:ext cx="2952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9"/>
            <p:cNvSpPr/>
            <p:nvPr/>
          </p:nvSpPr>
          <p:spPr>
            <a:xfrm>
              <a:off x="871920" y="3202200"/>
              <a:ext cx="21528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0"/>
            <p:cNvSpPr/>
            <p:nvPr/>
          </p:nvSpPr>
          <p:spPr>
            <a:xfrm>
              <a:off x="1499400" y="3222720"/>
              <a:ext cx="5004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1"/>
            <p:cNvSpPr/>
            <p:nvPr/>
          </p:nvSpPr>
          <p:spPr>
            <a:xfrm>
              <a:off x="1417680" y="3238200"/>
              <a:ext cx="67680" cy="83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2"/>
            <p:cNvSpPr/>
            <p:nvPr/>
          </p:nvSpPr>
          <p:spPr>
            <a:xfrm>
              <a:off x="1310760" y="3245760"/>
              <a:ext cx="114480" cy="126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3"/>
            <p:cNvSpPr/>
            <p:nvPr/>
          </p:nvSpPr>
          <p:spPr>
            <a:xfrm>
              <a:off x="1166040" y="3250440"/>
              <a:ext cx="70560" cy="50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4"/>
            <p:cNvSpPr/>
            <p:nvPr/>
          </p:nvSpPr>
          <p:spPr>
            <a:xfrm>
              <a:off x="873720" y="3259800"/>
              <a:ext cx="199440" cy="22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5"/>
            <p:cNvSpPr/>
            <p:nvPr/>
          </p:nvSpPr>
          <p:spPr>
            <a:xfrm>
              <a:off x="980640" y="3262680"/>
              <a:ext cx="171360" cy="54360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6"/>
            <p:cNvSpPr/>
            <p:nvPr/>
          </p:nvSpPr>
          <p:spPr>
            <a:xfrm>
              <a:off x="1562400" y="3277080"/>
              <a:ext cx="6120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37"/>
            <p:cNvSpPr/>
            <p:nvPr/>
          </p:nvSpPr>
          <p:spPr>
            <a:xfrm>
              <a:off x="1504080" y="3308040"/>
              <a:ext cx="54720" cy="6228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38"/>
            <p:cNvSpPr/>
            <p:nvPr/>
          </p:nvSpPr>
          <p:spPr>
            <a:xfrm>
              <a:off x="1019880" y="3333240"/>
              <a:ext cx="81360" cy="18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39"/>
            <p:cNvSpPr/>
            <p:nvPr/>
          </p:nvSpPr>
          <p:spPr>
            <a:xfrm>
              <a:off x="1408320" y="3340800"/>
              <a:ext cx="59400" cy="5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40"/>
            <p:cNvSpPr/>
            <p:nvPr/>
          </p:nvSpPr>
          <p:spPr>
            <a:xfrm>
              <a:off x="1046880" y="3359520"/>
              <a:ext cx="40320" cy="13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41"/>
            <p:cNvSpPr/>
            <p:nvPr/>
          </p:nvSpPr>
          <p:spPr>
            <a:xfrm>
              <a:off x="1244520" y="3360960"/>
              <a:ext cx="13356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42"/>
            <p:cNvSpPr/>
            <p:nvPr/>
          </p:nvSpPr>
          <p:spPr>
            <a:xfrm>
              <a:off x="1565640" y="3365640"/>
              <a:ext cx="45360" cy="40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43"/>
            <p:cNvSpPr/>
            <p:nvPr/>
          </p:nvSpPr>
          <p:spPr>
            <a:xfrm>
              <a:off x="1464840" y="3384360"/>
              <a:ext cx="92520" cy="23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44"/>
            <p:cNvSpPr/>
            <p:nvPr/>
          </p:nvSpPr>
          <p:spPr>
            <a:xfrm>
              <a:off x="1464840" y="3396960"/>
              <a:ext cx="20160" cy="25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45"/>
            <p:cNvSpPr/>
            <p:nvPr/>
          </p:nvSpPr>
          <p:spPr>
            <a:xfrm>
              <a:off x="1197720" y="3425040"/>
              <a:ext cx="270000" cy="3038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46"/>
            <p:cNvSpPr/>
            <p:nvPr/>
          </p:nvSpPr>
          <p:spPr>
            <a:xfrm>
              <a:off x="1434960" y="3456000"/>
              <a:ext cx="40320" cy="52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47"/>
            <p:cNvSpPr/>
            <p:nvPr/>
          </p:nvSpPr>
          <p:spPr>
            <a:xfrm>
              <a:off x="754200" y="3467160"/>
              <a:ext cx="223200" cy="38304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48"/>
            <p:cNvSpPr/>
            <p:nvPr/>
          </p:nvSpPr>
          <p:spPr>
            <a:xfrm>
              <a:off x="1302840" y="3470400"/>
              <a:ext cx="73800" cy="1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49"/>
            <p:cNvSpPr/>
            <p:nvPr/>
          </p:nvSpPr>
          <p:spPr>
            <a:xfrm>
              <a:off x="1318680" y="3492000"/>
              <a:ext cx="40320" cy="88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50"/>
            <p:cNvSpPr/>
            <p:nvPr/>
          </p:nvSpPr>
          <p:spPr>
            <a:xfrm>
              <a:off x="776160" y="3532320"/>
              <a:ext cx="161640" cy="1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51"/>
            <p:cNvSpPr/>
            <p:nvPr/>
          </p:nvSpPr>
          <p:spPr>
            <a:xfrm>
              <a:off x="1686240" y="3542040"/>
              <a:ext cx="95760" cy="43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52"/>
            <p:cNvSpPr/>
            <p:nvPr/>
          </p:nvSpPr>
          <p:spPr>
            <a:xfrm>
              <a:off x="810720" y="3571200"/>
              <a:ext cx="106920" cy="10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3"/>
            <p:cNvSpPr/>
            <p:nvPr/>
          </p:nvSpPr>
          <p:spPr>
            <a:xfrm>
              <a:off x="567360" y="3752280"/>
              <a:ext cx="177480" cy="10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54"/>
            <p:cNvSpPr/>
            <p:nvPr/>
          </p:nvSpPr>
          <p:spPr>
            <a:xfrm>
              <a:off x="1173960" y="3830040"/>
              <a:ext cx="164880" cy="140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55"/>
            <p:cNvSpPr/>
            <p:nvPr/>
          </p:nvSpPr>
          <p:spPr>
            <a:xfrm>
              <a:off x="1206720" y="3893760"/>
              <a:ext cx="29880" cy="3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56"/>
            <p:cNvSpPr/>
            <p:nvPr/>
          </p:nvSpPr>
          <p:spPr>
            <a:xfrm>
              <a:off x="1287000" y="3897000"/>
              <a:ext cx="42120" cy="2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57"/>
            <p:cNvSpPr/>
            <p:nvPr/>
          </p:nvSpPr>
          <p:spPr>
            <a:xfrm>
              <a:off x="1554480" y="3945600"/>
              <a:ext cx="38880" cy="3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58"/>
            <p:cNvSpPr/>
            <p:nvPr/>
          </p:nvSpPr>
          <p:spPr>
            <a:xfrm>
              <a:off x="581040" y="4003200"/>
              <a:ext cx="605160" cy="6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9"/>
            <p:cNvSpPr/>
            <p:nvPr/>
          </p:nvSpPr>
          <p:spPr>
            <a:xfrm>
              <a:off x="1842120" y="4003200"/>
              <a:ext cx="2196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66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-360" y="1773360"/>
            <a:ext cx="4427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Arial"/>
              </a:rPr>
              <a:t>родители должны участвовать в реализации программы, в создании условий для полноценного и своевременного развития ребенка в дошкольном возрасте, чтобы не упустить важнейший период в развитии его личности. Родители  должны быть активными участниками  образовательного процесса, участниками всех проектов, независимо от того, какая деятельность в них доминирует, а не просто сторонними наблюдате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356000" y="2133720"/>
            <a:ext cx="4484880" cy="32018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173240" y="333360"/>
            <a:ext cx="679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окумент ориентирует на взаимодействие с родителя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8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8360" y="393336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зентацию выполни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птякова Ирина Владимировна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спитатель МДОУ «Северное сияни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.п. Нижнесортымский Сургутского р-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1-2012уч.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187280" y="2852640"/>
            <a:ext cx="66978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авайте сотрудничать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627280" y="404640"/>
            <a:ext cx="3816360" cy="22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7432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В настоящее время происходят существенные изменения в системе дошкольного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Только за 2 года появилось несколько значимых нормативных документов, определяющих новые приоритеты развития дошкольно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2" descr="0_6fcf6_6fc1771d_XL.png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ФГ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Это первый в истории российского образования документ, который на федеральном уровне определяет, какой должна быть программа дошкольного учреждения, какое содержание реализовывать для достижения каждым ребенком оптимального для его возраста уровня развития с учетом его индивидуальных, возрастных особенно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cc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826560" y="2060280"/>
            <a:ext cx="770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рабатывается, утверждается и реализуется  в дошкольном образовательном учреждении на основ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**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федеральных государственных требова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к структуре основной общеобразовательной программы дошкольного образования и условиям ее реализац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*** примерной основной общеобразовательной программы дошкольно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9640" y="549360"/>
            <a:ext cx="8064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>
                    <a:alpha val="74000"/>
                  </a:srgbClr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Основная общеобразовательная программа</a:t>
            </a:r>
            <a:endParaRPr b="0" lang="en-US" sz="1800" spc="1" strike="noStrike">
              <a:ln w="0">
                <a:noFill/>
              </a:ln>
              <a:solidFill>
                <a:srgbClr val="ff6600">
                  <a:alpha val="74000"/>
                </a:srgbClr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806436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ff"/>
                </a:solidFill>
                <a:latin typeface="Arial"/>
              </a:rPr>
              <a:t>В первую очередь ФГТ определяют структуру</a:t>
            </a:r>
            <a:br>
              <a:rPr sz="2400"/>
            </a:br>
            <a:r>
              <a:rPr b="1" i="1" lang="en-US" sz="2400" spc="-1" strike="noStrike">
                <a:solidFill>
                  <a:srgbClr val="9933ff"/>
                </a:solidFill>
                <a:latin typeface="Arial"/>
              </a:rPr>
              <a:t> ООП дошкольного образования, где различают две части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411280" y="2205000"/>
          <a:ext cx="4314960" cy="33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205000"/>
                    <a:ext cx="4314960" cy="33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 rot="2583600">
            <a:off x="3779640" y="1700280"/>
            <a:ext cx="136440" cy="1476360"/>
          </a:xfrm>
          <a:prstGeom prst="downArrow">
            <a:avLst>
              <a:gd name="adj1" fmla="val 76093"/>
              <a:gd name="adj2" fmla="val 274773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8936600">
            <a:off x="5003640" y="1699920"/>
            <a:ext cx="152640" cy="1493640"/>
          </a:xfrm>
          <a:prstGeom prst="downArrow">
            <a:avLst>
              <a:gd name="adj1" fmla="val 76093"/>
              <a:gd name="adj2" fmla="val 248485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3213360"/>
            <a:ext cx="3354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)обязательную часть, разработка которой обеспечи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уполномоченным федеральным государственным органом (не более80%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59280" y="2985120"/>
            <a:ext cx="3673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) вариативную часть, формируемую участниками образовательного процесса (не менее20%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*  Приоритетные направления Д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*  Цель, задачи, модель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*  Дополнительное 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50920" y="2923920"/>
            <a:ext cx="61214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место требований к результатам освоения основных образовательных программ предлагается раздел </a:t>
            </a:r>
            <a:r>
              <a:rPr b="1" i="1" lang="ru-RU" sz="1600" spc="-1" strike="noStrike">
                <a:solidFill>
                  <a:srgbClr val="cc0000"/>
                </a:solidFill>
                <a:latin typeface="Arial"/>
              </a:rPr>
              <a:t>«Планируемые результаты освоения детьми основной общеобразовательной программы дошкольного образования»,</a:t>
            </a:r>
            <a:r>
              <a:rPr b="1" i="1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де достижения детей дошкольного возраста определяются не суммой конкретных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ЗУНов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знаний, умений, навыко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, а совокупностью личностных качеств ребёнка: например,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физически развитый, любознательный, активный, эмоционально-отзывчивый, общительный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8002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Задача дошкольного воспитания состоит не в максимальном ускорении развития ребёнка, не в форсировании сроков и темпов перевода его на рельсы “школьного” возраста, а прежде всего в создании каждому дошкольнику условий для наиболее полного раскрытия его возрастных возможностей и способнос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2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6624360" cy="9730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5" descr="0015-015-Etot-v-grjaz-polez-i-rad-CHto-grjazna-rubakha.jpg"/>
          <p:cNvPicPr/>
          <p:nvPr/>
        </p:nvPicPr>
        <p:blipFill>
          <a:blip r:embed="rId2"/>
          <a:stretch/>
        </p:blipFill>
        <p:spPr>
          <a:xfrm>
            <a:off x="6372360" y="2781360"/>
            <a:ext cx="2520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Основные компоненты школьной готов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азвитие стремления  к школьному обучени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амостоятельности и инициатив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оммуникативных умен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знавательной активности и общего кругозор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оображения и творчест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оциально-ценностных ориентац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укрепления здоров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4427640" y="1798560"/>
            <a:ext cx="4465440" cy="3870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00720" y="475920"/>
            <a:ext cx="4038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C:\Documents and Settings\user\Мои документы\Мои рисунки\Организатор клипов (Microsoft)\Копия j0439449.jpg"/>
          <p:cNvPicPr/>
          <p:nvPr/>
        </p:nvPicPr>
        <p:blipFill>
          <a:blip r:embed="rId1"/>
          <a:stretch/>
        </p:blipFill>
        <p:spPr>
          <a:xfrm>
            <a:off x="1042920" y="1989000"/>
            <a:ext cx="3313080" cy="417528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611280" y="191520"/>
            <a:ext cx="828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Раньше в большинстве комплексных программ были разделы, которые соответствовали определённым учебным дисциплинам или предмета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2496960"/>
            <a:ext cx="3514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Теперь речь идёт о совокупности образовательных обла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332000" y="242100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 Black"/>
              </a:rPr>
              <a:t>Основные направления развития детей и образовательные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250920" y="3500280"/>
            <a:ext cx="3168720" cy="720720"/>
          </a:xfrm>
          <a:prstGeom prst="wedgeRectCallout">
            <a:avLst>
              <a:gd name="adj1" fmla="val 76351"/>
              <a:gd name="adj2" fmla="val -95592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ознавательно-речевое 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"/>
          <p:cNvSpPr/>
          <p:nvPr/>
        </p:nvSpPr>
        <p:spPr>
          <a:xfrm>
            <a:off x="5364000" y="3500280"/>
            <a:ext cx="3384720" cy="792360"/>
          </a:xfrm>
          <a:prstGeom prst="wedgeRectCallout">
            <a:avLst>
              <a:gd name="adj1" fmla="val -66652"/>
              <a:gd name="adj2" fmla="val -95490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Социально-личностное 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 rot="5400000">
            <a:off x="421560" y="4555440"/>
            <a:ext cx="458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 rot="10800000">
            <a:off x="1186920" y="4365720"/>
            <a:ext cx="485280" cy="2016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 rot="10800000">
            <a:off x="2133360" y="4343400"/>
            <a:ext cx="790200" cy="2016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Чтение худ.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 rot="10800000">
            <a:off x="394920" y="4365720"/>
            <a:ext cx="485280" cy="2016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Коммуник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7"/>
          <p:cNvSpPr/>
          <p:nvPr/>
        </p:nvSpPr>
        <p:spPr>
          <a:xfrm>
            <a:off x="7938000" y="4508640"/>
            <a:ext cx="485280" cy="194472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Безопас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6961680" y="4508640"/>
            <a:ext cx="485280" cy="2016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р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5958360" y="4508640"/>
            <a:ext cx="485280" cy="194472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Социал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228600" y="1700280"/>
            <a:ext cx="3622680" cy="576360"/>
          </a:xfrm>
          <a:prstGeom prst="wedgeRectCallout">
            <a:avLst>
              <a:gd name="adj1" fmla="val 65601"/>
              <a:gd name="adj2" fmla="val 81953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Физическ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5292720" y="1557360"/>
            <a:ext cx="3382920" cy="719280"/>
          </a:xfrm>
          <a:prstGeom prst="wedgeRectCallout">
            <a:avLst>
              <a:gd name="adj1" fmla="val -65347"/>
              <a:gd name="adj2" fmla="val 77814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Художественно-эстетическое 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79280" y="549360"/>
            <a:ext cx="1728720" cy="7038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Физическая куль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2124000" y="620640"/>
            <a:ext cx="1656000" cy="3988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Здоров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4716360" y="654120"/>
            <a:ext cx="1800360" cy="3988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Му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6732720" y="549360"/>
            <a:ext cx="2411280" cy="7038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Художественное твор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9:28:19Z</dcterms:created>
  <dc:creator>User</dc:creator>
  <dc:description/>
  <dc:language>en-US</dc:language>
  <cp:lastModifiedBy>1</cp:lastModifiedBy>
  <dcterms:modified xsi:type="dcterms:W3CDTF">2012-02-12T17:37:01Z</dcterms:modified>
  <cp:revision>8</cp:revision>
  <dc:subject/>
  <dc:title>Слайд 1</dc:title>
</cp:coreProperties>
</file>