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3.png" ContentType="image/png"/>
  <Override PartName="/ppt/media/image4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D528-8152-429D-B092-602D72B65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304A-A796-463F-AF25-898CC02A3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BFF-953C-40D7-9CFE-89D2DED4C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145-909C-45C0-BD74-83F406F2C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B14-36A5-4AC9-89D6-834A7AE1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FC3-2352-43BA-99C6-298BC734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82-7211-4300-9340-5BF6D2B3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4FC-49A8-4A7E-999D-1902C8E9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F59-23A6-4BF1-9F09-C0EDF27E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C1EB-0C66-4A9E-82B8-BA752AD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FF97-664D-4A0E-BB33-C27E79B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BC63-ADDE-4EFE-BF9B-5EF7573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1F79-CF47-4E04-B77D-8B01452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F75-5A7A-4C2C-A602-461D9EC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C3C-A0ED-4FB2-A281-674D5C0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483-10D0-40B5-9FEA-1861ABF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E9A-8B26-47D1-AE05-0246BAA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0D30-1E14-45A8-9D15-DDEC9EF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7F14-A810-4210-87C5-7E2F36B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CB7-E9F1-4C69-8E0D-D2AB89C5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B98-A5BC-4C92-8C8F-82FF802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A7B-046F-42E5-B310-30DA66A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F78-1B04-48D5-8A73-B5203C0C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47A-E97A-47D2-B51F-978989A4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509-1B22-4D3C-8373-C71F199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387-F15C-4523-AE6D-4A38B97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551-2E5E-4938-ACC4-46D8976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12B-0528-4339-8895-17364F7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1C44-2C03-413E-BD57-A72A106777F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C00-0373-47C0-8716-9EF421FFBF6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turgenev.org.ru/pic/ivan.jp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0"/>
          <p:cNvSpPr/>
          <p:nvPr/>
        </p:nvSpPr>
        <p:spPr>
          <a:xfrm>
            <a:off x="2771640" y="1844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«Однородные члены </a:t>
            </a:r>
            <a:endParaRPr b="0" lang="en-US" sz="54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предложения»</a:t>
            </a:r>
            <a:endParaRPr b="0" lang="en-US" sz="54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419640" y="60660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УРОК- ПАРАД ЗНАНИЙ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 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 8 классе по теме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539640" y="4005360"/>
            <a:ext cx="61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дготовила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итель русского языка и литературы МОУ СОШ №3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. Китаевского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узьмина Галина Ивановна 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92" name="Picture 26" descr="teddy10"/>
          <p:cNvPicPr/>
          <p:nvPr/>
        </p:nvPicPr>
        <p:blipFill>
          <a:blip r:embed="rId1"/>
          <a:stretch/>
        </p:blipFill>
        <p:spPr>
          <a:xfrm>
            <a:off x="1042920" y="836640"/>
            <a:ext cx="1944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00000" y="6728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Было что-то своё, особенное, в складе её смугловатого круглого лица, </a:t>
            </a: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 небольшим тонким носом, почти детскими щечками и черными, светлыми глазами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И. С.Тургенев «Ася»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87280" y="1916280"/>
            <a:ext cx="61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2. Звон якорных цепей… металлический вопль железных листов, откуда-то падающих на камень мостовой… дребезжание извозчичьих телег, свистки пароходов, то пронзительно резкие, то глухо ревущие, крик грузчиков, матросов и таможенных солдат – все эти звуки сливаются в оглушительную музыку трудового дня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(М.Горький «Челкаш»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971640" y="42051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3. Перед домом  в темноте разноцветные огни вспыхнули, завертелись, поднялись вверх колосьями, пальмами, фонтанами, посыпались дождем, звездами, угасали и снова вспыхивали.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(А.С.Пушкин)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u-RU" sz="4400" spc="-1" strike="noStrike">
                <a:solidFill>
                  <a:srgbClr val="660033"/>
                </a:solidFill>
                <a:latin typeface="Times New Roman"/>
              </a:rPr>
              <a:t>Роль однородных членов       предложения в речи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9440" y="2133720"/>
            <a:ext cx="5740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психологического портрета героя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иллюзии движения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изобразительно-выразительных средств язык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05 Дорожка 5.wma" descr=""/>
          <p:cNvPicPr/>
          <p:nvPr/>
        </p:nvPicPr>
        <p:blipFill>
          <a:blip r:embed="rId1"/>
          <a:stretch/>
        </p:blipFill>
        <p:spPr>
          <a:xfrm>
            <a:off x="788508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9714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56000" y="692280"/>
            <a:ext cx="23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42920" y="48679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- Составьте  предложения с однородными членами о зиме.            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1 балл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31" name="Picture 6" descr="807083"/>
          <p:cNvPicPr/>
          <p:nvPr/>
        </p:nvPicPr>
        <p:blipFill>
          <a:blip r:embed="rId1"/>
          <a:stretch/>
        </p:blipFill>
        <p:spPr>
          <a:xfrm>
            <a:off x="1763640" y="981000"/>
            <a:ext cx="48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32" name="05 Дорожка 5.wma" descr=""/>
          <p:cNvPicPr/>
          <p:nvPr/>
        </p:nvPicPr>
        <p:blipFill>
          <a:blip r:embed="rId2"/>
          <a:stretch/>
        </p:blipFill>
        <p:spPr>
          <a:xfrm>
            <a:off x="810108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9714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79440" y="1600200"/>
            <a:ext cx="72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042920" y="620640"/>
            <a:ext cx="74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ентральная площадь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подготовка к ЕГЭ)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632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se02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68360" y="549360"/>
            <a:ext cx="8207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Тест   Уровень А    (4 балла)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Укажите предложение, в котором перед союзом и ставится запятая: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С улицы раздались крики и гул машин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Рожь густая, рослая темнеет и волнуется вдали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Радостно было на небе и на земле и в сердце человека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Погода была пасмурная и дождливая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Укажите предложение с обобщающим словом при однородных членах: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Скворцы синицы воробьи, живущие в наших садах, поедают вредных                                   насекомых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И видишь ты синий свод неба да солнце да лес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Я стал посещать музеи и галереи и читать книги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Далёкие гулы повторяют и рёв и треск и шум и гром все звуки моря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Укажите предложение с неоднородными определениями: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На дворе стояла совершенно чёрная непроницаемая ночь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Давно – давно закат, чуть млея, чуть горя, померк над сонными весенними полями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Всё было завешено зыбкой бесформенной пеленой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Тянет гарью сухой от костра распалённого жаркого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ажите предложение, в котором нужно поставить одну запятую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Из листового металла делают корпуса машин и приборов и посуду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Жестянщики должны знать устройство различных станков и приспособлений для обработки листового металла и уметь работать на них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Мы долго не ложились спать и любовались то небом то морем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Столярный клей выпускают в виде зерен или твердых плиток с блестящей поверхностью.</a:t>
            </a:r>
            <a:endParaRPr b="0" lang="en-US" sz="16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556000" y="692280"/>
            <a:ext cx="23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771640" y="9079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Проверяем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56000" y="1557360"/>
            <a:ext cx="3457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Итого: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4 балла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206064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4000" spc="-1" strike="noStrike">
                <a:solidFill>
                  <a:srgbClr val="451264"/>
                </a:solidFill>
                <a:latin typeface="Monotype Corsiva"/>
              </a:rPr>
              <a:t>Согласен – не согласе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4824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ritannic Bol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против утверждения, с которым  вы согласны, написать ответ «да»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отив утверждения, с которым не согласны, написать ответ «нет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1187280" y="62064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лимпийская площадь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7" descr="000803_1077_9956_vnvv"/>
          <p:cNvPicPr/>
          <p:nvPr/>
        </p:nvPicPr>
        <p:blipFill>
          <a:blip r:embed="rId1"/>
          <a:stretch/>
        </p:blipFill>
        <p:spPr>
          <a:xfrm>
            <a:off x="5724360" y="227664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58560" y="1341000"/>
            <a:ext cx="1368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2. 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3. 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4. Н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5. Н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6. 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7. Н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987640" y="981000"/>
            <a:ext cx="540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</a:t>
            </a:r>
            <a:r>
              <a:rPr b="1" lang="ru-RU" sz="2800" spc="-1" strike="noStrike" u="sng">
                <a:solidFill>
                  <a:srgbClr val="422447"/>
                </a:solidFill>
                <a:uFillTx/>
                <a:latin typeface="Times New Roman"/>
              </a:rPr>
              <a:t>Критерии оценивания: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7 правильных ответов –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3 балла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5 – 6 правильных ответов -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 балла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– 4 правильных ответов –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 балл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5912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16000" y="981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Однородные члены предложения связаны подчинительной связью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1557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Однородные члены предложения связаны сочинительной связью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00000" y="19162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днородными могут быть только второстепенные члены предлож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971640" y="234936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днородными могут быть как главные, так и второстепенные члены предлож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16000" y="292428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шли ни свет ни зар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этом предложении пропущена запятая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042920" y="3573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и свет ни заря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устойчивое сочетание. Запятая не ставится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042920" y="407664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ственный дубовый лес подступал к самым окнам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 Между однородными определениям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ствен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дубов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адо поставить запятую.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71640" y="53737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ствен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дубов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это неоднородные определения. Запятая не нужна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2692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1264"/>
                </a:solidFill>
                <a:latin typeface="Monotype Corsiva"/>
              </a:rPr>
              <a:t>Исправить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971640" y="191628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т 18 баллов –  «5»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4 – 17 баллов –  «4»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до 14 баллов –   «3»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889440" cy="45370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9"/>
          <p:cNvSpPr txBox="1"/>
          <p:nvPr/>
        </p:nvSpPr>
        <p:spPr>
          <a:xfrm>
            <a:off x="1403280" y="765000"/>
            <a:ext cx="66247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щадь Победы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611280" y="404640"/>
            <a:ext cx="74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од однородных член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971640" y="620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0" lang="ru-RU" sz="5400" spc="-1" strike="noStrike">
                <a:solidFill>
                  <a:srgbClr val="333399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333399"/>
              </a:solidFill>
              <a:latin typeface="Century Gothic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557360"/>
          <a:ext cx="5761080" cy="3646440"/>
        </p:xfrm>
        <a:graphic>
          <a:graphicData uri="http://schemas.openxmlformats.org/drawingml/2006/table">
            <a:tbl>
              <a:tblPr/>
              <a:tblGrid>
                <a:gridCol w="3816360"/>
                <a:gridCol w="1050840"/>
                <a:gridCol w="893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 или «-»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 296 (устно)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знаю признаки однородных членов предложения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 могу начертить схему предложения с однородными членами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5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 группы сочинительных союзов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7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шибочно ставлю знаки препинания в предложениях с обобщающим словом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 10, 11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 привести примеры неоднородных определений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3, 14.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120"/>
          <p:cNvSpPr/>
          <p:nvPr/>
        </p:nvSpPr>
        <p:spPr>
          <a:xfrm>
            <a:off x="826920" y="5373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245b"/>
                </a:solidFill>
                <a:latin typeface="Times New Roman"/>
                <a:ea typeface="Calibri"/>
              </a:rPr>
              <a:t>Письменно – составить 3 – 4 предложения с однородными членами на тему: «История моего села».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rose02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0"/>
          <p:cNvSpPr txBox="1"/>
          <p:nvPr/>
        </p:nvSpPr>
        <p:spPr>
          <a:xfrm>
            <a:off x="539640" y="1341360"/>
            <a:ext cx="806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468360" y="1773360"/>
            <a:ext cx="82072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116000" y="542880"/>
            <a:ext cx="5761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    </a:t>
            </a:r>
            <a:r>
              <a:rPr b="1" i="1" lang="ru-RU" sz="4400" spc="-1" strike="noStrike">
                <a:solidFill>
                  <a:srgbClr val="42245b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224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245b"/>
                </a:solidFill>
                <a:latin typeface="Times New Roman"/>
              </a:rPr>
              <a:t>Повторить сведения об однородных членах предложения и знаках препинания при них.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224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224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245b"/>
                </a:solidFill>
                <a:latin typeface="Times New Roman"/>
              </a:rPr>
              <a:t>Совершенствовать умение определять роль ОЧП в речи, способствовать формированию коммуникативных навыков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224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42245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245b"/>
                </a:solidFill>
                <a:latin typeface="Times New Roman"/>
              </a:rPr>
              <a:t>На материалах тематических текстов повышать познавательный интерес и общую культуру уч-ся.</a:t>
            </a:r>
            <a:r>
              <a:rPr b="0" lang="ru-RU" sz="2000" spc="-1" strike="noStrike">
                <a:solidFill>
                  <a:srgbClr val="42245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2411280" y="1557360"/>
            <a:ext cx="3168720" cy="1295280"/>
          </a:xfrm>
          <a:prstGeom prst="ellipse">
            <a:avLst/>
          </a:prstGeom>
          <a:solidFill>
            <a:srgbClr val="faeece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Century Gothic"/>
              </a:rPr>
              <a:t>Однородные члены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Century Gothic"/>
              </a:rPr>
              <a:t>предложения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7" name="Oval 3"/>
          <p:cNvSpPr/>
          <p:nvPr/>
        </p:nvSpPr>
        <p:spPr>
          <a:xfrm>
            <a:off x="539640" y="3068640"/>
            <a:ext cx="2303640" cy="1295280"/>
          </a:xfrm>
          <a:prstGeom prst="ellipse">
            <a:avLst/>
          </a:prstGeom>
          <a:solidFill>
            <a:srgbClr val="faeece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Относятся к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одному  и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тому же слову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8" name="Oval 4"/>
          <p:cNvSpPr/>
          <p:nvPr/>
        </p:nvSpPr>
        <p:spPr>
          <a:xfrm>
            <a:off x="6300720" y="2060640"/>
            <a:ext cx="2303640" cy="1295280"/>
          </a:xfrm>
          <a:prstGeom prst="ellipse">
            <a:avLst/>
          </a:prstGeom>
          <a:solidFill>
            <a:srgbClr val="faeece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Образуют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сочинительные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словосочетания</a:t>
            </a:r>
            <a:r>
              <a:rPr b="0" lang="ru-RU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9" name="Oval 5"/>
          <p:cNvSpPr/>
          <p:nvPr/>
        </p:nvSpPr>
        <p:spPr>
          <a:xfrm>
            <a:off x="971640" y="4869000"/>
            <a:ext cx="2662200" cy="1295280"/>
          </a:xfrm>
          <a:prstGeom prst="ellipse">
            <a:avLst/>
          </a:prstGeom>
          <a:solidFill>
            <a:srgbClr val="faeece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Отвечают на один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и тот же вопрос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4500720" y="4581360"/>
            <a:ext cx="2232000" cy="1295640"/>
          </a:xfrm>
          <a:prstGeom prst="ellipse">
            <a:avLst/>
          </a:prstGeom>
          <a:solidFill>
            <a:srgbClr val="faeece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Связаны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сочинительной 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entury Gothic"/>
              </a:rPr>
              <a:t>связью</a:t>
            </a:r>
            <a:endParaRPr b="0" lang="en-US" sz="1800" spc="-1" strike="noStrike">
              <a:solidFill>
                <a:srgbClr val="333399"/>
              </a:solidFill>
              <a:latin typeface="Century Gothic"/>
            </a:endParaRPr>
          </a:p>
        </p:txBody>
      </p:sp>
      <p:cxnSp>
        <p:nvCxnSpPr>
          <p:cNvPr id="101" name="AutoShape 7"/>
          <p:cNvCxnSpPr>
            <a:stCxn id="96" idx="3"/>
            <a:endCxn id="97" idx="0"/>
          </p:cNvCxnSpPr>
          <p:nvPr/>
        </p:nvCxnSpPr>
        <p:spPr>
          <a:xfrm flipH="1">
            <a:off x="1691640" y="2682360"/>
            <a:ext cx="118332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8"/>
          <p:cNvCxnSpPr>
            <a:stCxn id="96" idx="5"/>
            <a:endCxn id="96" idx="5"/>
          </p:cNvCxnSpPr>
          <p:nvPr/>
        </p:nvCxnSpPr>
        <p:spPr>
          <a:xfrm>
            <a:off x="5116320" y="2682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9"/>
          <p:cNvCxnSpPr>
            <a:stCxn id="96" idx="6"/>
            <a:endCxn id="98" idx="2"/>
          </p:cNvCxnSpPr>
          <p:nvPr/>
        </p:nvCxnSpPr>
        <p:spPr>
          <a:xfrm>
            <a:off x="5599080" y="2205000"/>
            <a:ext cx="682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0"/>
          <p:cNvCxnSpPr>
            <a:stCxn id="96" idx="4"/>
          </p:cNvCxnSpPr>
          <p:nvPr/>
        </p:nvCxnSpPr>
        <p:spPr>
          <a:xfrm flipH="1">
            <a:off x="2842920" y="2871720"/>
            <a:ext cx="1152720" cy="20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1"/>
          <p:cNvCxnSpPr>
            <a:stCxn id="96" idx="4"/>
            <a:endCxn id="96" idx="4"/>
          </p:cNvCxnSpPr>
          <p:nvPr/>
        </p:nvCxnSpPr>
        <p:spPr>
          <a:xfrm>
            <a:off x="3995280" y="2871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2"/>
          <p:cNvCxnSpPr>
            <a:stCxn id="96" idx="5"/>
            <a:endCxn id="100" idx="0"/>
          </p:cNvCxnSpPr>
          <p:nvPr/>
        </p:nvCxnSpPr>
        <p:spPr>
          <a:xfrm>
            <a:off x="5116320" y="2682720"/>
            <a:ext cx="500760" cy="188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13"/>
          <p:cNvSpPr/>
          <p:nvPr/>
        </p:nvSpPr>
        <p:spPr>
          <a:xfrm>
            <a:off x="3132000" y="3284640"/>
            <a:ext cx="20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Monotype Corsiva"/>
              </a:rPr>
              <a:t>                   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 балл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08" name="WordArt 18"/>
          <p:cNvSpPr txBox="1"/>
          <p:nvPr/>
        </p:nvSpPr>
        <p:spPr>
          <a:xfrm>
            <a:off x="1547640" y="620640"/>
            <a:ext cx="531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парад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971640" y="2205000"/>
            <a:ext cx="5905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451264"/>
                </a:solidFill>
                <a:latin typeface="Times New Roman"/>
              </a:rPr>
              <a:t>За время Великой Отечественной войны Новоселицкий район дал фронту свыше 2500 бойцов и командиров. Это по военным меркам 6-8 полков или 2-3 бригады или одна общевойсковая дивизия. Среди наших офицеров были командиры батальонов рот батарей эскадронов дивизионов полков.  </a:t>
            </a: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1264"/>
                </a:solidFill>
                <a:latin typeface="Times New Roman"/>
              </a:rPr>
              <a:t>                           </a:t>
            </a:r>
            <a:r>
              <a:rPr b="0" i="1" lang="ru-RU" sz="2000" spc="-1" strike="noStrike">
                <a:solidFill>
                  <a:srgbClr val="451264"/>
                </a:solidFill>
                <a:latin typeface="Times New Roman"/>
              </a:rPr>
              <a:t>(Из книги М.С. Мамонтова)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882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87280" y="1484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шите предложения, найдите однородные члены,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тавьте знак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инания. </a:t>
            </a:r>
            <a:endParaRPr b="0" lang="en-US" sz="20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47636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оселицкая площадь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197000"/>
            <a:ext cx="5688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За время Великой Отечественной войны Новоселицкий район дал фронту свыше 2500 бойцов и командиров.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(1 балл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Это по военным меркам 6-8 полков или 2-3 бригады или одна общевойсковая дивизия.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                                                      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(1 балл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Среди наших офицеров были командиры батальонов рот батарей эскадронов  дивизионов полков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451264"/>
                </a:solidFill>
                <a:latin typeface="Times New Roman"/>
              </a:rPr>
              <a:t>(1 балл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8"/>
          <p:cNvSpPr txBox="1"/>
          <p:nvPr/>
        </p:nvSpPr>
        <p:spPr>
          <a:xfrm>
            <a:off x="1042920" y="765000"/>
            <a:ext cx="71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ушкинская площад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3"/>
          <a:stretch/>
        </p:blipFill>
        <p:spPr>
          <a:xfrm>
            <a:off x="4932360" y="2276640"/>
            <a:ext cx="3600360" cy="41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4"/>
          <a:stretch/>
        </p:blipFill>
        <p:spPr>
          <a:xfrm>
            <a:off x="1042920" y="2349360"/>
            <a:ext cx="37465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 2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не только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но и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 2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и </a:t>
            </a:r>
            <a:r>
              <a:rPr b="1" lang="et-EE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и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 2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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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1" lang="ru-RU" sz="3600" spc="-1" strike="noStrike">
                <a:solidFill>
                  <a:srgbClr val="0000cc"/>
                </a:solidFill>
                <a:latin typeface="Wingdings 2"/>
                <a:ea typeface="Wingdings 2"/>
              </a:rPr>
              <a:t>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03640" y="51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1264"/>
                </a:solidFill>
                <a:latin typeface="Century Gothic"/>
              </a:rPr>
              <a:t>7 баллов</a:t>
            </a:r>
            <a:endParaRPr b="0" lang="en-US" sz="3200" spc="-1" strike="noStrike">
              <a:solidFill>
                <a:srgbClr val="3333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1258920" y="765000"/>
            <a:ext cx="712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щадь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тературного творчества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42920" y="1700280"/>
            <a:ext cx="7201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1882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5a1882"/>
                </a:solidFill>
                <a:latin typeface="Times New Roman"/>
              </a:rPr>
              <a:t>В чем помогают  писателю однородные члены предложения? Определите их роль в тексте.</a:t>
            </a:r>
            <a:endParaRPr b="0" lang="en-US" sz="28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rcRect l="0" t="0" r="50544" b="0"/>
          <a:stretch/>
        </p:blipFill>
        <p:spPr>
          <a:xfrm>
            <a:off x="1116000" y="3573360"/>
            <a:ext cx="149868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И.С.Тургенев. Художник С.Иванов- Райков. 1915. Х., м. 35х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29264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5076720" y="3500280"/>
            <a:ext cx="1519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24:31Z</dcterms:created>
  <dc:creator>Vitaliy</dc:creator>
  <dc:description/>
  <cp:keywords/>
  <dc:language>en-US</dc:language>
  <cp:lastModifiedBy>Admin</cp:lastModifiedBy>
  <dcterms:modified xsi:type="dcterms:W3CDTF">2012-02-12T10:44:15Z</dcterms:modified>
  <cp:revision>37</cp:revision>
  <dc:subject/>
  <dc:title>УРОК- ПРАКТИКУ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