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5B2-30A9-431F-9488-43B67F19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48E-7B09-4799-B387-B4C8B1ED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81C-122B-41DA-A492-E16C9AB9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049-BF46-4ED3-A87A-2F8BD5BA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9E38-9E64-4669-B7DA-5C81066D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6017-C39E-4F0B-BB42-DCC41FBC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5999-7A38-4531-ABDE-1AAB96C5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9802-A7C2-4FE7-AE8F-9BB6264A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3806-D070-4C95-845D-5F3545BA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935F-D751-4838-96D3-3059FF87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62DE-F98D-4FEB-B735-6B9DF7E7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A21-50A1-4C62-A4B7-E1420DC8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B247-69D0-4141-80AA-B155012A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E3B6-1A57-4972-9856-376C66E9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EACD-FEE2-411D-BB22-62B4049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D2D5-1F49-4737-AFD8-B0BC6941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036D-FEE7-496A-9F9E-530619D1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801-BA29-4FFF-A728-6980FA56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960-2BAB-4905-809E-4A314DA2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7F9-9783-40D3-B64E-148C2E4B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B85-5926-4A3F-8FEA-3528F83B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24F-857A-4F86-B06D-09164BE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6EC-0927-4172-9A16-9A81D2D0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956-7970-43DC-81F9-5FA731B6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69A1-C569-4A71-B388-653D13A929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77DD-3F22-4E8A-85CF-AC354FA68B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1341000"/>
            <a:ext cx="6296040" cy="180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ук от семи недуг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708000" y="4149360"/>
            <a:ext cx="403236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ченики 2 «А» класс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МБОУ №5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лассный руководитель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Маркова Т.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687060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mic Sans MS"/>
              </a:rPr>
              <a:t>Условия роста лу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85680" y="999720"/>
            <a:ext cx="60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ук – растение длинного дня. Он хорошо переносит холод, может расти при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ложительной температуре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лизко к нулю градусов. Семена лука в обычных условиях в почве прорастают медленно. Нужно их предварительно замочить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4" descr="SP_A0617"/>
          <p:cNvPicPr/>
          <p:nvPr/>
        </p:nvPicPr>
        <p:blipFill>
          <a:blip r:embed="rId1"/>
          <a:stretch/>
        </p:blipFill>
        <p:spPr>
          <a:xfrm>
            <a:off x="285840" y="2143080"/>
            <a:ext cx="23050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14240" y="333360"/>
            <a:ext cx="724248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omic Sans MS"/>
              </a:rPr>
              <a:t>Искали интересный материал о луке в различных справочниках, энциклопедиях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357120" y="185724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Узнали, что существует около 400 видов лук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( и культурные, и дикие виды). Вот лишь некоторые из них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Прямоугольник 10"/>
          <p:cNvSpPr/>
          <p:nvPr/>
        </p:nvSpPr>
        <p:spPr>
          <a:xfrm>
            <a:off x="285840" y="45720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лук-порей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Прямоугольник 14"/>
          <p:cNvSpPr/>
          <p:nvPr/>
        </p:nvSpPr>
        <p:spPr>
          <a:xfrm>
            <a:off x="6715080" y="59342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Прямоугольник 17"/>
          <p:cNvSpPr/>
          <p:nvPr/>
        </p:nvSpPr>
        <p:spPr>
          <a:xfrm>
            <a:off x="2928960" y="421488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лук-батун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3071880" y="6488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лук репчатый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14" descr=""/>
          <p:cNvPicPr/>
          <p:nvPr/>
        </p:nvPicPr>
        <p:blipFill>
          <a:blip r:embed="rId1"/>
          <a:stretch/>
        </p:blipFill>
        <p:spPr>
          <a:xfrm>
            <a:off x="3714840" y="285768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"/>
          <p:cNvPicPr/>
          <p:nvPr/>
        </p:nvPicPr>
        <p:blipFill>
          <a:blip r:embed="rId3"/>
          <a:stretch/>
        </p:blipFill>
        <p:spPr>
          <a:xfrm>
            <a:off x="3643200" y="4929120"/>
            <a:ext cx="1290600" cy="1643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"/>
          <p:cNvPicPr/>
          <p:nvPr/>
        </p:nvPicPr>
        <p:blipFill>
          <a:blip r:embed="rId4"/>
          <a:stretch/>
        </p:blipFill>
        <p:spPr>
          <a:xfrm>
            <a:off x="6786720" y="335772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31"/>
          <p:cNvSpPr/>
          <p:nvPr/>
        </p:nvSpPr>
        <p:spPr>
          <a:xfrm>
            <a:off x="5786280" y="485784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шнитт-лу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ип проекта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– творческий, коллективный, краткосрочны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Исполнители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– учащиеся 2 класса и учитель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Характер проект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– учебно-исследовательская работ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Цель: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растить зелёный лук, получить навык исследовательской работ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Задачи: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звать интерес детей к проектной деятельности, т. к. она дает возможность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явить творчество мышлени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учиться элементам поисковой работ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учиться способам поиска информации, ее анализа, структурирования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4932360" y="-505080"/>
            <a:ext cx="2374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0040" y="5000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Актуальность темы: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едметно-содержательная область проекта объединила все предметы, изучаемые в начальной школе, их взаимообусловленные связи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актическая направленность проекта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том, что каждый ребенок вырастил зелёные перья лука 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Структура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– блок теоретических знаний, практическая деятельность, опытно-экспериментальная работ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Доминирующая деятельность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 проекте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– учебно-исследовательская, творческая и поисковая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357720" y="3643200"/>
            <a:ext cx="18666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357120"/>
            <a:ext cx="500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апы проекта</a:t>
            </a: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дготовительный этап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пуск проект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сновной этап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актическая работ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кспериментально-опытная работ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езентация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ждый этап проекта заканчивается рефлексией и диагностикой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Рисунок 7" descr=""/>
          <p:cNvPicPr/>
          <p:nvPr/>
        </p:nvPicPr>
        <p:blipFill>
          <a:blip r:embed="rId1"/>
          <a:stretch/>
        </p:blipFill>
        <p:spPr>
          <a:xfrm>
            <a:off x="5286240" y="2857680"/>
            <a:ext cx="3133800" cy="23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середине сентября мы принесли луковицы в класс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резали у них верхушки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Рисунок 10" descr="C:\Documents and Settings\Пользователь\Рабочий стол\DSC01434.JPG"/>
          <p:cNvPicPr/>
          <p:nvPr/>
        </p:nvPicPr>
        <p:blipFill>
          <a:blip r:embed="rId1"/>
          <a:stretch/>
        </p:blipFill>
        <p:spPr>
          <a:xfrm>
            <a:off x="2857680" y="4071960"/>
            <a:ext cx="4000320" cy="19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mic Sans MS"/>
              </a:rPr>
              <a:t>Выращивание лука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480" y="1142640"/>
            <a:ext cx="7715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ук выращивали в стаканчиках и баночках с водой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Рисунок 5" descr="C:\Documents and Settings\Пользователь\Рабочий стол\DSC01430.JPG"/>
          <p:cNvPicPr/>
          <p:nvPr/>
        </p:nvPicPr>
        <p:blipFill>
          <a:blip r:embed="rId1"/>
          <a:stretch/>
        </p:blipFill>
        <p:spPr>
          <a:xfrm>
            <a:off x="3000240" y="3143160"/>
            <a:ext cx="4214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8440" y="142560"/>
            <a:ext cx="6870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Из выращенного лука дома сделали салат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286080" y="3963960"/>
            <a:ext cx="2746440" cy="2050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8" descr="C:\Documents and Settings\Пользователь\Рабочий стол\DSC01431.JPG"/>
          <p:cNvPicPr/>
          <p:nvPr/>
        </p:nvPicPr>
        <p:blipFill>
          <a:blip r:embed="rId2"/>
          <a:stretch/>
        </p:blipFill>
        <p:spPr>
          <a:xfrm>
            <a:off x="2428920" y="1500120"/>
            <a:ext cx="407196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mic Sans MS"/>
              </a:rPr>
              <a:t>Изучали условия для роста лук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320" y="1916280"/>
            <a:ext cx="78102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уку, как и любому растению, нужны свет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епло, воздух, вод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Рисунок 4" descr="C:\Documents and Settings\Пользователь\Рабочий стол\DSC01429.JPG"/>
          <p:cNvPicPr/>
          <p:nvPr/>
        </p:nvPicPr>
        <p:blipFill>
          <a:blip r:embed="rId1"/>
          <a:stretch/>
        </p:blipFill>
        <p:spPr>
          <a:xfrm>
            <a:off x="3214800" y="4500720"/>
            <a:ext cx="3747960" cy="211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6:23:05Z</dcterms:created>
  <dc:creator> Маркова Татьяна Владимировна</dc:creator>
  <dc:description/>
  <dc:language>en-US</dc:language>
  <cp:lastModifiedBy>Пользователь</cp:lastModifiedBy>
  <dcterms:modified xsi:type="dcterms:W3CDTF">2012-02-05T20:33:06Z</dcterms:modified>
  <cp:revision>99</cp:revision>
  <dc:subject/>
  <dc:title>Лук от семи недуг</dc:title>
</cp:coreProperties>
</file>