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A2D9-9E57-4250-A351-8BFFE502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BD9B-7860-48E5-9A51-B30D9DE1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43C-0197-4E47-A595-9C7BE4AC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ABD6-3C18-46D8-91BC-299445C4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8D5C-3747-40BD-A2A2-CE052ACE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B104-A743-4F71-882B-3302CC7E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C0A0-EC24-46BB-BC7B-10FAD397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D9C8-D25B-4E3B-9467-C158A8AA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CDE0-D004-495E-B153-BC387CF6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7E44-59FF-4167-88F4-80E835DE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5C4D-967C-449A-A5C0-B53767B0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B36B-B93A-42C6-98C8-2750AD7D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89F3-79B9-4C12-8D8B-9AE0F5CA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8170-E235-4D3B-B71F-22F7870D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CDA8-EAC2-41E5-8F75-B4B13317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0F44-4037-4839-907F-E674980F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84B0-EB45-4C60-B76C-91F7C2A5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EFC-F7C3-4EAB-A364-61B76C76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1E98-7EBE-42B1-BE7F-1CDD1868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E00-0DF5-4AD7-BBEF-36E1034A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5F50-9D9E-4CCE-9FF4-F1396B10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C2A4-DC99-4AE9-A0BC-F544F86A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E0DF-8AA2-4F0B-A3CE-706BCA81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3CE3-F456-41E1-94F9-D1145205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D00B-7391-43B6-8C97-9D4CC9EF79E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225C-4852-4144-9104-6CD0BF47D232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14760" y="188640"/>
            <a:ext cx="4767120" cy="12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omic Sans MS"/>
              </a:rPr>
              <a:t>Из истории лук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195640" y="1773360"/>
            <a:ext cx="61862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Лук, одно из самых популярных и очень древних овощных растений. Его выращивают пять тысячелетий. Возделывание этой культуры началось в древнем Китае, затем перешло в Индию и Египет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3" name="Picture 4" descr="луковки"/>
          <p:cNvPicPr/>
          <p:nvPr/>
        </p:nvPicPr>
        <p:blipFill>
          <a:blip r:embed="rId1"/>
          <a:stretch/>
        </p:blipFill>
        <p:spPr>
          <a:xfrm>
            <a:off x="642960" y="1492200"/>
            <a:ext cx="1428840" cy="1389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785880" y="3571920"/>
            <a:ext cx="15001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оцесс и результат проекта принес детям удовлетворение, радость переживания успеха, осознание собственных умений, компетенции. Дети готовы и хотят выполнять коллективно следующий проект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771640" y="1341000"/>
            <a:ext cx="56102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зия, горы Афганистана, Ирана – родина репчатого лука. Ведь слой земли в горах неглубок, поэтому корешки у него короткие слабые. Зато их много. Тоненькие, как струнки, они проникнут в любую щелку между камней, где найдётся земля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6" name="Picture 4" descr="лук афгани"/>
          <p:cNvPicPr/>
          <p:nvPr/>
        </p:nvPicPr>
        <p:blipFill>
          <a:blip r:embed="rId1"/>
          <a:stretch/>
        </p:blipFill>
        <p:spPr>
          <a:xfrm>
            <a:off x="500040" y="2286000"/>
            <a:ext cx="1712880" cy="17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6870600" cy="132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c000"/>
                </a:solidFill>
                <a:latin typeface="Comic Sans MS"/>
              </a:rPr>
              <a:t>В России лук получил широкое распространение ещё в 8 веке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19640" y="2349000"/>
            <a:ext cx="49622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аже в бедной семье суп не варили без луковицы. Она была не только приправой, но и защитницей от всех болезней. Это была здоровая и полезная пищ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928800" y="3071880"/>
            <a:ext cx="20001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omic Sans MS"/>
              </a:rPr>
              <a:t>Лук от семи недуг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700360" y="1483920"/>
            <a:ext cx="590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 лука есть особые летучие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ещества – </a:t>
            </a: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фитонциды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бивающие многие виды болезнетворных микробов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усочка лука достаточно, чтобы убить всех микробов в полости рт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214200" y="2500200"/>
            <a:ext cx="209556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omic Sans MS"/>
              </a:rPr>
              <a:t>Лук в народном творчестве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4200" y="1071720"/>
            <a:ext cx="35719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Загадк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09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Я вырос на грядке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09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Характер мой гадкий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09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уда ни приду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09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сех до слёз доведу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09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6215040" y="4071960"/>
            <a:ext cx="2714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Говорят, я горький,           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Говорят, я сладкий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трелочкой зелёной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Я расту на грядке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Я полезный самый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 том даю я слово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Ешьте меня всяким –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Будете здоровы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2428920" y="3857760"/>
            <a:ext cx="295272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69138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Пословицы о луке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71480" y="714240"/>
            <a:ext cx="5810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Лук от семи недугов лечит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9" name="Picture 4" descr="лук натюр"/>
          <p:cNvPicPr/>
          <p:nvPr/>
        </p:nvPicPr>
        <p:blipFill>
          <a:blip r:embed="rId1"/>
          <a:stretch/>
        </p:blipFill>
        <p:spPr>
          <a:xfrm>
            <a:off x="431640" y="1071720"/>
            <a:ext cx="1711440" cy="1412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2"/>
          <a:stretch/>
        </p:blipFill>
        <p:spPr>
          <a:xfrm>
            <a:off x="6572160" y="3786120"/>
            <a:ext cx="1643040" cy="114156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8"/>
          <p:cNvSpPr/>
          <p:nvPr/>
        </p:nvSpPr>
        <p:spPr>
          <a:xfrm>
            <a:off x="2000160" y="5929200"/>
            <a:ext cx="664380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Лук с чесноком – родные братья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Прямоугольник 9"/>
          <p:cNvSpPr/>
          <p:nvPr/>
        </p:nvSpPr>
        <p:spPr>
          <a:xfrm>
            <a:off x="257040" y="2643120"/>
            <a:ext cx="54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Ешь лук- чаще зубы будут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Прямоугольник 11"/>
          <p:cNvSpPr/>
          <p:nvPr/>
        </p:nvSpPr>
        <p:spPr>
          <a:xfrm>
            <a:off x="214200" y="4643280"/>
            <a:ext cx="5143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Лук да баня всё правят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28920" y="356760"/>
            <a:ext cx="321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Запомн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28880" y="1357200"/>
            <a:ext cx="6175440" cy="25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mic Sans MS"/>
              </a:rPr>
              <a:t>Разговорам вы не верьте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mic Sans MS"/>
              </a:rPr>
              <a:t>В пище очень ценен лук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mic Sans MS"/>
              </a:rPr>
              <a:t>Луком лечим мы недуг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mic Sans MS"/>
              </a:rPr>
              <a:t>И не враг он нам, а друг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6" name="Рисунок 3" descr="C:\Documents and Settings\Пользователь\Рабочий стол\DSC01432.JPG"/>
          <p:cNvPicPr/>
          <p:nvPr/>
        </p:nvPicPr>
        <p:blipFill>
          <a:blip r:embed="rId1"/>
          <a:stretch/>
        </p:blipFill>
        <p:spPr>
          <a:xfrm>
            <a:off x="2571840" y="3714840"/>
            <a:ext cx="5643360" cy="29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Результативность проект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Творческий потенциал каждого учащегося раскрыт, каждый ученик публично продемонстрировал достигнутый результат, он был значим и интересен для детей, дети выступали в роли садоводов, литераторов, историков, художников, озеленителей, ученых. Кругозор детей расширился, мыслительная деятельность активизировалась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Picture 5" descr="C:\Documents and Settings\Пользователь\Рабочий стол\DSC01428.JPG"/>
          <p:cNvPicPr/>
          <p:nvPr/>
        </p:nvPicPr>
        <p:blipFill>
          <a:blip r:embed="rId1"/>
          <a:stretch/>
        </p:blipFill>
        <p:spPr>
          <a:xfrm>
            <a:off x="5286240" y="4968720"/>
            <a:ext cx="3357720" cy="18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42600" y="571320"/>
            <a:ext cx="773892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ожно говорить и о приобретенных компетенциях детей, а именно – узнали, как сделать, сумели сделать, и будут делать самостоятельно сами в новых ситуациях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1" name="Рисунок 5" descr="C:\Documents and Settings\Пользователь\Рабочий стол\DSC01431.JPG"/>
          <p:cNvPicPr/>
          <p:nvPr/>
        </p:nvPicPr>
        <p:blipFill>
          <a:blip r:embed="rId1"/>
          <a:stretch/>
        </p:blipFill>
        <p:spPr>
          <a:xfrm>
            <a:off x="4000680" y="4786200"/>
            <a:ext cx="2705040" cy="141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6:23:05Z</dcterms:created>
  <dc:creator>Маркова Татьяна Владимировна</dc:creator>
  <dc:description/>
  <dc:language>en-US</dc:language>
  <cp:lastModifiedBy>Пользователь</cp:lastModifiedBy>
  <dcterms:modified xsi:type="dcterms:W3CDTF">2012-02-05T20:36:27Z</dcterms:modified>
  <cp:revision>93</cp:revision>
  <dc:subject/>
  <dc:title>Лук от семи недуг</dc:title>
</cp:coreProperties>
</file>