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ABB-5DA5-420C-BD02-79614C87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374-0638-44B0-A6DD-D8E70C7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F35-CB13-4726-A131-4155592B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461-1049-4E13-8196-A15D94EA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165-4CC1-4DFE-AEB3-A104CCC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D22-52E1-45D4-8000-ADCFCC65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E81-E7CF-4ABC-8581-33F28B98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606-B43A-4756-A19B-C8E14F2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24B-11E7-43D6-BC1C-F327F064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BC3-A024-4EF3-ADA0-98A05C7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4D3-DDCD-4C03-B640-B07B42C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DD3-AF17-40E2-8777-EB382AD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866-7269-4429-9C5E-9FC16F6403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todkabinet.eu/BGM/Izotrud/BGM_Arte_Osen.htm" TargetMode="External"/><Relationship Id="rId2" Type="http://schemas.openxmlformats.org/officeDocument/2006/relationships/hyperlink" Target="http://www.metodkabinet.eu/BGM/Izotrud/BGM_Arte_Osen.htm" TargetMode="External"/><Relationship Id="rId3" Type="http://schemas.openxmlformats.org/officeDocument/2006/relationships/hyperlink" Target="http://www.metodkabinet.eu/BGM/Izotrud/BGM_Arte_Osen.htm" TargetMode="External"/><Relationship Id="rId4" Type="http://schemas.openxmlformats.org/officeDocument/2006/relationships/hyperlink" Target="http://www.metodkabinet.eu/BGM/Izotrud/BGM_Arte_Osen.htm" TargetMode="External"/><Relationship Id="rId5" Type="http://schemas.openxmlformats.org/officeDocument/2006/relationships/hyperlink" Target="http://www.metodkabinet.eu/BGM/Izotrud/BGM_Arte_Osen.htm" TargetMode="External"/><Relationship Id="rId6" Type="http://schemas.openxmlformats.org/officeDocument/2006/relationships/hyperlink" Target="http://www.metodkabinet.eu/BGM/Izotrud/BGM_Arte_Osen.htm" TargetMode="External"/><Relationship Id="rId7" Type="http://schemas.openxmlformats.org/officeDocument/2006/relationships/hyperlink" Target="http://www.metodkabinet.eu/BGM/Izotrud/BGM_Arte_Osen.htm" TargetMode="External"/><Relationship Id="rId8" Type="http://schemas.openxmlformats.org/officeDocument/2006/relationships/hyperlink" Target="http://www.metodkabinet.eu/BGM/Izotrud/BGM_Arte_Osen.htm" TargetMode="External"/><Relationship Id="rId9" Type="http://schemas.openxmlformats.org/officeDocument/2006/relationships/hyperlink" Target="http://www.metodkabinet.eu/BGM/Izotrud/BGM_Arte_Osen.htm" TargetMode="External"/><Relationship Id="rId10" Type="http://schemas.openxmlformats.org/officeDocument/2006/relationships/hyperlink" Target="http://www.metodkabinet.eu/BGM/Izotrud/BGM_Arte_Osen.htm" TargetMode="External"/><Relationship Id="rId11" Type="http://schemas.openxmlformats.org/officeDocument/2006/relationships/hyperlink" Target="http://www.metodkabinet.eu/BGM/Izotrud/BGM_Arte_Osen.htm" TargetMode="External"/><Relationship Id="rId12" Type="http://schemas.openxmlformats.org/officeDocument/2006/relationships/hyperlink" Target="http://www.metodkabinet.eu/BGM/Izotrud/BGM_Arte_Osen.htm" TargetMode="External"/><Relationship Id="rId13" Type="http://schemas.openxmlformats.org/officeDocument/2006/relationships/hyperlink" Target="http://www.metodkabinet.eu/BGM/Izotrud/BGM_Arte_Osen.htm" TargetMode="External"/><Relationship Id="rId14" Type="http://schemas.openxmlformats.org/officeDocument/2006/relationships/hyperlink" Target="http://www.metodkabinet.eu/BGM/Izotrud/BGM_Arte_Osen.htm" TargetMode="External"/><Relationship Id="rId15" Type="http://schemas.openxmlformats.org/officeDocument/2006/relationships/hyperlink" Target="http://www.metodkabinet.eu/BGM/Izotrud/BGM_Arte_Osen.htm" TargetMode="External"/><Relationship Id="rId16" Type="http://schemas.openxmlformats.org/officeDocument/2006/relationships/hyperlink" Target="http://stilleben-art.ru/" TargetMode="External"/><Relationship Id="rId17" Type="http://schemas.openxmlformats.org/officeDocument/2006/relationships/hyperlink" Target="http://stilleben-art.ru/" TargetMode="External"/><Relationship Id="rId18" Type="http://schemas.openxmlformats.org/officeDocument/2006/relationships/hyperlink" Target="http://stilleben-art.ru/" TargetMode="External"/><Relationship Id="rId19" Type="http://schemas.openxmlformats.org/officeDocument/2006/relationships/hyperlink" Target="http://stilleben-art.ru/" TargetMode="External"/><Relationship Id="rId20" Type="http://schemas.openxmlformats.org/officeDocument/2006/relationships/hyperlink" Target="http://stilleben-art.ru/" TargetMode="External"/><Relationship Id="rId21" Type="http://schemas.openxmlformats.org/officeDocument/2006/relationships/hyperlink" Target="http://stilleben-art.ru/" TargetMode="External"/><Relationship Id="rId22" Type="http://schemas.openxmlformats.org/officeDocument/2006/relationships/hyperlink" Target="http://stilleben-art.ru/" TargetMode="External"/><Relationship Id="rId23" Type="http://schemas.openxmlformats.org/officeDocument/2006/relationships/hyperlink" Target="http://stilleben-art.ru/" TargetMode="External"/><Relationship Id="rId24" Type="http://schemas.openxmlformats.org/officeDocument/2006/relationships/hyperlink" Target="http://www.artlib.ru/" TargetMode="External"/><Relationship Id="rId25" Type="http://schemas.openxmlformats.org/officeDocument/2006/relationships/hyperlink" Target="http://www.artlib.ru/" TargetMode="External"/><Relationship Id="rId26" Type="http://schemas.openxmlformats.org/officeDocument/2006/relationships/hyperlink" Target="http://www.artlib.ru/" TargetMode="External"/><Relationship Id="rId27" Type="http://schemas.openxmlformats.org/officeDocument/2006/relationships/hyperlink" Target="http://www.artlib.ru/" TargetMode="External"/><Relationship Id="rId28" Type="http://schemas.openxmlformats.org/officeDocument/2006/relationships/hyperlink" Target="http://www.artlib.ru/" TargetMode="External"/><Relationship Id="rId29" Type="http://schemas.openxmlformats.org/officeDocument/2006/relationships/hyperlink" Target="http://www.artlib.ru/" TargetMode="External"/><Relationship Id="rId30" Type="http://schemas.openxmlformats.org/officeDocument/2006/relationships/hyperlink" Target="http://www.artlib.ru/" TargetMode="External"/><Relationship Id="rId31" Type="http://schemas.openxmlformats.org/officeDocument/2006/relationships/hyperlink" Target="http://rusportrait.ru/" TargetMode="External"/><Relationship Id="rId32" Type="http://schemas.openxmlformats.org/officeDocument/2006/relationships/hyperlink" Target="http://rusportrait.ru/" TargetMode="External"/><Relationship Id="rId33" Type="http://schemas.openxmlformats.org/officeDocument/2006/relationships/hyperlink" Target="http://rusportrait.ru/" TargetMode="External"/><Relationship Id="rId34" Type="http://schemas.openxmlformats.org/officeDocument/2006/relationships/hyperlink" Target="http://rusportrait.ru/" TargetMode="External"/><Relationship Id="rId35" Type="http://schemas.openxmlformats.org/officeDocument/2006/relationships/hyperlink" Target="http://rusportrait.ru/" TargetMode="External"/><Relationship Id="rId36" Type="http://schemas.openxmlformats.org/officeDocument/2006/relationships/hyperlink" Target="http://rusportrait.ru/" TargetMode="External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209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%20Анна%20Григорьевна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791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1905120"/>
            <a:ext cx="4724280" cy="2543040"/>
          </a:xfrm>
          <a:prstGeom prst="rect">
            <a:avLst/>
          </a:prstGeom>
          <a:noFill/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я к развлечению для детей старшего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сенняя выстав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нькова Анна Григор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ДОУ г. Омска «Детский сад № 93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27400" y="152280"/>
            <a:ext cx="468288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889399461" descr=""/>
          <p:cNvPicPr/>
          <p:nvPr/>
        </p:nvPicPr>
        <p:blipFill>
          <a:blip r:embed="rId1"/>
          <a:stretch/>
        </p:blipFill>
        <p:spPr>
          <a:xfrm>
            <a:off x="304920" y="450720"/>
            <a:ext cx="8610480" cy="572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55760" y="2700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0880"/>
            <a:ext cx="7315200" cy="46170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При создании презентации были использованы репродукции карти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00"/>
                </a:solidFill>
                <a:latin typeface="Tahoma"/>
              </a:rPr>
              <a:t>И. Остроухова, С. Жуковского, И. Бродского, Н.Крылова, В. Поленова, А.Киселева, И.Левитана, А.Гирва, Е.Лансере, В.Рождественского, А.Осьмеркина, Л. Благодарной, Б.Безденежных, Ф.Журавлева, В. Тропинина, О Кипренского, Л. Леви-Дюрм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00"/>
                </a:solidFill>
                <a:latin typeface="Tahoma"/>
              </a:rPr>
              <a:t>Источни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"/>
              </a:rPr>
              <a:t>www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5"/>
              </a:rPr>
              <a:t>metodkabinet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7"/>
              </a:rPr>
              <a:t>eu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8"/>
              </a:rPr>
              <a:t>/BGM/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9"/>
              </a:rPr>
              <a:t>Izotrud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0"/>
              </a:rPr>
              <a:t>/BGM_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1"/>
              </a:rPr>
              <a:t>Arte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2"/>
              </a:rPr>
              <a:t>_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3"/>
              </a:rPr>
              <a:t>Osen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4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5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8"/>
              </a:rPr>
              <a:t>stilleben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9"/>
              </a:rPr>
              <a:t>-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0"/>
              </a:rPr>
              <a:t>art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2"/>
              </a:rPr>
              <a:t>ru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4"/>
              </a:rPr>
              <a:t>http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5"/>
              </a:rPr>
              <a:t>://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6"/>
              </a:rPr>
              <a:t>www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7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8"/>
              </a:rPr>
              <a:t>artlib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0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1"/>
              </a:rPr>
              <a:t>http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2"/>
              </a:rPr>
              <a:t>://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3"/>
              </a:rPr>
              <a:t>rusportrait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4"/>
              </a:rPr>
              <a:t>.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5"/>
              </a:rPr>
              <a:t>ru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http://www.liveinternet.ru/users/2010239/post75144246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209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%20Анна%20Григорьевна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791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447920" y="19051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Franklin Gothic Medium"/>
              </a:rPr>
              <a:t>Осенняя выставка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16680" cy="2108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3786120" cy="285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67676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33520" y="4267080"/>
            <a:ext cx="3352680" cy="246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9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110-3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115-2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265104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110-5" descr=""/>
          <p:cNvPicPr/>
          <p:nvPr/>
        </p:nvPicPr>
        <p:blipFill>
          <a:blip r:embed="rId3"/>
          <a:stretch/>
        </p:blipFill>
        <p:spPr>
          <a:xfrm>
            <a:off x="4883040" y="304920"/>
            <a:ext cx="271332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112-13" descr=""/>
          <p:cNvPicPr/>
          <p:nvPr/>
        </p:nvPicPr>
        <p:blipFill>
          <a:blip r:embed="rId4"/>
          <a:stretch/>
        </p:blipFill>
        <p:spPr>
          <a:xfrm>
            <a:off x="685800" y="304920"/>
            <a:ext cx="223992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12-10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28432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s43-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58308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58-7" descr=""/>
          <p:cNvPicPr/>
          <p:nvPr/>
        </p:nvPicPr>
        <p:blipFill>
          <a:blip r:embed="rId3"/>
          <a:stretch/>
        </p:blipFill>
        <p:spPr>
          <a:xfrm>
            <a:off x="6032520" y="152280"/>
            <a:ext cx="281628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2-12T17:25:51Z</dcterms:modified>
  <cp:revision>19</cp:revision>
  <dc:subject/>
  <dc:title>PowerPoint Presentation</dc:title>
</cp:coreProperties>
</file>