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2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96CC-B6F4-4180-95A9-9B29A562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838-4D5D-4495-B0CD-7FA6CFD8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D46B-A0A6-4C2D-A963-6433A63A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C40-4D40-4069-AA2F-A22F6172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5CF4-56DF-4F21-9AE2-2C79A196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A942-5A2C-4038-994C-0C47CF82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BC04-B435-4242-9CC2-60A653F4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F4ED-CA31-4558-B1D0-317D1423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58A2-502B-4C00-A1A9-0569F444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432E-2B14-4913-BD01-9736674B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1117-C74D-422E-9D27-D6086E00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1433-800A-4D78-AED6-12D6965F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9947-1F86-40FC-A5D3-49073A38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9913-7F36-46DB-BBA5-C0BE645E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ADBF-3269-4D6D-8D70-64E69166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2DEB-05BE-470E-A793-1D26AB8B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2F17-2BBA-4688-9F6F-01C17F22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5CF8-B1FE-41C1-B943-B373789C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864-9848-4A2D-9336-0A648055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2BE-B5F4-44A8-B47A-6311396D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B732-7416-44A3-A7D3-7BAC3AD8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E25-7EDA-4BE9-9401-A74CEC5C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515B-CEFB-4045-BCE1-78FD84F1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2007-C632-4113-83FF-36957688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8C2F-F79B-4081-ADEF-7D9C5289AB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8AD0-F9C9-44A2-8C1D-E24739FC107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4"/>
          <p:cNvSpPr txBox="1"/>
          <p:nvPr/>
        </p:nvSpPr>
        <p:spPr>
          <a:xfrm>
            <a:off x="2124000" y="981000"/>
            <a:ext cx="4581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дагогический проект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250920" y="1916280"/>
            <a:ext cx="84978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aeae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Место и роль новых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aeae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aeae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онных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aeae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aeae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ологий при обучен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aeae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aeae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остранного язы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aeae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aeae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aeae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среднем этапе обучения вСОШ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aeae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WordArt 6"/>
          <p:cNvSpPr txBox="1"/>
          <p:nvPr/>
        </p:nvSpPr>
        <p:spPr>
          <a:xfrm>
            <a:off x="4500720" y="5084640"/>
            <a:ext cx="43909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втор: Керова Алена Владимировна</a:t>
            </a:r>
            <a:endParaRPr b="0" i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итель английского языка МОУ</a:t>
            </a:r>
            <a:endParaRPr b="0" i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Средняя общеобразовательная школа №3"</a:t>
            </a:r>
            <a:endParaRPr b="0" i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.Бекешевская</a:t>
            </a:r>
            <a:endParaRPr b="0" i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WordArt 4"/>
          <p:cNvSpPr txBox="1"/>
          <p:nvPr/>
        </p:nvSpPr>
        <p:spPr>
          <a:xfrm>
            <a:off x="1258920" y="620640"/>
            <a:ext cx="6842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ктронные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дреса  МОУ СОШ №3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WordArt 5"/>
          <p:cNvSpPr txBox="1"/>
          <p:nvPr/>
        </p:nvSpPr>
        <p:spPr>
          <a:xfrm>
            <a:off x="0" y="2421000"/>
            <a:ext cx="91440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aeae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tt://www.eglishforkids.ru</a:t>
            </a:r>
            <a:endParaRPr b="0" lang="en-US" sz="1800" spc="1" strike="noStrike">
              <a:ln w="0">
                <a:noFill/>
              </a:ln>
              <a:solidFill>
                <a:srgbClr val="eaeae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aeae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tt://lib.ru/ENGLISH/</a:t>
            </a:r>
            <a:endParaRPr b="0" lang="en-US" sz="1800" spc="1" strike="noStrike">
              <a:ln w="0">
                <a:noFill/>
              </a:ln>
              <a:solidFill>
                <a:srgbClr val="eaeae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aeae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tt://www.infospace.com/info.USA</a:t>
            </a:r>
            <a:endParaRPr b="0" lang="en-US" sz="1800" spc="1" strike="noStrike">
              <a:ln w="0">
                <a:noFill/>
              </a:ln>
              <a:solidFill>
                <a:srgbClr val="eaeae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aeae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tt://www.anriintern.com</a:t>
            </a:r>
            <a:endParaRPr b="0" lang="en-US" sz="1800" spc="1" strike="noStrike">
              <a:ln w="0">
                <a:noFill/>
              </a:ln>
              <a:solidFill>
                <a:srgbClr val="eaeae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aeae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tt://www.att.virtualclassroom.org/index.html</a:t>
            </a:r>
            <a:endParaRPr b="0" lang="en-US" sz="1800" spc="1" strike="noStrike">
              <a:ln w="0">
                <a:noFill/>
              </a:ln>
              <a:solidFill>
                <a:srgbClr val="eaeae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aeae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ttp://www.fluent-english.ru</a:t>
            </a:r>
            <a:endParaRPr b="0" lang="en-US" sz="1800" spc="1" strike="noStrike">
              <a:ln w="0">
                <a:noFill/>
              </a:ln>
              <a:solidFill>
                <a:srgbClr val="eaeae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4"/>
          <p:cNvSpPr txBox="1"/>
          <p:nvPr/>
        </p:nvSpPr>
        <p:spPr>
          <a:xfrm>
            <a:off x="1619280" y="620640"/>
            <a:ext cx="583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точники информаци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395280" y="1211040"/>
            <a:ext cx="8353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1.Беспалько, В.П. Образование и обучение с участием компьютеров. - М.: Московский психолого-социальный институт, 2002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2. Брановский, Ю.С. Новые информационные технологии в обучении английскому языку - Ставрополь: СГУ, 200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0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3. Гальскова, Н.Д. Современная методика обучения иностранным языкам. - М.: Арки-Глосса, 2000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4. Дерешко, Б.Ю. Дидактические возможности компьютерных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телекоммуникационных сетей для обучения иностранным зыкам. - Иностранные языки в школе. -№4. - 1996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5. Кауфман К., Кауфман М. Учебник дл 5-го класса. «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Happy English.ru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» - 2002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5"/>
          <p:cNvSpPr txBox="1"/>
          <p:nvPr/>
        </p:nvSpPr>
        <p:spPr>
          <a:xfrm>
            <a:off x="395280" y="5157720"/>
            <a:ext cx="3241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eaeaea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eaeaea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тересн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eaeaea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WordArt 5"/>
          <p:cNvSpPr txBox="1"/>
          <p:nvPr/>
        </p:nvSpPr>
        <p:spPr>
          <a:xfrm>
            <a:off x="1835280" y="620640"/>
            <a:ext cx="5257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туальность проект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Picture 7" descr="к7"/>
          <p:cNvPicPr/>
          <p:nvPr/>
        </p:nvPicPr>
        <p:blipFill>
          <a:blip r:embed="rId3"/>
          <a:stretch/>
        </p:blipFill>
        <p:spPr>
          <a:xfrm>
            <a:off x="250920" y="1484280"/>
            <a:ext cx="5011560" cy="3349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к2"/>
          <p:cNvPicPr/>
          <p:nvPr/>
        </p:nvPicPr>
        <p:blipFill>
          <a:blip r:embed="rId4"/>
          <a:stretch/>
        </p:blipFill>
        <p:spPr>
          <a:xfrm>
            <a:off x="4067280" y="3429000"/>
            <a:ext cx="4825800" cy="3240000"/>
          </a:xfrm>
          <a:prstGeom prst="rect">
            <a:avLst/>
          </a:prstGeom>
          <a:ln w="0">
            <a:noFill/>
          </a:ln>
        </p:spPr>
      </p:pic>
      <p:sp>
        <p:nvSpPr>
          <p:cNvPr id="219" name="WordArt 9"/>
          <p:cNvSpPr txBox="1"/>
          <p:nvPr/>
        </p:nvSpPr>
        <p:spPr>
          <a:xfrm>
            <a:off x="5508720" y="2421000"/>
            <a:ext cx="34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eaeaea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обходим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eaeaea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1908000" y="404640"/>
            <a:ext cx="5545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проекта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324000" y="1411200"/>
            <a:ext cx="8640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4547a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- изучение основных дидактических возможностей данных средств обучения в формировании навыков и умений различных аспектов речевой деятельности учащихся</a:t>
            </a:r>
            <a:r>
              <a:rPr b="0" i="1" lang="en-US" sz="24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WordArt 5"/>
          <p:cNvSpPr txBox="1"/>
          <p:nvPr/>
        </p:nvSpPr>
        <p:spPr>
          <a:xfrm>
            <a:off x="2411280" y="3789360"/>
            <a:ext cx="43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ъект проект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501480" y="486900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- процесс овладения учащимися иностранным языком на среднем этапе СОШ как результат процесса обучения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"/>
          <p:cNvSpPr/>
          <p:nvPr/>
        </p:nvSpPr>
        <p:spPr>
          <a:xfrm>
            <a:off x="179280" y="202500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)возможность  использования нескольких видов наглядности при презентации способствует более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продуктивному  усвоению материала;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WordArt 5"/>
          <p:cNvSpPr txBox="1"/>
          <p:nvPr/>
        </p:nvSpPr>
        <p:spPr>
          <a:xfrm>
            <a:off x="2268360" y="620640"/>
            <a:ext cx="475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ипотеза проект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6" name="Picture 8" descr="j0195384"/>
          <p:cNvPicPr/>
          <p:nvPr/>
        </p:nvPicPr>
        <p:blipFill>
          <a:blip r:embed="rId3"/>
          <a:stretch/>
        </p:blipFill>
        <p:spPr>
          <a:xfrm>
            <a:off x="2843280" y="3573360"/>
            <a:ext cx="35290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36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Изображение 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4"/>
          <p:cNvSpPr txBox="1"/>
          <p:nvPr/>
        </p:nvSpPr>
        <p:spPr>
          <a:xfrm>
            <a:off x="1332000" y="620640"/>
            <a:ext cx="611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чевая разминка</a:t>
            </a:r>
            <a:endParaRPr b="0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9" name="WordArt 5"/>
          <p:cNvSpPr txBox="1"/>
          <p:nvPr/>
        </p:nvSpPr>
        <p:spPr>
          <a:xfrm>
            <a:off x="1763640" y="2060640"/>
            <a:ext cx="18003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aeae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aeae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aeae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u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aeae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aeae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aeae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aeae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rop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aeae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aeae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t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aeae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aeae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l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aeae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aeae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ave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aeae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WordArt 6"/>
          <p:cNvSpPr txBox="1"/>
          <p:nvPr/>
        </p:nvSpPr>
        <p:spPr>
          <a:xfrm>
            <a:off x="3995640" y="2133720"/>
            <a:ext cx="187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aeae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 ty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aeae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WordArt 7"/>
          <p:cNvSpPr txBox="1"/>
          <p:nvPr/>
        </p:nvSpPr>
        <p:spPr>
          <a:xfrm>
            <a:off x="3995640" y="2637000"/>
            <a:ext cx="237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aeae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 cutt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aeae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WordArt 8"/>
          <p:cNvSpPr txBox="1"/>
          <p:nvPr/>
        </p:nvSpPr>
        <p:spPr>
          <a:xfrm>
            <a:off x="3995640" y="3141720"/>
            <a:ext cx="2305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aeae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 act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aeae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9"/>
          <p:cNvSpPr txBox="1"/>
          <p:nvPr/>
        </p:nvSpPr>
        <p:spPr>
          <a:xfrm>
            <a:off x="3995640" y="3645000"/>
            <a:ext cx="2737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aeae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 dropp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aeae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WordArt 10"/>
          <p:cNvSpPr txBox="1"/>
          <p:nvPr/>
        </p:nvSpPr>
        <p:spPr>
          <a:xfrm>
            <a:off x="3995640" y="4149720"/>
            <a:ext cx="187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aeae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bit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aeae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11"/>
          <p:cNvSpPr txBox="1"/>
          <p:nvPr/>
        </p:nvSpPr>
        <p:spPr>
          <a:xfrm>
            <a:off x="3995640" y="4653000"/>
            <a:ext cx="2160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aeae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 play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aeae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12"/>
          <p:cNvSpPr txBox="1"/>
          <p:nvPr/>
        </p:nvSpPr>
        <p:spPr>
          <a:xfrm>
            <a:off x="3995640" y="5157720"/>
            <a:ext cx="23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aeae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 travelli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aeae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324000" y="404640"/>
            <a:ext cx="8351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2)  применение цвета, графики, звука, современных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компьютерных средств позволяет моделировать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различные ситуации и среды, развивая при этом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творческие и познавательные способности учащихся;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4437000"/>
          </a:xfrm>
          <a:prstGeom prst="rect">
            <a:avLst/>
          </a:prstGeom>
          <a:ln w="0">
            <a:noFill/>
          </a:ln>
        </p:spPr>
      </p:pic>
      <p:sp>
        <p:nvSpPr>
          <p:cNvPr id="239" name="WordArt 7"/>
          <p:cNvSpPr txBox="1"/>
          <p:nvPr/>
        </p:nvSpPr>
        <p:spPr>
          <a:xfrm>
            <a:off x="1619280" y="3068640"/>
            <a:ext cx="597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et's have a rest.</a:t>
            </a:r>
            <a:endParaRPr b="0" lang="en-US" sz="1800" spc="1" strike="noStrike">
              <a:ln w="0">
                <a:noFill/>
              </a:ln>
              <a:solidFill>
                <a:srgbClr val="9933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8101080" y="270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1500243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250920" y="69228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3) повышается учебная мотивация, усиливаются познавательные интересы учащихся. 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42" name="Object 6"/>
          <p:cNvGraphicFramePr/>
          <p:nvPr/>
        </p:nvGraphicFramePr>
        <p:xfrm>
          <a:off x="250920" y="2205000"/>
          <a:ext cx="4176720" cy="33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05000"/>
                    <a:ext cx="417672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8"/>
          <p:cNvGraphicFramePr/>
          <p:nvPr/>
        </p:nvGraphicFramePr>
        <p:xfrm>
          <a:off x="4643280" y="2205000"/>
          <a:ext cx="4111920" cy="3384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2205000"/>
                    <a:ext cx="411192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2"/>
          <p:cNvSpPr/>
          <p:nvPr/>
        </p:nvSpPr>
        <p:spPr>
          <a:xfrm>
            <a:off x="857160" y="1773360"/>
            <a:ext cx="735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повышение познавательного интереса , качества знаний учащихся, овладение учащимися ИКТ, повышение профессионального уровня учителя. 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WordArt 5"/>
          <p:cNvSpPr txBox="1"/>
          <p:nvPr/>
        </p:nvSpPr>
        <p:spPr>
          <a:xfrm>
            <a:off x="1547640" y="692280"/>
            <a:ext cx="6048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ктическая ценност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8" name="Picture 10" descr="SDC10257"/>
          <p:cNvPicPr/>
          <p:nvPr/>
        </p:nvPicPr>
        <p:blipFill>
          <a:blip r:embed="rId3"/>
          <a:stretch/>
        </p:blipFill>
        <p:spPr>
          <a:xfrm>
            <a:off x="4716360" y="3716280"/>
            <a:ext cx="4248360" cy="3141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SDC10245"/>
          <p:cNvPicPr/>
          <p:nvPr/>
        </p:nvPicPr>
        <p:blipFill>
          <a:blip r:embed="rId4"/>
          <a:stretch/>
        </p:blipFill>
        <p:spPr>
          <a:xfrm>
            <a:off x="179280" y="3716280"/>
            <a:ext cx="4284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3:51:46Z</dcterms:created>
  <dc:creator>User</dc:creator>
  <dc:description/>
  <dc:language>en-US</dc:language>
  <cp:lastModifiedBy>Home</cp:lastModifiedBy>
  <dcterms:modified xsi:type="dcterms:W3CDTF">2012-02-12T13:34:50Z</dcterms:modified>
  <cp:revision>13</cp:revision>
  <dc:subject/>
  <dc:title>Слайд 1</dc:title>
</cp:coreProperties>
</file>