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721-AB19-466C-AA02-9233A97E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AA95-4F7B-4FEA-9449-1C6910AE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441-8645-4BAF-A82E-3A9AA476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6B4D-6CC2-4CB3-91D2-FD959F0D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D868-4AC9-4AD3-893C-C165315E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10FE-F9FF-4345-9A19-19A081AE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9C6-3A9E-4EBF-91FF-071B3218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345-5CC9-4789-9B20-ED0ACACA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C402-284B-4299-BF92-B4FDA895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9DB-4CB1-49AF-A560-F3887A29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8093-F3D5-4696-8C43-7660B945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D10F-C844-4DF6-AA21-2BDF7DD6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01D0-E4C1-42F5-82B0-4548FEEE6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ТИЦЫ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ЛОГОПЕДА ГДОУ «Кудесниц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довенко М.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СОРОКА СТОИ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759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ЧТО ЕДЯТ ПТИЦ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168720" cy="2293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92720" y="1484280"/>
            <a:ext cx="3240000" cy="2259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148360" y="4005360"/>
            <a:ext cx="3384360" cy="2590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68360" y="4005360"/>
            <a:ext cx="3240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ГДЕ ЖИВУТ ПТИЦ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240000" cy="252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5640" y="4149720"/>
            <a:ext cx="3311640" cy="2376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3289320" cy="2362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292720" y="1413000"/>
            <a:ext cx="3168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ЦЕЛИ: ЗАКРЕПЛЕНИЕ ЗНАНИЙ ДЕТЕЙ О ДИКИХ ПТИЦ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овите п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кажите что делают птицы на картинках; как передвигаются, чем питаются, как размнож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ишите птиц, назовите части тела, чем покрыто тело, какого цвета опе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5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ГОЛУБЬ ИД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4072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ГУСИ ЛЕТЯ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65530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ЛЕБЕДЬ ПЛЫ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61912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218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ДЯТЕЛ ДОЛБИТ КОРУ, ИЩЕТ ЖУЧ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00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СНЕГИРЬ КЛЮЕТ СЕМЕ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60600" y="1600200"/>
            <a:ext cx="602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СИНИЦА НА ДЕРЕВ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89200" y="1600200"/>
            <a:ext cx="5564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ВОРОНА НАШЛА К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408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3:39:51Z</dcterms:created>
  <dc:creator>Марина</dc:creator>
  <dc:description/>
  <dc:language>en-US</dc:language>
  <cp:lastModifiedBy>Марина</cp:lastModifiedBy>
  <dcterms:modified xsi:type="dcterms:W3CDTF">2012-02-12T07:02:02Z</dcterms:modified>
  <cp:revision>11</cp:revision>
  <dc:subject/>
  <dc:title>ДИКИЕ ПТИЦЫ 2</dc:title>
</cp:coreProperties>
</file>