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6.jpeg" ContentType="image/jpeg"/>
  <Override PartName="/ppt/media/image37.jpeg" ContentType="image/jpeg"/>
  <Override PartName="/ppt/media/image50.png" ContentType="image/png"/>
  <Override PartName="/ppt/media/image30.jpeg" ContentType="image/jpeg"/>
  <Override PartName="/ppt/media/image43.png" ContentType="image/png"/>
  <Override PartName="/ppt/media/image5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9.jpeg" ContentType="image/jpeg"/>
  <Override PartName="/ppt/media/image51.jpeg" ContentType="image/jpeg"/>
  <Override PartName="/ppt/media/image28.jpeg" ContentType="image/jpeg"/>
  <Override PartName="/ppt/media/image6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52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ADF-59B4-4D2B-BB13-5B05E518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D1B-6FFB-4351-B821-CC894D49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F88-C6D8-46E9-B422-ED1313C3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0E7-C465-4B4B-8F00-59A1C538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25E3-ABF2-4C6C-835E-F63F3026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64B-3429-4CF6-B46C-B26AF72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80EE-0520-4AD5-BCD6-4E20E9D5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23F-D628-4C10-9EB7-5EF31CEB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47A-1F41-4C62-8DBA-CCDAC43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419-BB15-49B6-9C3F-8C50C705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1373-FC30-48C6-B0DF-783BFEB3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FB4-7DC5-4500-B83B-782FBF9F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D83-04D0-4FE3-B02D-1A9EBCCD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A205-4640-4F2C-B45C-3596BEE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DCA8-E035-415F-AD7E-F14F226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32ED-2372-4749-91B9-0D181429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CF21-A265-46FA-B97D-FE34860B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98C-7F44-4AB3-910B-D13ACA83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BDD-B49C-494A-8CB2-72DF3D98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656-5CAF-414B-8DEE-7A1FE92E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2AC-CD9D-4461-96DD-F23E7121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DAD-CC1B-4A08-BAA8-F6BDCFF7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879-DE08-40DB-8947-702E3D6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EC1-212A-42C0-B660-D4D17D0F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6086-22C7-4EE6-BEFA-61A81637E9B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A7A-46FE-4A13-B09D-7C7A8BE7672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2255760" cy="3528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3419640" y="1700280"/>
            <a:ext cx="403200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Александ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Серг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Пушкин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вели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рус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поэ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Мне видится моё селенье,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Моё Захарово.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На холмах домик мой; с балкона 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Могу сойти в весёлый сад…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Где старых клёнов тёмный ряд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Возносится до небосклона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И глухо топотом шумят.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	</a:t>
            </a: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	</a:t>
            </a: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	</a:t>
            </a:r>
            <a:r>
              <a:rPr b="0" i="1" lang="en-US" sz="3600" spc="-1" strike="noStrike">
                <a:solidFill>
                  <a:srgbClr val="660033"/>
                </a:solidFill>
                <a:latin typeface="French Script MT"/>
              </a:rPr>
              <a:t>А.С. Пушкин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122560" cy="280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332000" y="2349360"/>
            <a:ext cx="244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ell MT"/>
              </a:rPr>
              <a:t>Яковле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ell MT"/>
              </a:rPr>
              <a:t>Ари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ell MT"/>
              </a:rPr>
              <a:t>Родионов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95640" y="1484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19280" y="407664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Дом Арины Родионовны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в Михайловск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411280" y="4149720"/>
            <a:ext cx="2521080" cy="1536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1776240" cy="2303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1800000" cy="223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1280" y="35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Екатерининский дворец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Edwardian Script ITC"/>
              </a:rPr>
              <a:t>Царское Сел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4360" y="3500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Пушкинский лицей и Екатерининский дворец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5805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Лицей в 1824 год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4365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Пушкин на экзамене в Царском Селе </a:t>
            </a:r>
            <a:br>
              <a:rPr sz="2800"/>
            </a:b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8 января 1815 год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71640" y="1844640"/>
            <a:ext cx="3024360" cy="1924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08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Держави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40660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3860640"/>
            <a:ext cx="2376720" cy="1713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879640" cy="1792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356000" y="836640"/>
            <a:ext cx="2664000" cy="1782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4000" y="2781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ид Невы в 1841 году с парадной лестницы Академии художест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2781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Нева с просмотровой площадки Исаакиевского Собор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661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Медный всад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500720" y="3933720"/>
            <a:ext cx="2232000" cy="1787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56000" y="573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Шпиль Адмиралтей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46526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Портрет А.С. Пушкина 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художника Тропинин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843280" y="765000"/>
            <a:ext cx="2465280" cy="32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836640"/>
            <a:ext cx="1673280" cy="223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205000"/>
            <a:ext cx="2305080" cy="1722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508720" y="3141720"/>
            <a:ext cx="1807920" cy="223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79280" y="321300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Н.Н. Гончаро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на полях рукопис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400536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Рисун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к Евгению Онегин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5516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Фрагмент рукопис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16360" y="1268280"/>
            <a:ext cx="2087280" cy="3024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03280" y="458136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онторка, за которой работа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74772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Москва!.. Как много в этом звуке</a:t>
            </a:r>
            <a:br>
              <a:rPr sz="3600"/>
            </a:b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Для сердца русского слилось,</a:t>
            </a:r>
            <a:br>
              <a:rPr sz="3600"/>
            </a:b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Как много в нём отозвалось!</a:t>
            </a:r>
            <a:br>
              <a:rPr sz="3600"/>
            </a:b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	</a:t>
            </a: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	</a:t>
            </a: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	</a:t>
            </a: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	</a:t>
            </a:r>
            <a:r>
              <a:rPr b="1" i="1" lang="en-US" sz="3600" spc="-1" strike="noStrike">
                <a:solidFill>
                  <a:srgbClr val="660033"/>
                </a:solidFill>
                <a:latin typeface="French Script MT"/>
              </a:rPr>
              <a:t>А.С. Пушкин</a:t>
            </a:r>
            <a:r>
              <a:rPr b="0" i="1" lang="en-US" sz="3600" spc="-1" strike="noStrike">
                <a:solidFill>
                  <a:srgbClr val="660033"/>
                </a:solidFill>
                <a:latin typeface="Edwardian Script ITC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У лукоморья дуб зелёный;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Златая цепь на дубе том: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И днём, и ночью кот учёный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Всё ходит по цепи кругом;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Идёт направо – песнь заводит,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Налево – сказку говорит.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Там чудеса: там леший бродит,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Русалка на ветвях сидит;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Там на неведомых дорожках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Следы невиданных зверей;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Избушка там на курьих ножках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Стоит без окон, без дверей;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Там лес и дол видений полны;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Там о заре прихлынут волны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На брег песчаный и пустой,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И тридцать витязей прекрасных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Чредой из вод выходят ясных,</a:t>
            </a:r>
            <a:br>
              <a:rPr sz="1800"/>
            </a:br>
            <a:r>
              <a:rPr b="0" i="1" lang="en-US" sz="1800" spc="-1" strike="noStrike">
                <a:solidFill>
                  <a:srgbClr val="660033"/>
                </a:solidFill>
                <a:latin typeface="Edwardian Script ITC"/>
              </a:rPr>
              <a:t>И с ними дядька их морской.</a:t>
            </a:r>
            <a:br>
              <a:rPr sz="1800"/>
            </a:b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284720" y="3500280"/>
            <a:ext cx="2520720" cy="1892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1785960" cy="2232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258920" y="2852640"/>
            <a:ext cx="1612800" cy="2521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987640" y="2852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Царевна - Лебед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589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Сказка о рыбаке и рыбк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56610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Золотой петуш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843280" y="4005360"/>
            <a:ext cx="2448000" cy="1590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187280" y="5589720"/>
            <a:ext cx="6050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Могила А.С. Пушки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в Святогорском монастыр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2484720" cy="3313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84360" y="404640"/>
            <a:ext cx="2482560" cy="331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1533600" cy="21607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771640" y="907920"/>
            <a:ext cx="47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Школа № 353 имен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А.С. Пушкина на месте дом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в котором поэт родилс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924280"/>
            <a:ext cx="2376360" cy="1501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132000" y="3284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Музей А.С. Пушки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826920" y="4797360"/>
            <a:ext cx="1944720" cy="1322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132000" y="486900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вартира Пушки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на Арбате, 5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3095640" cy="2208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95640" y="350028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71640" y="328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Музей Пушкина в Михайловском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55640" y="119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924280"/>
            <a:ext cx="496728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Edwardian Script ITC"/>
              </a:rPr>
              <a:t>…</a:t>
            </a:r>
            <a:r>
              <a:rPr b="0" i="1" lang="en-US" sz="3200" spc="-1" strike="noStrike">
                <a:solidFill>
                  <a:srgbClr val="660033"/>
                </a:solidFill>
                <a:latin typeface="Edwardian Script ITC"/>
              </a:rPr>
              <a:t>Великим быть желаю,</a:t>
            </a:r>
            <a:br>
              <a:rPr sz="3200"/>
            </a:br>
            <a:r>
              <a:rPr b="0" i="1" lang="en-US" sz="3200" spc="-1" strike="noStrike">
                <a:solidFill>
                  <a:srgbClr val="660033"/>
                </a:solidFill>
                <a:latin typeface="Edwardian Script ITC"/>
              </a:rPr>
              <a:t>Люблю России честь…</a:t>
            </a:r>
            <a:br>
              <a:rPr sz="3200"/>
            </a:br>
            <a:r>
              <a:rPr b="0" i="1" lang="en-US" sz="3200" spc="-1" strike="noStrike">
                <a:solidFill>
                  <a:srgbClr val="660033"/>
                </a:solidFill>
                <a:latin typeface="Edwardian Script ITC"/>
              </a:rPr>
              <a:t>        </a:t>
            </a:r>
            <a:r>
              <a:rPr b="0" i="1" lang="en-US" sz="3200" spc="-1" strike="noStrike">
                <a:solidFill>
                  <a:srgbClr val="660033"/>
                </a:solidFill>
                <a:latin typeface="Edwardian Script ITC"/>
              </a:rPr>
              <a:t>	</a:t>
            </a:r>
            <a:r>
              <a:rPr b="0" i="1" lang="en-US" sz="3200" spc="-1" strike="noStrike">
                <a:solidFill>
                  <a:srgbClr val="660033"/>
                </a:solidFill>
                <a:latin typeface="Edwardian Script ITC"/>
              </a:rPr>
              <a:t>	</a:t>
            </a:r>
            <a:r>
              <a:rPr b="0" i="1" lang="en-US" sz="3200" spc="-1" strike="noStrike">
                <a:solidFill>
                  <a:srgbClr val="660033"/>
                </a:solidFill>
                <a:latin typeface="Edwardian Script ITC"/>
              </a:rPr>
              <a:t>   А.С. Пушкин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87280" y="3789360"/>
            <a:ext cx="4057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Дом на Немецкой улице, где родился Пушкин.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11280" y="2276640"/>
            <a:ext cx="2160360" cy="1527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664000" cy="180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3789360"/>
            <a:ext cx="2233440" cy="1511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356000" y="4221000"/>
            <a:ext cx="2446560" cy="1470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84720" y="119700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2492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ид с Кремлёвской стены 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половины 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ве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5445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Лубянская площад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3068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Московско-Петербуржский тракт с видом на Троицкий собор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573408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Москва в 1815 году на картине неизвестного художни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2808000" cy="1854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9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Старое здание университ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252072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211640" y="2708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Библиотека им. Пушкина в г. Перм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484360" y="3500280"/>
            <a:ext cx="2592360" cy="1908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40000" y="5445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Большой теат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2271960" cy="27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11280" y="476280"/>
            <a:ext cx="2125440" cy="2808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335772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Пушки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Сергей Львови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328464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Пушки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Надежда Осип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132000" y="3573360"/>
            <a:ext cx="1581120" cy="1873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124000" y="5661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Пушкин в детств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716360" y="1628640"/>
            <a:ext cx="1938600" cy="2376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2089080" cy="2376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Карамзин М.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Жуковский В. 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2127240" cy="25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1871640" cy="2376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87280" y="414972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Вольте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Молье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b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Захаро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520720" cy="1882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4360" y="32846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Музей Пушкина в Захаро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132000" y="3573360"/>
            <a:ext cx="1559160" cy="208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56000" y="57340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Памятник Пушкину в Захаро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2:57:41Z</dcterms:created>
  <dc:creator>User</dc:creator>
  <dc:description/>
  <dc:language>en-US</dc:language>
  <cp:lastModifiedBy>Светлана</cp:lastModifiedBy>
  <dcterms:modified xsi:type="dcterms:W3CDTF">2009-01-30T08:26:14Z</dcterms:modified>
  <cp:revision>13</cp:revision>
  <dc:subject/>
  <dc:title>Слайд 1</dc:title>
</cp:coreProperties>
</file>