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F29-4FBA-4A7B-B71E-D90C8234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176-2A34-4A19-B509-36E89106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917-21D9-4192-93F3-C68203D1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20C-7409-4963-BEF8-059E8B55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486C-11A6-4B68-9E15-DB3A422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4B6-D277-4FC0-9956-972A9AC6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775-574B-40BC-A68C-8FD0236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634B-4D26-4F25-97A2-DB9A3F2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557C-80F3-4716-A2B4-5851708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5BE-C0E9-4D48-A627-F40F138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48C-C412-492F-AE55-4983547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202-F183-4614-9414-7E8D036A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DAEB-90C1-4244-A69A-F1F3BA1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C8E1-DD16-4943-985A-F014D84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B10A-41EA-474D-A8F9-4F6E3654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C67-7020-486D-A9FE-21123901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26DA-208E-4F0E-A336-7F1CC3F6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B7B-5644-426E-968F-F805352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710-5F15-4BB0-B23B-CC912B7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A1D-CD28-4EFD-BC93-5197CAE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C1C-DE2B-43DB-B150-674E19A9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060-EB80-48E0-A229-5A933A8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DC8-411E-4CAE-B875-B1AC636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36E-65F8-478A-AB1F-85B7D22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6A5B-08D9-48E8-B8C7-759FF7721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E3B5-6F80-4154-8F48-C9F9CA8BB8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egoe Script"/>
              </a:rPr>
              <a:t>Здравствуйт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egoe Script"/>
              </a:rPr>
              <a:t>           </a:t>
            </a:r>
            <a:r>
              <a:rPr b="1" lang="en-US" sz="4400" spc="-1" strike="noStrike">
                <a:solidFill>
                  <a:srgbClr val="ffcc00"/>
                </a:solidFill>
                <a:latin typeface="Segoe Script"/>
              </a:rPr>
              <a:t>дорогие гост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Segoe Script"/>
              </a:rPr>
              <a:t>Здравствуйт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Segoe Script"/>
              </a:rPr>
              <a:t>          </a:t>
            </a:r>
            <a:r>
              <a:rPr b="1" lang="en-US" sz="4400" spc="-1" strike="noStrike">
                <a:solidFill>
                  <a:srgbClr val="d60093"/>
                </a:solidFill>
                <a:latin typeface="Segoe Script"/>
              </a:rPr>
              <a:t>мои умники и                 умницы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egoe Script"/>
              </a:rPr>
              <a:t>      </a:t>
            </a:r>
            <a:r>
              <a:rPr b="1" lang="en-US" sz="4400" spc="-1" strike="noStrike">
                <a:solidFill>
                  <a:srgbClr val="00ff00"/>
                </a:solidFill>
                <a:latin typeface="Segoe Script"/>
              </a:rPr>
              <a:t>Здравствуйте, вс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ловар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имние – кышк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равится (нравиться) – сеткилге тааржып турар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ткилге тааржы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роз – соо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Правильна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бел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4" descr="русс 022"/>
          <p:cNvPicPr/>
          <p:nvPr/>
        </p:nvPicPr>
        <p:blipFill>
          <a:blip r:embed="rId1"/>
          <a:stretch/>
        </p:blipFill>
        <p:spPr>
          <a:xfrm>
            <a:off x="2000160" y="1928880"/>
            <a:ext cx="5214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ова для правильного произнош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д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м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мние каникулы, нрав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ся (ца)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) мор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 гл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 ск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дн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к 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н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Бела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русс 019"/>
          <p:cNvPicPr/>
          <p:nvPr/>
        </p:nvPicPr>
        <p:blipFill>
          <a:blip r:embed="rId1"/>
          <a:stretch/>
        </p:blipFill>
        <p:spPr>
          <a:xfrm>
            <a:off x="2484360" y="1844640"/>
            <a:ext cx="446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у слова оконча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улев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задаем вопрос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у слова оконча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 а, - 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задаем вопрос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у слова оконча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 о, - 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задаем вопрос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танция: «Рыжая подвижная»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56920" y="2328840"/>
            <a:ext cx="46436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русс 021"/>
          <p:cNvPicPr/>
          <p:nvPr/>
        </p:nvPicPr>
        <p:blipFill>
          <a:blip r:embed="rId1"/>
          <a:stretch/>
        </p:blipFill>
        <p:spPr>
          <a:xfrm>
            <a:off x="2124000" y="1916280"/>
            <a:ext cx="5046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Колюча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ёж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русс 024"/>
          <p:cNvPicPr/>
          <p:nvPr/>
        </p:nvPicPr>
        <p:blipFill>
          <a:blip r:embed="rId1"/>
          <a:stretch/>
        </p:blipFill>
        <p:spPr>
          <a:xfrm>
            <a:off x="2050920" y="1989000"/>
            <a:ext cx="518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H:\русс 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320" y="1700280"/>
            <a:ext cx="2793960" cy="5157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8066160" y="1700280"/>
            <a:ext cx="1077840" cy="201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русс 016"/>
          <p:cNvPicPr/>
          <p:nvPr/>
        </p:nvPicPr>
        <p:blipFill>
          <a:blip r:embed="rId4"/>
          <a:stretch/>
        </p:blipFill>
        <p:spPr>
          <a:xfrm>
            <a:off x="2771640" y="3573360"/>
            <a:ext cx="19447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каз Деда Мороз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 дворе метёт метелиц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 стучится в каждый д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брота пускай поселитс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 сердце тёплым огоньком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47772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усс 016"/>
          <p:cNvPicPr/>
          <p:nvPr/>
        </p:nvPicPr>
        <p:blipFill>
          <a:blip r:embed="rId1"/>
          <a:stretch/>
        </p:blipFill>
        <p:spPr>
          <a:xfrm>
            <a:off x="1547640" y="112680"/>
            <a:ext cx="5977080" cy="663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728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58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До свидания, ребята!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Молодцы, что прошли все трудности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русс 027"/>
          <p:cNvPicPr/>
          <p:nvPr/>
        </p:nvPicPr>
        <p:blipFill>
          <a:blip r:embed="rId1"/>
          <a:stretch/>
        </p:blipFill>
        <p:spPr>
          <a:xfrm>
            <a:off x="250920" y="1700280"/>
            <a:ext cx="2790720" cy="4941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русс 015"/>
          <p:cNvPicPr/>
          <p:nvPr/>
        </p:nvPicPr>
        <p:blipFill>
          <a:blip r:embed="rId2"/>
          <a:stretch/>
        </p:blipFill>
        <p:spPr>
          <a:xfrm>
            <a:off x="2627280" y="1700280"/>
            <a:ext cx="3152880" cy="4913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русс 016"/>
          <p:cNvPicPr/>
          <p:nvPr/>
        </p:nvPicPr>
        <p:blipFill>
          <a:blip r:embed="rId3"/>
          <a:stretch/>
        </p:blipFill>
        <p:spPr>
          <a:xfrm>
            <a:off x="5724360" y="1700280"/>
            <a:ext cx="31845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гра: «Наоборот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бака                     д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учка                       сне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роз                      пен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лаз                         зу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а                      пол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рево                    л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 снегови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Font typeface="Segoe Scrip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egoe Script"/>
              </a:rPr>
              <a:t>Какие зимние месяцы вы знает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Синя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инич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русс 020"/>
          <p:cNvPicPr/>
          <p:nvPr/>
        </p:nvPicPr>
        <p:blipFill>
          <a:blip r:embed="rId1"/>
          <a:stretch/>
        </p:blipFill>
        <p:spPr>
          <a:xfrm>
            <a:off x="2286000" y="1857240"/>
            <a:ext cx="518472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999720"/>
            <a:ext cx="64008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Baskerville Old Face"/>
              </a:rPr>
              <a:t>Красиво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Segoe Script"/>
              </a:rPr>
              <a:t>     </a:t>
            </a:r>
            <a:r>
              <a:rPr b="0" lang="en-US" sz="7200" spc="-1" strike="noStrike">
                <a:solidFill>
                  <a:srgbClr val="000099"/>
                </a:solidFill>
                <a:latin typeface="Segoe Script"/>
              </a:rPr>
              <a:t>Сини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Baskerville Old Face"/>
              </a:rPr>
              <a:t>Жёлт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900000" y="1557360"/>
            <a:ext cx="103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Красный, белый, полосаты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Толстый, тонкий, косолапы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Учим признаки предме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Сели прямо, будь готов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Чиста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русс 023"/>
          <p:cNvPicPr/>
          <p:nvPr/>
        </p:nvPicPr>
        <p:blipFill>
          <a:blip r:embed="rId1"/>
          <a:stretch/>
        </p:blipFill>
        <p:spPr>
          <a:xfrm>
            <a:off x="2124000" y="1844640"/>
            <a:ext cx="5041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альчиковая гимнас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льчик – мальчик, где ты бы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этим братцем в лес ходи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этим братцем щи вари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этим братцем кашу е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этим братцем песни п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86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нция: «Мудрая»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H:\русс 029.jpg"/>
          <p:cNvPicPr/>
          <p:nvPr/>
        </p:nvPicPr>
        <p:blipFill>
          <a:blip r:embed="rId1"/>
          <a:stretch/>
        </p:blipFill>
        <p:spPr>
          <a:xfrm>
            <a:off x="4143240" y="357120"/>
            <a:ext cx="44294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22:33:37Z</dcterms:created>
  <dc:creator>User</dc:creator>
  <dc:description/>
  <dc:language>en-US</dc:language>
  <cp:lastModifiedBy>User</cp:lastModifiedBy>
  <dcterms:modified xsi:type="dcterms:W3CDTF">2011-12-20T21:07:54Z</dcterms:modified>
  <cp:revision>17</cp:revision>
  <dc:subject/>
  <dc:title>Слайд 1</dc:title>
</cp:coreProperties>
</file>