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D04-10C1-4A72-A465-11A8CCD4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E1F-80D4-4C51-9885-A75A54A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C28-5B18-4BE3-A56F-F082A484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921-722E-4B82-886D-3482C695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DF0-1466-49F1-A544-4B28B6FE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C4F5-828C-472A-9E0B-AFFF565D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A18-8EA4-482C-B467-35045DB4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330-C3DC-4013-A930-917A4B61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B756-701B-4D79-958A-59BBCEA9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BAC4-6A2B-4B33-A3BD-D94A954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2C60-5683-4A31-9CF8-D3DF752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53B-68A2-4305-B94B-FFAF14D7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965C-E2B9-44BB-B24F-CED9DB4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8E6D-322D-41FD-B58E-886981DA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12E9-84CB-4727-9B91-C23EE60F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B80F-3D48-44CD-8D12-6CBF5DE4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892-215B-4F34-A678-4CAF9AE6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E74-E010-4B9F-A625-860120B2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747-7C1E-45A3-ACF4-385E378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4A6-5D73-4E60-8B40-CDE925E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3EC-C2D6-44B3-8DF4-008F9A98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7AA-7CD0-460F-935A-4964E4E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6DB-9BFD-4845-92D4-8AA6489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31C-509F-4632-BF83-7D5FE2D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4D6A-179A-4007-864A-CF2206DD8C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5C71-065E-4367-8A0A-9058B686AE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езентация к уроку  учителя физики Староатлашской СОШ Курмакаевой Р.А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оги урока.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.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.105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1280" y="549360"/>
            <a:ext cx="79930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единение провод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2360" y="2997360"/>
            <a:ext cx="86392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Презентация урока по физике 10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5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a500"/>
                </a:solidFill>
                <a:latin typeface="Tahoma"/>
              </a:rPr>
              <a:t>Познакомить учащихся с различными способами соединения проводников и закономерностями, существующими в цепи с последовательным и параллельным соединением прово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a500"/>
                </a:solidFill>
                <a:latin typeface="Tahoma"/>
              </a:rPr>
              <a:t>Формировать умения применять эти закономерности при решении задач</a:t>
            </a: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верка знаний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U,R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значение каких физических величин? Единицы измерения этих величи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он Ома для участка цеп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каких параметров зависит сопротивление проводни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силу тока,проходящего по стальному проводу длиной 100м и сечением 0,5 мм ,при напряжении 68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зучение новой темы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6913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довательное соединение провод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4968720" cy="259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84720" y="5734080"/>
            <a:ext cx="10065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2" name="whoosh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кономерности соедин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=cost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,т.е.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=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=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U=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=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араллельное соедин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08000" y="2293920"/>
            <a:ext cx="5400720" cy="3656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4360" y="6165720"/>
            <a:ext cx="98892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ipe dir="d"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кономерности соедин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=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=U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=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/2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ил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= 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*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/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+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Лабораторная работа по теме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проверить законы последовательного и параллельного соеди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удование: источник питания, два проволочных резистора,вольтметр,амперметр,реост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ipe dir="d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8:10:18Z</dcterms:created>
  <dc:creator>Administrator</dc:creator>
  <dc:description/>
  <dc:language>en-US</dc:language>
  <cp:lastModifiedBy>Administrator</cp:lastModifiedBy>
  <dcterms:modified xsi:type="dcterms:W3CDTF">2009-10-07T09:04:00Z</dcterms:modified>
  <cp:revision>5</cp:revision>
  <dc:subject/>
  <dc:title>  .</dc:title>
</cp:coreProperties>
</file>