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D6CB-EDA1-458F-97D0-B048F9D8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D388-A99B-4BD7-BF77-048B5239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F531-95F2-4DC1-971E-CC88C017F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1B4A-C509-4AEC-8565-36A47E67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8F6F-E7E1-434A-941A-35CD4C1C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8A7A-C583-430D-9101-C6096676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6937-38EA-44D0-B3F0-9E07EFEA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42FE-1968-4B00-88B9-FCCC64E8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7593-B936-48C3-8FD3-28D3BB2F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1B3B-C3BA-4722-B2B4-199BE867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9954-CC77-47E5-9BB1-C9DDC45D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ECEC-4EE4-44DA-BCC0-1A0BEF9B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48B8-1F13-4B81-BAAB-25CE2689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360D-1C38-41B2-918F-AEBB681B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CE62-038F-462D-A583-097EDA54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0DBC-159B-49C0-AF1B-1124493CE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6322-D665-4F4A-B111-EF92728C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43F9-C301-4E44-ADC9-C240A1A4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77A5-7F62-4E6D-B519-5B894CB5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A902-0CC2-4B2D-B6DB-29D43AD5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DEE1-5371-4A58-9496-45428C27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E897-F2B6-4AF5-BEA3-9463C122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5203-9046-4645-A7EF-B198C48B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4FCA-4053-42E5-8324-DAAAEF64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09AD-C4DC-4477-B0EF-FEA003CBC00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0AE4-0FB6-4D57-886F-200D2879BFD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042920" y="115920"/>
            <a:ext cx="6769080" cy="597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Исем һәм сыйфа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темасын кабатлау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4317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Исе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703dff"/>
                </a:solidFill>
                <a:latin typeface="Times New Roman"/>
              </a:rPr>
              <a:t>Кыш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703dff"/>
                </a:solidFill>
                <a:latin typeface="Times New Roman"/>
              </a:rPr>
              <a:t>җил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703dff"/>
                </a:solidFill>
                <a:latin typeface="Times New Roman"/>
              </a:rPr>
              <a:t>ка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703dff"/>
                </a:solidFill>
                <a:latin typeface="Times New Roman"/>
              </a:rPr>
              <a:t>таулар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703dff"/>
                </a:solidFill>
                <a:latin typeface="Times New Roman"/>
              </a:rPr>
              <a:t>урманнар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703dff"/>
                </a:solidFill>
                <a:latin typeface="Times New Roman"/>
              </a:rPr>
              <a:t>агачлар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703dff"/>
                </a:solidFill>
                <a:latin typeface="Times New Roman"/>
              </a:rPr>
              <a:t>шә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40360" y="1341360"/>
            <a:ext cx="42415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 u="sng">
                <a:solidFill>
                  <a:srgbClr val="ff0000"/>
                </a:solidFill>
                <a:uFillTx/>
                <a:latin typeface="Comic Sans MS"/>
              </a:rPr>
              <a:t>Сыйфат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703dff"/>
                </a:solidFill>
                <a:latin typeface="Times New Roman"/>
              </a:rPr>
              <a:t>Салкы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703dff"/>
                </a:solidFill>
                <a:latin typeface="Times New Roman"/>
              </a:rPr>
              <a:t>ач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703dff"/>
                </a:solidFill>
                <a:latin typeface="Times New Roman"/>
              </a:rPr>
              <a:t>йомшак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703dff"/>
                </a:solidFill>
                <a:latin typeface="Times New Roman"/>
              </a:rPr>
              <a:t>бие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703dff"/>
                </a:solidFill>
                <a:latin typeface="Times New Roman"/>
              </a:rPr>
              <a:t>ку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703dff"/>
                </a:solidFill>
                <a:latin typeface="Times New Roman"/>
              </a:rPr>
              <a:t>ак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3819600" cy="3889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211640" y="1628640"/>
            <a:ext cx="4176720" cy="2748240"/>
          </a:xfrm>
          <a:prstGeom prst="rect">
            <a:avLst/>
          </a:prstGeom>
          <a:ln w="1908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7218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995640" y="2781360"/>
            <a:ext cx="22338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ec9"/>
            </a:gs>
            <a:gs pos="50000">
              <a:srgbClr val="00b200"/>
            </a:gs>
            <a:gs pos="100000">
              <a:srgbClr val="c9eec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3771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703dff"/>
                </a:solidFill>
                <a:latin typeface="Times New Roman"/>
              </a:rPr>
              <a:t>Исе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Times New Roman"/>
              </a:rPr>
              <a:t>Исем нәрсәне белдерә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а) предметның билгесе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tt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едметн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Times New Roman"/>
              </a:rPr>
              <a:t>2.Исем нинди сорауларга җавап бирә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а) нинди? кайсы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tt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ем? нәрсә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Times New Roman"/>
              </a:rPr>
              <a:t>3.Очучы сүзенә сорау куй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tt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ем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б) нәрсә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27280" y="549000"/>
            <a:ext cx="3771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703dff"/>
                </a:solidFill>
                <a:latin typeface="Times New Roman"/>
              </a:rPr>
              <a:t>Сыйфа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tt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t-RU" sz="2000" spc="-1" strike="noStrike">
                <a:solidFill>
                  <a:srgbClr val="000000"/>
                </a:solidFill>
                <a:latin typeface="Times New Roman"/>
              </a:rPr>
              <a:t>Сыйфат нәрсәне белдерә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tt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едметның билгесе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б) предметн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Times New Roman"/>
              </a:rPr>
              <a:t>2.Сыйфат нинди сорауларга җавап бирә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tt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инди? кайсы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б) кем? нәрсә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Times New Roman"/>
              </a:rPr>
              <a:t>3. Йомшак сүзенә сорау куй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tt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инди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б) нәрсә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165276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ff"/>
                </a:solidFill>
                <a:latin typeface="Comic Sans MS"/>
              </a:rPr>
              <a:t>Булдырдыгыз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8800" spc="-1" strike="noStrike">
                <a:solidFill>
                  <a:srgbClr val="0000ff"/>
                </a:solidFill>
                <a:latin typeface="Arial Unicode MS"/>
              </a:rPr>
              <a:t>Рәхмәт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6:25:33Z</dcterms:created>
  <dc:creator>Рамиля</dc:creator>
  <dc:description/>
  <dc:language>en-US</dc:language>
  <cp:lastModifiedBy>Рашида </cp:lastModifiedBy>
  <dcterms:modified xsi:type="dcterms:W3CDTF">2008-11-25T10:19:37Z</dcterms:modified>
  <cp:revision>6</cp:revision>
  <dc:subject/>
  <dc:title>Слайд 1</dc:title>
</cp:coreProperties>
</file>