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161-7DB5-4A3C-A14D-BAFCC3E4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324-C998-4962-BB05-2CECC4E3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16B-34AC-49A7-8A38-FE999DB3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FEC-CE1B-4E1A-BA38-F73D0471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D2C-996D-4A3D-803F-BAAD971A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CC0-7095-4FD2-92B1-FD695544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3B6-2E84-4FEC-A7F0-FF1A30FE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80D-BFA6-4690-AE85-55474085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B25-879D-4092-AFA0-209391B2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760-A20D-4151-A132-F6874EA2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996-E38F-4DBD-A5F2-6D200165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784-A249-4873-9F84-4A0CD5F7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9F5C-C284-4C2D-97B3-296D3BDE1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t.gdefon.ru/wallpapers_original/wallpapers/219471_tekstura_fon_bumaga_2560x1600_(www.GdeFon.ru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311120" y="85680"/>
            <a:ext cx="5894640" cy="1938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upload.wikimedia.org/wikipedia/commons/thumb/b/bb/Fyodor_Tyutchev.jpg/250px-Fyodor_Tyutchev.jpg"/>
          <p:cNvPicPr/>
          <p:nvPr/>
        </p:nvPicPr>
        <p:blipFill>
          <a:blip r:embed="rId3"/>
          <a:stretch/>
        </p:blipFill>
        <p:spPr>
          <a:xfrm>
            <a:off x="3132000" y="2133720"/>
            <a:ext cx="2381400" cy="290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st.gdefon.ru/wallpapers_original/wallpapers/219471_tekstura_fon_bumaga_2560x1600_(www.GdeFon.ru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468360" y="47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дин из величайших лирических поэтов России родился 23 ноября 1803 года в селе Овстуг Брянского уезда Орловской губер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68360" y="191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Тютчев получил домашнее образование под руководством Семёна Егоровича Раича, ставшего также впоследствии учителем Михаила Юрьевича Лермонт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468360" y="3357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Ещё до зачисления в число студентов в ноябре 1818 года, в 1819 году был избран членом Общества любителей российской словес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468360" y="472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олучив аттестат об окончании университета в 1821 году, Тютчев поступает на службу в Государственную коллегию иностранных дел и отправляется в Мюнхе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bryanskguide.ru/photo/2010/05/ovstug_006_20100423_1453_arbaev.jpg"/>
          <p:cNvPicPr/>
          <p:nvPr/>
        </p:nvPicPr>
        <p:blipFill>
          <a:blip r:embed="rId2"/>
          <a:stretch/>
        </p:blipFill>
        <p:spPr>
          <a:xfrm>
            <a:off x="5003640" y="907920"/>
            <a:ext cx="4140360" cy="290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st.gdefon.ru/wallpapers_original/wallpapers/219471_tekstura_fon_bumaga_2560x1600_(www.GdeFon.ru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395280" y="549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десь он знакомится с Шеллингом и Гейне и женится на Элеоноре Петерсон, урождённой графине Ботме, от которой имеет трех дочерей. Старшая из них, Анна, позже выходит замуж за Ивана Аксак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468360" y="21337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ароход «Николай I», на котором семья Тютчева плывёт из Петербурга в Турин, терпит бедствие в Балтийском море. При спасении Элеоноре и детям помогает плывший на том же пароходе Иван Тургенев. Эта катастрофа серьёзно подкосила здоровье Элеоноры Тютчевой. В 1838 она умирает. Тютчев настолько опечален, что, проведя ночь у гроба покойной супруги, как утверждается, поседел за несколько часов. Однако уже в 1839 Тютчев сочетается браком с Эрнестиной Дёрнберг (урождённой Пфефф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img0.liveinternet.ru/images/attach/c/1/62/430/62430621_1281177831_31724316_YErnestina_Dernberg.jpg"/>
          <p:cNvPicPr/>
          <p:nvPr/>
        </p:nvPicPr>
        <p:blipFill>
          <a:blip r:embed="rId2"/>
          <a:stretch/>
        </p:blipFill>
        <p:spPr>
          <a:xfrm>
            <a:off x="5651640" y="981000"/>
            <a:ext cx="3168360" cy="384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st.gdefon.ru/wallpapers_original/wallpapers/219471_tekstura_fon_bumaga_2560x1600_(www.GdeFon.ru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468360" y="26028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839 году дипломатическая деятельность Тютчева внезапно прервалась, но до 1844 года он продолжал жить за границей. В 1843 г. он встретился с всесильным начальником III отделения Собственной Его Императорского Величества канцелярии А. Х. Бенкендорфом. Итогом этой встречи стала поддержка императором Николаем I всех инициатив Тютчева в работе по созданию позитивного облика России на Западе. Тютчеву дали добро на самостоятельное выступление в печати по политическим проблемам взаимоотношений между Европой и Росси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95280" y="4437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ернувшись в Россию в 1844 году, Тютчев вновь поступает в министерство иностранных дел (1845), где с 1848 года занимал должность старшего цензора. Будучи им, он не разрешил распространять в России манифест коммунистической партии на русском языке, заявляя что «кому надо, прочтут и на немецком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http://upload.wikimedia.org/wikipedia/commons/thumb/7/75/Alexander_von_Benckendorff.jpg/250px-Alexander_von_Benckendorff.jpg"/>
          <p:cNvPicPr/>
          <p:nvPr/>
        </p:nvPicPr>
        <p:blipFill>
          <a:blip r:embed="rId2"/>
          <a:stretch/>
        </p:blipFill>
        <p:spPr>
          <a:xfrm>
            <a:off x="5867280" y="907920"/>
            <a:ext cx="2833920" cy="324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st.gdefon.ru/wallpapers_original/wallpapers/219471_tekstura_fon_bumaga_2560x1600_(www.GdeFon.ru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08000" y="2602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актически сразу же по возвращении Ф. И. Тютчев активно участвует в кружке Белинск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всем не печатая в эти годы стихотворений, Тютчев выступает с публицистическими статьями на французском языке: «Письмо к господину  доктору Кольбу» (1844), «Записка царю» (1845), «Россия и революция» (1849), «Папство и римский вопрос»(1850), а также позднее, уже в России написанная статья «О цензуре в России» (1857). Две последние являются одними из глав задуманного им под впечатлением революционных событий 1848-49 гг., но не завершенного трактата «Россия и Запад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dic.academic.ru/pictures/bse/jpg/0241925568.jpg"/>
          <p:cNvPicPr/>
          <p:nvPr/>
        </p:nvPicPr>
        <p:blipFill>
          <a:blip r:embed="rId2"/>
          <a:stretch/>
        </p:blipFill>
        <p:spPr>
          <a:xfrm>
            <a:off x="4692600" y="1268280"/>
            <a:ext cx="4451400" cy="33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st.gdefon.ru/wallpapers_original/wallpapers/219471_tekstura_fon_bumaga_2560x1600_(www.GdeFon.ru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611280" y="33336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 апреля 1858 г. действительный статский советник Тютчев был назначен Председателем комитета иностранной цензуры. На этом посту, несмотря на многочисленные неприятности и столкновения с правительством, Тютчев пробыл 15 лет, вплоть до своей кончины. 30 августа 1865 г. Тютчев был произведен в тайные советники, тем самым достигнув третьей, а фактически и даже второй степени в государственной иерарх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biographera.net/biographies/Fedor_Tutchev/tutchev_2.jpg"/>
          <p:cNvPicPr/>
          <p:nvPr/>
        </p:nvPicPr>
        <p:blipFill>
          <a:blip r:embed="rId2"/>
          <a:stretch/>
        </p:blipFill>
        <p:spPr>
          <a:xfrm>
            <a:off x="6300720" y="476280"/>
            <a:ext cx="2381400" cy="368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st.gdefon.ru/wallpapers_original/wallpapers/219471_tekstura_fon_bumaga_2560x1600_(www.GdeFon.ru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611280" y="40464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До самого конца Тютчев интересуется политической ситуацией в Европе. 4 декабря 1872 года поэт утратил свободу движения левой рукой и ощутил резкое ухудшение зрения; его начали одолевать мучительные головные боли. Утром 1 января 1873 года, невзирая на предостережение окружающих, поэт пошёл на прогулку, намереваясь посетить знакомых. На улице с ним случился удар, парализовавший всю левую половину тела. 15 июля 1873 в Царском Селе Тютчев скончался. 18 июля гроб с телом поэта был перевезен из Царского села в Петербург и похоронен на кладбище Новодевичьего монастыр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img0.liveinternet.ru/images/attach/c/4/80/752/80752518_large_4404913_0_67d67_309cac94_XL.jpg"/>
          <p:cNvPicPr/>
          <p:nvPr/>
        </p:nvPicPr>
        <p:blipFill>
          <a:blip r:embed="rId2"/>
          <a:stretch/>
        </p:blipFill>
        <p:spPr>
          <a:xfrm>
            <a:off x="5111640" y="105264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st.gdefon.ru/wallpapers_original/wallpapers/219471_tekstura_fon_bumaga_2560x1600_(www.GdeFon.ru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468360" y="189000"/>
            <a:ext cx="525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ворчество Тютчева, составляющее немногим более 400 стихотворений при всем его внутреннем единстве можно разделить на три перио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-й период — начальный, 1810-е — начало 1820-х годов, когда Тютчев создает свои юношеские стихи, архаичные по стилю и близкие к поэзии XVIII 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-й период — вторая половина 1820-х — 1840-е годы, начиная со стихотворения «Проблеск», в творчестве Тютчева заметны уже черты его оригинальной поэтики. Это сплав русской одической поэзии XVIII века и традиции европейского романтиз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-й период — 1850-е — начало 1870-х годов. Этот период отделен от предыдущего десятилетием 1840-х годов, когда Тютчев почти не пишет стихов. В этот период создаются многочисленные политические стихотворения, стихотворения «на случай» и пронзительный «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нисьевский цикл». Журнал «Современник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hramislovo.ru/cnt/pic/%D0%B1%D0%B8%D0%B1%D0%B8%D1%8F3.jpg"/>
          <p:cNvPicPr/>
          <p:nvPr/>
        </p:nvPicPr>
        <p:blipFill>
          <a:blip r:embed="rId2"/>
          <a:stretch/>
        </p:blipFill>
        <p:spPr>
          <a:xfrm>
            <a:off x="5940360" y="54936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st.gdefon.ru/wallpapers_original/wallpapers/219471_tekstura_fon_bumaga_2560x1600_(www.GdeFon.ru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dreamstime.com/opened-book-with-rays-of-light-thumb9510030.jpg"/>
          <p:cNvPicPr/>
          <p:nvPr/>
        </p:nvPicPr>
        <p:blipFill>
          <a:blip r:embed="rId2"/>
          <a:stretch/>
        </p:blipFill>
        <p:spPr>
          <a:xfrm>
            <a:off x="2843280" y="3789360"/>
            <a:ext cx="3809880" cy="2752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1835280" y="62064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6a6a6"/>
                </a:solidFill>
                <a:latin typeface="Calibri"/>
              </a:rPr>
              <a:t>Презентацию </a:t>
            </a:r>
            <a:r>
              <a:rPr b="0" lang="ru-RU" sz="1800" spc="-1" strike="noStrike">
                <a:solidFill>
                  <a:srgbClr val="a6a6a6"/>
                </a:solidFill>
                <a:latin typeface="Arial"/>
              </a:rPr>
              <a:t>под</a:t>
            </a:r>
            <a:r>
              <a:rPr b="0" lang="ru-RU" sz="1800" spc="-1" strike="noStrike">
                <a:solidFill>
                  <a:srgbClr val="a6a6a6"/>
                </a:solidFill>
                <a:latin typeface="Calibri"/>
              </a:rPr>
              <a:t>готовил</a:t>
            </a:r>
            <a:r>
              <a:rPr b="0" lang="ru-RU" sz="1800" spc="-1" strike="noStrike">
                <a:solidFill>
                  <a:srgbClr val="a6a6a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6a6a6"/>
                </a:solidFill>
                <a:latin typeface="Calibri"/>
              </a:rPr>
              <a:t>Остромогильский  Аркадий</a:t>
            </a:r>
            <a:r>
              <a:rPr b="0" lang="ru-RU" sz="1800" spc="-1" strike="noStrike">
                <a:solidFill>
                  <a:srgbClr val="a6a6a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a6a6a6"/>
                </a:solidFill>
                <a:latin typeface="Arial"/>
              </a:rPr>
              <a:t>ученик </a:t>
            </a:r>
            <a:r>
              <a:rPr b="0" lang="ru-RU" sz="1800" spc="-1" strike="noStrike">
                <a:solidFill>
                  <a:srgbClr val="a6a6a6"/>
                </a:solidFill>
                <a:latin typeface="Calibri"/>
              </a:rPr>
              <a:t>8В класс</a:t>
            </a:r>
            <a:r>
              <a:rPr b="0" lang="ru-RU" sz="1800" spc="-1" strike="noStrike">
                <a:solidFill>
                  <a:srgbClr val="a6a6a6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a6a6a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6a6a6"/>
                </a:solidFill>
                <a:latin typeface="Arial"/>
              </a:rPr>
              <a:t>МАОУ «</a:t>
            </a:r>
            <a:r>
              <a:rPr b="0" lang="ru-RU" sz="1800" spc="-1" strike="noStrike">
                <a:solidFill>
                  <a:srgbClr val="a6a6a6"/>
                </a:solidFill>
                <a:latin typeface="Calibri"/>
              </a:rPr>
              <a:t>Гимназия им. Н.В. Пушкова</a:t>
            </a:r>
            <a:r>
              <a:rPr b="0" lang="ru-RU" sz="1800" spc="-1" strike="noStrike">
                <a:solidFill>
                  <a:srgbClr val="a6a6a6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6a6a6"/>
                </a:solidFill>
                <a:latin typeface="Arial"/>
              </a:rPr>
              <a:t>Руководитель: Мазурова Елена Анатольевна, 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2:56:06Z</dcterms:created>
  <dc:creator>Dimka</dc:creator>
  <dc:description/>
  <dc:language>en-US</dc:language>
  <cp:lastModifiedBy>Anya</cp:lastModifiedBy>
  <dcterms:modified xsi:type="dcterms:W3CDTF">2012-02-12T14:30:39Z</dcterms:modified>
  <cp:revision>10</cp:revision>
  <dc:subject/>
  <dc:title>Слайд 1</dc:title>
</cp:coreProperties>
</file>