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6155-EA3D-4502-9A07-075CD0C5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D10-9864-43D2-9E27-7B4212F0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1773-F3F7-49BA-B3D4-5349EC1D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647-1F08-483C-9EF2-7458FA70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A9DB-2FA5-44D0-B1D8-4010D1BE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147-831C-4C7E-A669-69F1A2DB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345-DAD4-4712-8306-A7F0370E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21D-EC07-40B1-B7C2-6E1E7FB3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BFF2-F53E-4F37-B541-6D12A4A8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F38-3695-4150-B056-8D620633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38A7-41EE-4C77-B8F2-4A1478EF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F824-F6C1-4235-8765-86A124DB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363F-66A8-4742-98AE-880C543CC61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69660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10253f"/>
                </a:solidFill>
                <a:latin typeface="Cambria"/>
              </a:rPr>
              <a:t>Математическая игра</a:t>
            </a:r>
            <a:br>
              <a:rPr sz="5900"/>
            </a:br>
            <a:r>
              <a:rPr b="0" lang="ru-RU" sz="5900" spc="-1" strike="noStrike">
                <a:solidFill>
                  <a:srgbClr val="10253f"/>
                </a:solidFill>
                <a:latin typeface="Cambria"/>
              </a:rPr>
              <a:t>«МЫ ЖИВЕМ В НАУКОГРАДЕ»</a:t>
            </a:r>
            <a:endParaRPr b="0" lang="en-US" sz="5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436572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7b53d"/>
              </a:solidFill>
              <a:latin typeface="Calibri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14200" y="357120"/>
            <a:ext cx="7272360" cy="359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Содержимое 3" descr="http://www.garant-nedv.ru/images/zhukovsky_blazon.jpg"/>
          <p:cNvPicPr/>
          <p:nvPr/>
        </p:nvPicPr>
        <p:blipFill>
          <a:blip r:embed="rId1"/>
          <a:stretch/>
        </p:blipFill>
        <p:spPr>
          <a:xfrm>
            <a:off x="2928960" y="3786120"/>
            <a:ext cx="2357280" cy="307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Cambria"/>
              </a:rPr>
              <a:t>ПРОБЛЕМА !!!</a:t>
            </a:r>
            <a:endParaRPr b="0" lang="en-US" sz="6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Для активизации программы необходимо выполнить следующие действия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Найти значение дроби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1500120" y="1428840"/>
                <a:ext cx="3857760" cy="23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1571760" y="4000680"/>
                <a:ext cx="371448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Сравните с единицей число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1714680" y="1714680"/>
                <a:ext cx="278604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3"/>
              <p:cNvSpPr txBox="1"/>
              <p:nvPr/>
            </p:nvSpPr>
            <p:spPr>
              <a:xfrm>
                <a:off x="1714680" y="4000680"/>
                <a:ext cx="3357360" cy="17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Используя формулы квадрата суммы и квадрата разности, найдите значение выражения: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3"/>
              <p:cNvSpPr txBox="1"/>
              <p:nvPr/>
            </p:nvSpPr>
            <p:spPr>
              <a:xfrm>
                <a:off x="754200" y="1857240"/>
                <a:ext cx="35636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1047600" y="2857680"/>
                <a:ext cx="29052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1071720" y="4071960"/>
                <a:ext cx="2249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979560" y="5286240"/>
                <a:ext cx="1900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4357800" y="2500200"/>
            <a:ext cx="442908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Cambria"/>
              </a:rPr>
              <a:t>ПРОБЛЕМА !!!</a:t>
            </a:r>
            <a:endParaRPr b="0" lang="en-US" sz="6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Для активизации программы необходимо выполнить следующие действия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13920"/>
            <a:ext cx="8229600" cy="2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При каком х квадратный трехчлен принимает наименьшее значение. Найдите это значение.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Содержимое 3"/>
              <p:cNvSpPr txBox="1"/>
              <p:nvPr/>
            </p:nvSpPr>
            <p:spPr>
              <a:xfrm>
                <a:off x="2066760" y="3143160"/>
                <a:ext cx="550548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357200"/>
            <a:ext cx="8229600" cy="60480"/>
          </a:xfrm>
          <a:prstGeom prst="rect">
            <a:avLst/>
          </a:prstGeom>
          <a:noFill/>
          <a:ln w="0">
            <a:noFill/>
          </a:ln>
        </p:spPr>
        <p:txBody>
          <a:bodyPr tIns="14760" bIns="14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При каком х квадратный трехчлен принимает наибольшее значение. Найдите это значение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Содержимое 3"/>
              <p:cNvSpPr txBox="1"/>
              <p:nvPr/>
            </p:nvSpPr>
            <p:spPr>
              <a:xfrm>
                <a:off x="2281320" y="3214800"/>
                <a:ext cx="45813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Жуковский – интеллектуальный центр Подмосковья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440064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Школ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уз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071960" y="2428920"/>
            <a:ext cx="4762440" cy="4000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 данным опроса, проведенного в 7 «А» классе, выяснилось, что 20% учеников, интересующихся математикой, интересуются еще и физикой, а 25% учеников, интересующихся физикой, интересуются также и математикой. И только Пете с Васей не интересен ни один из этих предметов. Сколько человек в 7 «А», если известно, что их больше 20, но меньше 3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Завершение игры…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Вы успешно прошли испыт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МОЛОДЦЫ!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… </a:t>
            </a: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но имеются еще дополнительные задачи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ловия игр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ыполнять все требования программ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1857240" y="2643120"/>
            <a:ext cx="5453280" cy="332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реугольнике АВС на стороне АС отмечены точки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Е, так что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= DE=E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   Может ли оказаться, чт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BD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BE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B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4"/>
          <p:cNvSpPr/>
          <p:nvPr/>
        </p:nvSpPr>
        <p:spPr>
          <a:xfrm flipH="1">
            <a:off x="2428560" y="2643120"/>
            <a:ext cx="142920" cy="21456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6"/>
          <p:cNvSpPr/>
          <p:nvPr/>
        </p:nvSpPr>
        <p:spPr>
          <a:xfrm>
            <a:off x="2428920" y="2857680"/>
            <a:ext cx="214200" cy="144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7"/>
          <p:cNvSpPr/>
          <p:nvPr/>
        </p:nvSpPr>
        <p:spPr>
          <a:xfrm flipH="1">
            <a:off x="928440" y="2643120"/>
            <a:ext cx="142920" cy="21456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8"/>
          <p:cNvSpPr/>
          <p:nvPr/>
        </p:nvSpPr>
        <p:spPr>
          <a:xfrm>
            <a:off x="928800" y="2857680"/>
            <a:ext cx="214200" cy="144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9"/>
          <p:cNvSpPr/>
          <p:nvPr/>
        </p:nvSpPr>
        <p:spPr>
          <a:xfrm flipH="1">
            <a:off x="4000680" y="2643120"/>
            <a:ext cx="142560" cy="21456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0"/>
          <p:cNvSpPr/>
          <p:nvPr/>
        </p:nvSpPr>
        <p:spPr>
          <a:xfrm>
            <a:off x="4000680" y="2857680"/>
            <a:ext cx="214200" cy="144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ть роты осталась в лагере, а остальные бойцы уехали на стрельбы. Оставшиеся в лагере съели за обедом четверть приготовленной похлебки, а вернувшиеся вечером со стрельб получили порции в полтора раза большие, чем давали за обедом. Сколько осталось для ротной собаки Найд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Calibri"/>
              </a:rPr>
              <a:t>Спасибо за внимание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Расскажите как можно больше информации о числах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368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alibri"/>
              </a:rPr>
              <a:t>А)193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alibri"/>
              </a:rPr>
              <a:t>Б)193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alibri"/>
              </a:rPr>
              <a:t>В)194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4214880" y="1643040"/>
            <a:ext cx="3143160" cy="4071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Расскажите как можно больше информации о числах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368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alibri"/>
              </a:rPr>
              <a:t>А)194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alibri"/>
              </a:rPr>
              <a:t>Б)200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alibri"/>
              </a:rPr>
              <a:t>В)200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4214880" y="2071800"/>
            <a:ext cx="3286080" cy="3214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Cambria"/>
              </a:rPr>
              <a:t>ПРОБЛЕМА !!!</a:t>
            </a:r>
            <a:endParaRPr b="0" lang="en-US" sz="6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Для активизации программы необходимо выполнить следующие действия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Устные упражнения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Упростите упражн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(3-а)(3+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(в+2а)(2а-в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(5х+у)(у-5х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Устные упражнения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Упростите выраж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(с-2)(с+2) +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(4-с)(4+с) + 1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(5+с)(5-с) - 25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ПРОДОЛЖЕНИЕ ИГРЫ…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095560" y="2211480"/>
            <a:ext cx="4952880" cy="330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Жуковский – наукоград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c00000"/>
                </a:solidFill>
                <a:latin typeface="Calibri"/>
              </a:rPr>
              <a:t>1. ФГУП «ЦАГИ им. Проф. Н.Е.Жуковского»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87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c00000"/>
                </a:solidFill>
                <a:latin typeface="Calibri"/>
              </a:rPr>
              <a:t>2.ФГУП «ЛИИ им. М.М.Громова»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87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c00000"/>
                </a:solidFill>
                <a:latin typeface="Calibri"/>
              </a:rPr>
              <a:t>3.ОАО «НИИП им. В.В. Тихомирова»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87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c00000"/>
                </a:solidFill>
                <a:latin typeface="Calibri"/>
              </a:rPr>
              <a:t>4. ОАО «МНИИ «Агат»      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87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c00000"/>
                </a:solidFill>
                <a:latin typeface="Calibri"/>
              </a:rPr>
              <a:t>5. ФГУП «НИИАО»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87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c00000"/>
                </a:solidFill>
                <a:latin typeface="Calibri"/>
              </a:rPr>
              <a:t>6. ФГУП «ЭМЗ им. В.М. Мясищева»         </a:t>
            </a: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2:06:26Z</dcterms:created>
  <dc:creator>Людмила</dc:creator>
  <dc:description/>
  <dc:language>en-US</dc:language>
  <cp:lastModifiedBy>a</cp:lastModifiedBy>
  <dcterms:modified xsi:type="dcterms:W3CDTF">2010-02-07T14:39:57Z</dcterms:modified>
  <cp:revision>66</cp:revision>
  <dc:subject/>
  <dc:title>Слайд 1</dc:title>
</cp:coreProperties>
</file>