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E84C-8701-4990-8392-C4E60E14E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составление устного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32-33 «Монарх – помазанник божий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35-36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«Этикет при дворе  Людовика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XIV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индивидуальная с учеб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 5 бал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A30F-2A12-46BE-8C50-27457B3280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28-29, работа в группах, сформулировать ответ 2 словами, записать на дос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ь. Правильный ответ 5 бал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3FD9-B8BC-4552-9BB5-CCCA8383C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уметь анализ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единая система управления С. 29-30. Правильный ответ 5 бал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556C-A78A-4A01-BB0D-5A2CCE111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уметь анализ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0CA6-52A6-4305-8D9E-5BF22D953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извлекать информацию из источника и преобразовывать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опорного конспекта, с.31, Задание: заполнить пропуски в схеме. Правильный ответ 5 бал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E4EA-185C-4671-9A5D-195D04235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уметь анализироват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4D6A-BC5A-4945-8C6A-AFB466B4E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40CA-ECC1-4AA6-84EF-B0C5133EB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умение извлекать информацию из текстового источника. (с.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индивидуальная в тетрад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F58-30D1-413F-9072-38CAB6392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319E-62D0-4BE3-A8A8-CDD46D7DF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щ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ие работать с информацией: извлекать информацию из разнообразных источников, анализировать, сравнивать. преобразовывать и представлять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ие объяснять понятия «абсолютизм», «меркантилизм»;  умение составлять схему (основные черты абсолют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ые: исследование особенностей абсолют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учения: проблемный, частично поисковый, репродуктив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а у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комбинированный с элементами лабораторной работы (с текстом учебни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B9F2-B9E6-4916-8CA8-9530089D2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усвоить черты абсолютизма и время его форм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учебника стр. 27 «Рожденный подданным должен повиновать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овая история ч. 1, .Я.Юдовск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индивидуальная в тетрад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 5 бал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индивидуальная в тетрад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 5 бал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7E28-DBC2-46DB-A2A9-F2EBA253A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D98D-C72F-42D4-9A50-D5EBB6B714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167F-2D67-4C41-A194-74EA98822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развитие картографических умений Стр. 28 «Один король – одна страна», работа с картой “Западная Европа в1648 г.” Правильный ответ -5 бал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 5 бал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ADB5-FD8D-432E-9D9B-ED888B7E83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3C1-9309-4451-B6DA-D98951DD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B5B-866D-4E37-A05E-4167BE7E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2F4-1AD2-4057-B9D4-7DE629E6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31C-A91F-4341-87C8-60B78616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D27-82C8-4DD0-AA14-374595C3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76A-C998-4CE1-BF22-E25DABAC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A61-9C36-498C-9D0D-17246AF1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2C7-3EFF-4A7C-B3BE-0F5FD1D1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365-E6DC-4523-A2EC-463B5920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599-3ABE-4784-B6F9-AE16D1F8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6D6-A10F-4C73-9183-1DA41BBD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239-A89A-4CB6-8DB7-6E35DF77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1B19-D027-429B-BC19-454CEBF2CCE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DBA1-042A-4DF5-B6F1-23365EB94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9920" y="142560"/>
            <a:ext cx="8256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ИСТОРИЧЕСКАЯ РАЗМИНК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7120" y="928440"/>
            <a:ext cx="842976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1) Кому из мореплавателей удалось открыть морской путь в Индию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А) Христофору Колумб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Б) Бартоломеу  Диа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) Америго  Веспуч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Г) Васко да Га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Д) Фернандо Магелла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2) Кто из путешественников ввёл термин «Новый свет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А ) Христофору Колум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Б) Бартоломеу  Диаш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) Америго  Веспуч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Г) Васко да Га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Д) Фернандо Магелл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00040" y="4785840"/>
            <a:ext cx="3857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Текст на с.32-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3280" y="4929120"/>
            <a:ext cx="39672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Доп. материал «Этикет при дворе  Людовика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XIV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» на с. 35-3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ижний колонтитул 1"/>
          <p:cNvSpPr/>
          <p:nvPr/>
        </p:nvSpPr>
        <p:spPr>
          <a:xfrm>
            <a:off x="928800" y="2714760"/>
            <a:ext cx="70009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fbfbf"/>
                </a:solidFill>
                <a:latin typeface="Calibri"/>
              </a:rPr>
              <a:t>Выберите источник самостоя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9E8D-8538-492D-B2D4-78748AAE69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85840" y="21430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авить устный рассказ “ Из чего складывался культ монарха – помазанника Божьего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7"/>
          <p:cNvSpPr/>
          <p:nvPr/>
        </p:nvSpPr>
        <p:spPr>
          <a:xfrm>
            <a:off x="1357200" y="3786120"/>
            <a:ext cx="1285920" cy="107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8"/>
          <p:cNvSpPr/>
          <p:nvPr/>
        </p:nvSpPr>
        <p:spPr>
          <a:xfrm>
            <a:off x="5643720" y="4000680"/>
            <a:ext cx="1285560" cy="1000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285840" y="35712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Абсолютиз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– форма правления, при которой власть неограниченно принадлежит одному лицу – монарху. Монарх –  «помазанник бож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06872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Отводили парламенту английские монарх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3280" y="1356840"/>
            <a:ext cx="404208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Отводили Генеральным штатам французские монарх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5143680" y="6000840"/>
            <a:ext cx="3714480" cy="50148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р, 28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643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CB61-079E-4DA7-ABA9-5DB56B4B13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57120" y="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ясните, какое место в системе государственного управле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71760" y="3000240"/>
            <a:ext cx="1428480" cy="17193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0" y="2071800"/>
            <a:ext cx="1357200" cy="1887480"/>
          </a:xfrm>
          <a:prstGeom prst="rect">
            <a:avLst/>
          </a:prstGeom>
          <a:ln w="57240">
            <a:solidFill>
              <a:srgbClr val="604a7b"/>
            </a:solidFill>
            <a:miter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57120" y="4500720"/>
            <a:ext cx="1357560" cy="21096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123" name="TextBox 26"/>
          <p:cNvSpPr/>
          <p:nvPr/>
        </p:nvSpPr>
        <p:spPr>
          <a:xfrm>
            <a:off x="1500120" y="20718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Генрих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VIII</a:t>
            </a: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 Тюдор. Король Анг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3000240" y="378612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Елизавета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Тюд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Коро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Анг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8"/>
          <p:cNvSpPr/>
          <p:nvPr/>
        </p:nvSpPr>
        <p:spPr>
          <a:xfrm>
            <a:off x="1785960" y="564372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Яков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 Стюарт. Король Англии и Шотлан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4"/>
          <a:stretch/>
        </p:blipFill>
        <p:spPr>
          <a:xfrm>
            <a:off x="5500800" y="2928960"/>
            <a:ext cx="1547640" cy="2000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127" name="TextBox 30"/>
          <p:cNvSpPr/>
          <p:nvPr/>
        </p:nvSpPr>
        <p:spPr>
          <a:xfrm>
            <a:off x="5786280" y="500076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Франциск </a:t>
            </a: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 Валу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Король Фр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1214280" y="214200"/>
            <a:ext cx="7215480" cy="520560"/>
          </a:xfrm>
          <a:prstGeom prst="rect">
            <a:avLst/>
          </a:prstGeom>
          <a:solidFill>
            <a:srgbClr val="376092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иная система управления (с.29-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85840" y="1000080"/>
            <a:ext cx="43574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Анг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йный со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нешня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нутрення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инан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борона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низ 3"/>
          <p:cNvSpPr/>
          <p:nvPr/>
        </p:nvSpPr>
        <p:spPr>
          <a:xfrm>
            <a:off x="1928880" y="1714680"/>
            <a:ext cx="785880" cy="2214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4643280" y="1000080"/>
            <a:ext cx="43578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Франци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ав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нешня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нутрення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инан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борона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5"/>
          <p:cNvSpPr/>
          <p:nvPr/>
        </p:nvSpPr>
        <p:spPr>
          <a:xfrm>
            <a:off x="6572160" y="1714680"/>
            <a:ext cx="714600" cy="22143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DD55-4A36-4465-A9CE-80DA049348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500040" y="6280200"/>
            <a:ext cx="8286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Calibri"/>
              </a:rPr>
              <a:t>Сравните деятельность государственного ап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98989"/>
                </a:solidFill>
                <a:latin typeface="Calibri"/>
              </a:rPr>
              <a:t>Англии и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1214280" y="214200"/>
            <a:ext cx="6500880" cy="520560"/>
          </a:xfrm>
          <a:prstGeom prst="rect">
            <a:avLst/>
          </a:prstGeom>
          <a:solidFill>
            <a:srgbClr val="376092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иная судебная власть (с. 30-3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0" y="785880"/>
            <a:ext cx="4643280" cy="80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нг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ная пал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судь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мир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суд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ести судебные процес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зоблачать загов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давлять мятеж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следовать бродя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обирать нало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бор денег бед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786200" y="785880"/>
            <a:ext cx="4357800" cy="85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99694"/>
                </a:solidFill>
                <a:uFillTx/>
                <a:latin typeface="Arial"/>
              </a:rPr>
              <a:t>Фр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a110c"/>
                </a:solidFill>
                <a:latin typeface="Arial"/>
              </a:rPr>
              <a:t>Парла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аво обжаловать судебные и правительственные реш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начение рег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смотрение договоров, указ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7375e"/>
                </a:solidFill>
                <a:uFillTx/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6"/>
          <p:cNvSpPr/>
          <p:nvPr/>
        </p:nvSpPr>
        <p:spPr>
          <a:xfrm>
            <a:off x="1285920" y="2428920"/>
            <a:ext cx="571320" cy="71424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7"/>
          <p:cNvSpPr/>
          <p:nvPr/>
        </p:nvSpPr>
        <p:spPr>
          <a:xfrm>
            <a:off x="3429000" y="242892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низ 8"/>
          <p:cNvSpPr/>
          <p:nvPr/>
        </p:nvSpPr>
        <p:spPr>
          <a:xfrm>
            <a:off x="2500200" y="142884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низ 9"/>
          <p:cNvSpPr/>
          <p:nvPr/>
        </p:nvSpPr>
        <p:spPr>
          <a:xfrm>
            <a:off x="6572160" y="1428840"/>
            <a:ext cx="57168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низ 10"/>
          <p:cNvSpPr/>
          <p:nvPr/>
        </p:nvSpPr>
        <p:spPr>
          <a:xfrm>
            <a:off x="6572160" y="2428920"/>
            <a:ext cx="571680" cy="1143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11"/>
          <p:cNvSpPr/>
          <p:nvPr/>
        </p:nvSpPr>
        <p:spPr>
          <a:xfrm>
            <a:off x="6858000" y="6356520"/>
            <a:ext cx="18288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176B-A76D-4874-8AFA-FE02FA8F4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12"/>
          <p:cNvSpPr/>
          <p:nvPr/>
        </p:nvSpPr>
        <p:spPr>
          <a:xfrm>
            <a:off x="1357200" y="6286680"/>
            <a:ext cx="7500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Calibri"/>
              </a:rPr>
              <a:t>Объясните схему, используя текст на с. 30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1214280" y="214200"/>
            <a:ext cx="6500880" cy="520560"/>
          </a:xfrm>
          <a:prstGeom prst="rect">
            <a:avLst/>
          </a:prstGeom>
          <a:solidFill>
            <a:srgbClr val="376092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ная власть (с.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71680" y="142884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нгл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3600" spc="-1" strike="noStrike">
                <a:solidFill>
                  <a:srgbClr val="da110c"/>
                </a:solidFill>
                <a:latin typeface="Arial"/>
              </a:rPr>
              <a:t>Фр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600" spc="-1" strike="noStrike">
                <a:solidFill>
                  <a:srgbClr val="e46c0a"/>
                </a:solidFill>
                <a:latin typeface="Arial"/>
              </a:rPr>
              <a:t>Чиновн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000-15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8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4bd97"/>
                </a:solidFill>
                <a:latin typeface="Arial"/>
              </a:rPr>
              <a:t>Жалованье + плата населения за услу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5"/>
          <p:cNvSpPr/>
          <p:nvPr/>
        </p:nvSpPr>
        <p:spPr>
          <a:xfrm rot="17842800">
            <a:off x="2017800" y="1596600"/>
            <a:ext cx="888840" cy="20192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трелка вниз 6"/>
          <p:cNvSpPr/>
          <p:nvPr/>
        </p:nvSpPr>
        <p:spPr>
          <a:xfrm rot="3718800">
            <a:off x="6048360" y="1692720"/>
            <a:ext cx="862200" cy="17622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8"/>
          <p:cNvCxnSpPr/>
          <p:nvPr/>
        </p:nvCxnSpPr>
        <p:spPr>
          <a:xfrm flipH="1">
            <a:off x="2856960" y="3642120"/>
            <a:ext cx="929160" cy="358200"/>
          </a:xfrm>
          <a:prstGeom prst="straightConnector1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50" name="Прямая со стрелкой 10"/>
          <p:cNvCxnSpPr/>
          <p:nvPr/>
        </p:nvCxnSpPr>
        <p:spPr>
          <a:xfrm>
            <a:off x="5715000" y="3642840"/>
            <a:ext cx="929520" cy="358200"/>
          </a:xfrm>
          <a:prstGeom prst="straightConnector1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51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EEBE-1CBF-4CF0-8C42-81DFF4CC8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Выноска со стрелкой вниз 9"/>
          <p:cNvSpPr/>
          <p:nvPr/>
        </p:nvSpPr>
        <p:spPr>
          <a:xfrm>
            <a:off x="1000080" y="4429080"/>
            <a:ext cx="7429680" cy="857160"/>
          </a:xfrm>
          <a:prstGeom prst="downArrowCallout">
            <a:avLst>
              <a:gd name="adj1" fmla="val 25043"/>
              <a:gd name="adj2" fmla="val 25000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едства к существован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1357200" y="285840"/>
            <a:ext cx="7000920" cy="520560"/>
          </a:xfrm>
          <a:prstGeom prst="rect">
            <a:avLst/>
          </a:prstGeom>
          <a:solidFill>
            <a:srgbClr val="376092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ние профессиональной ар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428760" y="1500120"/>
            <a:ext cx="4500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нг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тсутствие регулярной арм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родное опол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ряды дворян-доброво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786200" y="1500120"/>
            <a:ext cx="41436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(постоянная наёмная арм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ямые      кос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лог на           налог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емлю и                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Прямая со стрелкой 5"/>
          <p:cNvCxnSpPr/>
          <p:nvPr/>
        </p:nvCxnSpPr>
        <p:spPr>
          <a:xfrm flipH="1">
            <a:off x="6000480" y="2785680"/>
            <a:ext cx="357840" cy="500760"/>
          </a:xfrm>
          <a:prstGeom prst="straightConnector1">
            <a:avLst/>
          </a:prstGeom>
          <a:ln w="57240">
            <a:solidFill>
              <a:srgbClr val="00ffff"/>
            </a:solidFill>
            <a:miter/>
            <a:tailEnd len="med" type="arrow" w="med"/>
          </a:ln>
        </p:spPr>
      </p:cxnSp>
      <p:cxnSp>
        <p:nvCxnSpPr>
          <p:cNvPr id="158" name="Прямая со стрелкой 7"/>
          <p:cNvCxnSpPr/>
          <p:nvPr/>
        </p:nvCxnSpPr>
        <p:spPr>
          <a:xfrm>
            <a:off x="6929280" y="2785680"/>
            <a:ext cx="501120" cy="500760"/>
          </a:xfrm>
          <a:prstGeom prst="straightConnector1">
            <a:avLst/>
          </a:prstGeom>
          <a:ln w="57240">
            <a:solidFill>
              <a:srgbClr val="00ffff"/>
            </a:solidFill>
            <a:miter/>
            <a:tailEnd len="med" type="arrow" w="med"/>
          </a:ln>
        </p:spPr>
      </p:cxnSp>
      <p:cxnSp>
        <p:nvCxnSpPr>
          <p:cNvPr id="159" name="Прямая со стрелкой 9"/>
          <p:cNvCxnSpPr/>
          <p:nvPr/>
        </p:nvCxnSpPr>
        <p:spPr>
          <a:xfrm flipH="1">
            <a:off x="5571360" y="3500280"/>
            <a:ext cx="2520" cy="50112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0" name="Прямая со стрелкой 11"/>
          <p:cNvCxnSpPr/>
          <p:nvPr/>
        </p:nvCxnSpPr>
        <p:spPr>
          <a:xfrm flipH="1">
            <a:off x="7786440" y="3573000"/>
            <a:ext cx="2160" cy="50076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6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54E0-324E-48DB-A887-AC7EB1D07E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1357200" y="285840"/>
            <a:ext cx="7000920" cy="520560"/>
          </a:xfrm>
          <a:prstGeom prst="rect">
            <a:avLst/>
          </a:prstGeom>
          <a:solidFill>
            <a:srgbClr val="376092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иная экономическ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928800" y="1857240"/>
            <a:ext cx="642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Меркантилизм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текциониз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785880" y="46432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Arial"/>
              </a:rPr>
              <a:t>Вспомните, что обозначают данные терми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5572080" y="62150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С.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Закончите предложения и запишите их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1.У населения таких европейских стран, как _____________________________________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в эпоху абсолютизма складывается национальное  самосознание и образуются централизован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2. В Германии и Италии в XVI – XVII веках не сложились централизованные государства, т.к. здесь существовали 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ижний колонтитул 1"/>
          <p:cNvSpPr/>
          <p:nvPr/>
        </p:nvSpPr>
        <p:spPr>
          <a:xfrm>
            <a:off x="3143160" y="60721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С. 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AD1D-EBF4-4281-8240-9475E1784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785880" y="42876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тог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357120" y="107172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Абсолютизм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– форма правления, при которой власть неограниченно принадлежит одному лицу – монарх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Чер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14200" y="344160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оздание общегосударственного аппарата управления, состоящего из чинов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Формирование постоянной профессиональной ар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оздание государственной налогов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ведение единого законодательства и административного устройства, единых мер и ве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бразование государственной церк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ведение единой государственной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низ 4"/>
          <p:cNvSpPr/>
          <p:nvPr/>
        </p:nvSpPr>
        <p:spPr>
          <a:xfrm>
            <a:off x="4357800" y="3071880"/>
            <a:ext cx="7858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E775-F511-4F45-9BCC-450362200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4996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очитайте цели уро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Достигли ли вы целей урока? В какой степен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цените свою работу на уроке. Если по итогам урока вы набра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25 баллов, то получаете оценку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20–15 баллов – оценку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10 баллов – оценку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5 баллов – оценку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98E5-8866-4134-8FC9-858C82E731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Соотнесите названия коренных жителей с континентом или страной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индейц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индийц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негр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А) Амери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Б)  Афри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В) Инд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DD64-E462-4E31-8896-32FEAA246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785880" y="428760"/>
            <a:ext cx="785808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читать параграф 3 с.27-3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спомнить определение «мануфактур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готовить рассказ об этикете при дворе короля Людовика с.35-3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готовиться к опросу по записям в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261A-34A0-4D3C-ACE6-2284F48E1D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5"/>
          <p:cNvSpPr/>
          <p:nvPr/>
        </p:nvSpPr>
        <p:spPr>
          <a:xfrm>
            <a:off x="1214280" y="214200"/>
            <a:ext cx="6500880" cy="520560"/>
          </a:xfrm>
          <a:prstGeom prst="rect">
            <a:avLst/>
          </a:prstGeom>
          <a:solidFill>
            <a:srgbClr val="376092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у принадлежат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57120" y="1214280"/>
            <a:ext cx="84297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Не понимаю, как мои предки могли допустить такое учреждение. Я должен мириться с тем, от чего не могу избавитьс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В моем лице Бог ниспослал вам благословение. Я муж, а весь остров – моя законная жена. Я глава, а остров – моё тело. Я пастырь, а остров – моё стадо». (из речи на первом парламент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Такова моя добрая воля, ибо так мы жела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4C53-344A-46E1-B6C0-6389DEEEC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0"/>
          <p:cNvSpPr/>
          <p:nvPr/>
        </p:nvSpPr>
        <p:spPr>
          <a:xfrm>
            <a:off x="357120" y="50720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Вы думали господа, что государство – это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шибаетесь. Государство – это Я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сточ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ttp://festival.1september.ru/articles/532938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ttp://www.proshkolu.ru/club/historians/file2/1812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ttp://www.uchportal.ru/load/54-1-0-148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ttp://director.edu54.ru/node/736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.Я. Юдовская, П.А. Баранов, Л.М. Ванюшкина.Всеобщая история. История нового времени. 1500-1800. М., Просвещение.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2DAC-D5D5-4A3D-80D2-537AD30CB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357120" y="78588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иление королевской власти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VI-XV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в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бсолютизм в Европ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142D-8A98-41E5-A049-B26E9CE61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4"/>
          <p:cNvSpPr/>
          <p:nvPr/>
        </p:nvSpPr>
        <p:spPr>
          <a:xfrm>
            <a:off x="1071720" y="6000840"/>
            <a:ext cx="7358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Arial"/>
              </a:rPr>
              <a:t>Ронова Татьяна Васильевна МБОУ Тасеевская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5840" y="3429000"/>
            <a:ext cx="1357200" cy="1887480"/>
          </a:xfrm>
          <a:prstGeom prst="rect">
            <a:avLst/>
          </a:prstGeom>
          <a:ln w="57240">
            <a:solidFill>
              <a:srgbClr val="604a7b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071800" y="4071960"/>
            <a:ext cx="1428480" cy="17193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4357800" y="3643200"/>
            <a:ext cx="1357200" cy="21099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6786720" y="3643200"/>
            <a:ext cx="1547640" cy="20005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62" name="Прямоугольник 9"/>
          <p:cNvSpPr/>
          <p:nvPr/>
        </p:nvSpPr>
        <p:spPr>
          <a:xfrm>
            <a:off x="3362400" y="0"/>
            <a:ext cx="57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4bd97"/>
                </a:solidFill>
                <a:latin typeface="Arial"/>
              </a:rPr>
              <a:t>Урок истории в 7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Проблем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бсолютизм способствовал складыванию прочных государств и сдерживал войны “всех против всех”. Но в то же время в XVI–XVII вв. в Европе происходят революции, одна из задач которых – уничтожение системы абсолютиз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очему же в обществе велась борьба против абсолютиз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ожет ли власть требовать от личности безоговорочного подчин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FE3F-2C04-4D35-ACEE-73A69849A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832932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Цели урока</a:t>
            </a: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0040" y="1785600"/>
            <a:ext cx="8329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bd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4bd97"/>
                </a:solidFill>
                <a:latin typeface="Calibri"/>
              </a:rPr>
              <a:t>1. Узнать, что такое «абсолютизм»?</a:t>
            </a:r>
            <a:br>
              <a:rPr sz="3200"/>
            </a:br>
            <a:r>
              <a:rPr b="1" lang="ru-RU" sz="3200" spc="-1" strike="noStrike">
                <a:solidFill>
                  <a:srgbClr val="c4bd97"/>
                </a:solidFill>
                <a:latin typeface="Calibri"/>
              </a:rPr>
              <a:t>2. Выяснить, каковы характерные черты абсолютизма.</a:t>
            </a:r>
            <a:br>
              <a:rPr sz="3200"/>
            </a:br>
            <a:r>
              <a:rPr b="1" lang="ru-RU" sz="3200" spc="-1" strike="noStrike">
                <a:solidFill>
                  <a:srgbClr val="c4bd97"/>
                </a:solidFill>
                <a:latin typeface="Calibri"/>
              </a:rPr>
              <a:t>3. Каковы его проявления в европейских стран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A4DA-D471-40EE-99C8-F20FEE5B9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bd97"/>
                </a:solidFill>
                <a:latin typeface="Calibri"/>
              </a:rPr>
              <a:t>Выполните задани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5308-F55E-464D-89FF-B5628A3ECE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357120" y="57168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читайте определение и характеристику абсолют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смотрите матрицу схемы “Абсолютизм” и заполните её краткими пояснен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0" y="2428920"/>
            <a:ext cx="25002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6643800" y="4929120"/>
            <a:ext cx="250020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2500200" y="6143760"/>
            <a:ext cx="385776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0" y="5214960"/>
            <a:ext cx="25002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6643800" y="3643200"/>
            <a:ext cx="250020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0" y="4000680"/>
            <a:ext cx="25002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6643800" y="2357280"/>
            <a:ext cx="250020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3"/>
          <p:cNvSpPr/>
          <p:nvPr/>
        </p:nvSpPr>
        <p:spPr>
          <a:xfrm>
            <a:off x="2928960" y="2214720"/>
            <a:ext cx="3000240" cy="371448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714480"/>
              <a:gd name="textAreaBottom" fmla="*/ 3568320 h 3714480"/>
            </a:gdLst>
            <a:ahLst/>
            <a:rect l="textAreaLeft" t="textAreaTop" r="textAreaRight" b="textAreaBottom"/>
            <a:pathLst>
              <a:path w="21600" h="26741">
                <a:moveTo>
                  <a:pt x="3600" y="0"/>
                </a:moveTo>
                <a:arcTo wR="3600" hR="3600" stAng="16200000" swAng="-5400000"/>
                <a:lnTo>
                  <a:pt x="0" y="23141"/>
                </a:lnTo>
                <a:arcTo wR="3600" hR="3600" stAng="10800000" swAng="-5400000"/>
                <a:lnTo>
                  <a:pt x="18000" y="26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бсолютиз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Складывается в конц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XV-XVI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Достигает своего расцвета  в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VII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17"/>
          <p:cNvCxnSpPr>
            <a:endCxn id="75" idx="3"/>
          </p:cNvCxnSpPr>
          <p:nvPr/>
        </p:nvCxnSpPr>
        <p:spPr>
          <a:xfrm flipH="1" flipV="1">
            <a:off x="2499480" y="2785680"/>
            <a:ext cx="429480" cy="21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lg" type="triangle" w="lg"/>
          </a:ln>
        </p:spPr>
      </p:cxnSp>
      <p:cxnSp>
        <p:nvCxnSpPr>
          <p:cNvPr id="84" name="Прямая со стрелкой 19"/>
          <p:cNvCxnSpPr>
            <a:endCxn id="80" idx="3"/>
          </p:cNvCxnSpPr>
          <p:nvPr/>
        </p:nvCxnSpPr>
        <p:spPr>
          <a:xfrm flipH="1">
            <a:off x="2499480" y="428508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21"/>
          <p:cNvCxnSpPr/>
          <p:nvPr/>
        </p:nvCxnSpPr>
        <p:spPr>
          <a:xfrm flipH="1" flipV="1">
            <a:off x="2499480" y="5428440"/>
            <a:ext cx="42948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25"/>
          <p:cNvCxnSpPr>
            <a:endCxn id="81" idx="1"/>
          </p:cNvCxnSpPr>
          <p:nvPr/>
        </p:nvCxnSpPr>
        <p:spPr>
          <a:xfrm flipV="1">
            <a:off x="5928840" y="2714400"/>
            <a:ext cx="7153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26"/>
          <p:cNvCxnSpPr/>
          <p:nvPr/>
        </p:nvCxnSpPr>
        <p:spPr>
          <a:xfrm flipV="1">
            <a:off x="5928840" y="4071600"/>
            <a:ext cx="7153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27"/>
          <p:cNvCxnSpPr/>
          <p:nvPr/>
        </p:nvCxnSpPr>
        <p:spPr>
          <a:xfrm flipV="1">
            <a:off x="5928840" y="5285520"/>
            <a:ext cx="71532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29"/>
          <p:cNvCxnSpPr>
            <a:stCxn id="82" idx="2"/>
            <a:endCxn id="77" idx="0"/>
          </p:cNvCxnSpPr>
          <p:nvPr/>
        </p:nvCxnSpPr>
        <p:spPr>
          <a:xfrm flipH="1">
            <a:off x="4427280" y="59306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solidFill>
            <a:srgbClr val="31859c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Что такое абсолютизм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0" y="21430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Абсолютизм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– форма правления, при которой власть неограниченно принадлежит одному лицу – монарх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143080" y="17146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bd97"/>
                </a:solidFill>
                <a:latin typeface="Arial"/>
              </a:rPr>
              <a:t>с.27 учеб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7216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Arial"/>
              </a:rPr>
              <a:t>Яков 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 I </a:t>
            </a:r>
            <a:r>
              <a:rPr b="1" lang="ru-RU" sz="2000" spc="-1" strike="noStrike">
                <a:solidFill>
                  <a:srgbClr val="898989"/>
                </a:solidFill>
                <a:latin typeface="Arial"/>
              </a:rPr>
              <a:t>Стю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0" y="62150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Arial"/>
              </a:rPr>
              <a:t>Французский король Людовик 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X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C:\Users\svz\Desktop\Рисунок1.jpg"/>
          <p:cNvPicPr/>
          <p:nvPr/>
        </p:nvPicPr>
        <p:blipFill>
          <a:blip r:embed="rId1"/>
          <a:stretch/>
        </p:blipFill>
        <p:spPr>
          <a:xfrm>
            <a:off x="857160" y="3857760"/>
            <a:ext cx="1901880" cy="2288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C:\Users\svz\Desktop\Рисунок2.jpg"/>
          <p:cNvPicPr/>
          <p:nvPr/>
        </p:nvPicPr>
        <p:blipFill>
          <a:blip r:embed="rId2"/>
          <a:stretch/>
        </p:blipFill>
        <p:spPr>
          <a:xfrm>
            <a:off x="2928960" y="4143240"/>
            <a:ext cx="337500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C:\Users\svz\Desktop\Рисунок3.jpg"/>
          <p:cNvPicPr/>
          <p:nvPr/>
        </p:nvPicPr>
        <p:blipFill>
          <a:blip r:embed="rId3"/>
          <a:stretch/>
        </p:blipFill>
        <p:spPr>
          <a:xfrm>
            <a:off x="6500880" y="3714840"/>
            <a:ext cx="1652400" cy="23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6829560" cy="1143000"/>
          </a:xfrm>
          <a:prstGeom prst="rect">
            <a:avLst/>
          </a:prstGeom>
          <a:solidFill>
            <a:srgbClr val="31859c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2. Характерные черты абсолютиз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214200" y="1785960"/>
            <a:ext cx="8715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здание общегосударственного аппарата управления, состоящего из чинов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рмирование постоянной профессиональной ар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здание государственной налогов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ведение единого законодательства и административного устройства, единых мер и ве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разование государственной церк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ведение единой государственной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D0DF-4F83-4DDB-BCBC-82C563CF2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4"/>
          <p:cNvSpPr/>
          <p:nvPr/>
        </p:nvSpPr>
        <p:spPr>
          <a:xfrm>
            <a:off x="1357200" y="6143760"/>
            <a:ext cx="4662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Arial"/>
              </a:rPr>
              <a:t>Проверь свою 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2"/>
          <p:cNvSpPr/>
          <p:nvPr/>
        </p:nvSpPr>
        <p:spPr>
          <a:xfrm>
            <a:off x="857160" y="6356520"/>
            <a:ext cx="6858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Arial"/>
              </a:rPr>
              <a:t>Стр. 28 «Один король – одна стра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ссмотрите карту “Западная Европа в1648 г.” и найдите территории, которые потеряли свою независимость, подчинившись королевской власти в период абсолютиз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816440" y="1828800"/>
            <a:ext cx="3870360" cy="430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-115920" y="1828800"/>
            <a:ext cx="4608720" cy="444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vz</dc:creator>
  <dc:description/>
  <dc:language>en-US</dc:language>
  <cp:lastModifiedBy>svz</cp:lastModifiedBy>
  <dcterms:modified xsi:type="dcterms:W3CDTF">2012-02-12T08:58:21Z</dcterms:modified>
  <cp:revision>43</cp:revision>
  <dc:subject/>
  <dc:title>Слайд 1</dc:title>
</cp:coreProperties>
</file>