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9FC-4AD9-4DC3-BD2C-8CAA4297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612-00AD-4D9D-B3D9-7008CE36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A24-F3A8-4503-B431-5A7A9796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9C0-2EDA-49DD-BD3A-1DF19C47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A1C-8F1A-4498-BB28-2A36022C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75C-FAA9-4DE2-A2E1-BEB2D6BA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045-F934-44C8-803C-C531D5DB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EC0-5EE0-4275-B7F1-B18D31D5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45A-8E18-40BD-937F-60E15852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767-57B1-47A2-9596-6CE4E87E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1BA-97CB-442B-B92A-B8B0A2EF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A3F-A7B5-45C2-889D-89B2C39F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9684-19E6-4908-B193-0FEC1E328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3141720"/>
            <a:ext cx="81374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Как помочь ребенку стать внимательны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пределение вни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31780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пособность одновременно выполнять несколько действ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564000" y="2421000"/>
            <a:ext cx="51228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ем вни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личество объектов, которое человек может строго одновременно осознать при восприятии в связи с какой-нибудь одной задаче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48258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явления недостатка вни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сто наблюдаются беспокойные движения в кистях и стопах. Сидя на стуле, ребёнок корчится, изв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может сидеть спокойно на месте. Когда требуется э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гко отвлекается на посторонние стим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трудом дожидается своей очереди во время игры и в различных других ситуациях в коллективе (занятия в школе, экскурс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вопросы часто отвечает не задумываясь, не выслушав до ко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064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выполнении предложенных заданий испытывает сложности (не связанные с негативным поведением или недостаточностью понима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трудом сохраняет внимание при выполнении заданий или во время и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о переходит с одного незавершенного действия к друг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может играть тихо, спокой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тли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13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Мешает другим, пристает к окружающим (например, вмешивается в игры других дет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Часто складывается впечатление, что ребёнок не слушает обращённую к нему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Теряет вещи, необходимые в школе и дома (например, игрушки, карандаши, книг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Часто совершает опасные действия. Не задумываясь о последствиях (например, выбегает на улицу, не оглядываясь по сторонам). При этом не ищет приключений или острых ощущ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 проявления дефицита внимания можно поделить на три групп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2637000"/>
            <a:ext cx="81471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знаки гиперактивности (1,2,9,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внимательности и отвлекаемости (3,6,12,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пульсивности (4,5,11,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торичные наруш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7643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абая успевае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труднения в общении с другими дет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жные отношения в сем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ое поражение мозга (черепно-мозговая травма, нейроинфекция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фиксия новорождё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тический фактор, когда синдром дефицита внимания может носить семей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центральной нерв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вые факторы (высокое содержание углеводов в пище приводит к ухудшению показателей вним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ые факторы (непоследовательность и несистематичность воспитательных воздействий и прочие факто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асто ли ваш ребёнок отвлекается во время выполнения заданий?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3284640"/>
          <a:ext cx="8218080" cy="2841480"/>
        </p:xfrm>
        <a:graphic>
          <a:graphicData uri="http://schemas.openxmlformats.org/drawingml/2006/table">
            <a:tbl>
              <a:tblPr/>
              <a:tblGrid>
                <a:gridCol w="4109040"/>
                <a:gridCol w="41090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о ответ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жно ли назвать вашего ребёнка сосредоточенным, усидчивым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3213000"/>
          <a:ext cx="8291160" cy="2913120"/>
        </p:xfrm>
        <a:graphic>
          <a:graphicData uri="http://schemas.openxmlformats.org/drawingml/2006/table">
            <a:tbl>
              <a:tblPr/>
              <a:tblGrid>
                <a:gridCol w="4145400"/>
                <a:gridCol w="4145760"/>
              </a:tblGrid>
              <a:tr h="97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 (из них 1 не всегд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о ответ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(из них 1 по-разному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отелось бы вам, чтобы ваш ребёнок был внимательным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2781360"/>
          <a:ext cx="8218440" cy="3344760"/>
        </p:xfrm>
        <a:graphic>
          <a:graphicData uri="http://schemas.openxmlformats.org/drawingml/2006/table">
            <a:tbl>
              <a:tblPr/>
              <a:tblGrid>
                <a:gridCol w="4109040"/>
                <a:gridCol w="410940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о сказ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Вы делаете для того, чтобы у вашего ребёнка развивалось внимание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2637000"/>
          <a:ext cx="8291520" cy="36986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имаем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(игры, беседы, создание условий при выполнении 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удняемся ответ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отв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214920"/>
            <a:ext cx="7931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42800" y="260280"/>
            <a:ext cx="8376480" cy="5816880"/>
            <a:chOff x="442800" y="260280"/>
            <a:chExt cx="8376480" cy="5816880"/>
          </a:xfrm>
        </p:grpSpPr>
        <p:cxnSp>
          <p:nvCxnSpPr>
            <p:cNvPr id="53" name="_s9240"/>
            <p:cNvCxnSpPr>
              <a:stCxn id="54" idx="1"/>
              <a:endCxn id="55" idx="2"/>
            </p:cNvCxnSpPr>
            <p:nvPr/>
          </p:nvCxnSpPr>
          <p:spPr>
            <a:xfrm rot="10800000">
              <a:off x="4630320" y="1713600"/>
              <a:ext cx="419400" cy="145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9238"/>
            <p:cNvCxnSpPr>
              <a:stCxn id="57" idx="3"/>
              <a:endCxn id="55" idx="2"/>
            </p:cNvCxnSpPr>
            <p:nvPr/>
          </p:nvCxnSpPr>
          <p:spPr>
            <a:xfrm flipV="1">
              <a:off x="4212000" y="1713600"/>
              <a:ext cx="419400" cy="145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9232"/>
            <p:cNvCxnSpPr>
              <a:stCxn id="59" idx="0"/>
              <a:endCxn id="55" idx="2"/>
            </p:cNvCxnSpPr>
            <p:nvPr/>
          </p:nvCxnSpPr>
          <p:spPr>
            <a:xfrm flipV="1" rot="16200000">
              <a:off x="4642200" y="1701720"/>
              <a:ext cx="2909160" cy="2932560"/>
            </a:xfrm>
            <a:prstGeom prst="bentConnector3">
              <a:avLst>
                <a:gd name="adj1" fmla="val 50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9231"/>
            <p:cNvCxnSpPr>
              <a:stCxn id="61" idx="0"/>
              <a:endCxn id="55" idx="2"/>
            </p:cNvCxnSpPr>
            <p:nvPr/>
          </p:nvCxnSpPr>
          <p:spPr>
            <a:xfrm flipV="1">
              <a:off x="4630680" y="1713600"/>
              <a:ext cx="3960" cy="290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9230"/>
            <p:cNvCxnSpPr>
              <a:stCxn id="63" idx="0"/>
              <a:endCxn id="55" idx="2"/>
            </p:cNvCxnSpPr>
            <p:nvPr/>
          </p:nvCxnSpPr>
          <p:spPr>
            <a:xfrm flipH="1" flipV="1" rot="5400000">
              <a:off x="1710720" y="1702080"/>
              <a:ext cx="2909160" cy="2932560"/>
            </a:xfrm>
            <a:prstGeom prst="bentConnector3">
              <a:avLst>
                <a:gd name="adj1" fmla="val 50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9226"/>
            <p:cNvSpPr/>
            <p:nvPr/>
          </p:nvSpPr>
          <p:spPr>
            <a:xfrm>
              <a:off x="3374640" y="260280"/>
              <a:ext cx="2512800" cy="1454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вой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ним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9227"/>
            <p:cNvSpPr/>
            <p:nvPr/>
          </p:nvSpPr>
          <p:spPr>
            <a:xfrm>
              <a:off x="442800" y="4623120"/>
              <a:ext cx="2512800" cy="1454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бъе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9228"/>
            <p:cNvSpPr/>
            <p:nvPr/>
          </p:nvSpPr>
          <p:spPr>
            <a:xfrm>
              <a:off x="3374640" y="4623120"/>
              <a:ext cx="2512800" cy="1454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нцентрац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9229"/>
            <p:cNvSpPr/>
            <p:nvPr/>
          </p:nvSpPr>
          <p:spPr>
            <a:xfrm>
              <a:off x="6306480" y="4623120"/>
              <a:ext cx="2512800" cy="1454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ереключ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м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237"/>
            <p:cNvSpPr/>
            <p:nvPr/>
          </p:nvSpPr>
          <p:spPr>
            <a:xfrm>
              <a:off x="1699200" y="2441520"/>
              <a:ext cx="2512800" cy="1454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устойчив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9239"/>
            <p:cNvSpPr/>
            <p:nvPr/>
          </p:nvSpPr>
          <p:spPr>
            <a:xfrm>
              <a:off x="5050080" y="2441520"/>
              <a:ext cx="2512800" cy="1454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распреде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ключаемость вни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3683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знательный перенос внимания с одного объекта на друг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56360" y="1197000"/>
            <a:ext cx="187308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894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центрация вни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3394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ение сознанием объекта и направление на него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35280" y="1989000"/>
            <a:ext cx="5257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ойчивость вни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должитель-ность времени, в течение которого человек может поддерживать свое внимание на объек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356000" y="2276640"/>
            <a:ext cx="4330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20:44:38Z</dcterms:created>
  <dc:creator>Людмила</dc:creator>
  <dc:description/>
  <dc:language>en-US</dc:language>
  <cp:lastModifiedBy>Людмила</cp:lastModifiedBy>
  <dcterms:modified xsi:type="dcterms:W3CDTF">2012-02-12T10:25:39Z</dcterms:modified>
  <cp:revision>4</cp:revision>
  <dc:subject/>
  <dc:title>Внимание</dc:title>
</cp:coreProperties>
</file>