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01C-9533-4F2F-B327-61302D3A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B1C-7BB7-4917-B633-E5FA99B7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C24-8FB9-41ED-B5F0-BFCFED3B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A72-81F7-4B75-9EBB-50845B67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E958-62D1-4094-9C51-9C423B8C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88F4-4069-4E9D-9982-7F14061D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40CA-701F-4110-BD44-CF7F27C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94EA-F4AD-424F-935C-F9E835E5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7D6-A903-402E-A404-7411CAF4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ED55-D14F-497B-884A-61491E5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BFB4-0D7F-4E66-A4AD-3C4C972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6AD-23E2-4779-B73C-435FAABE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BCB5-CC20-4363-856E-6DF33CD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F987-34DD-46A2-92B1-2849CD78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B25F-DFA3-4781-B55D-9CB4C0E8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0600-D4E7-4C02-9F03-18437FE7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1E59-C792-43BF-BDCB-8410F385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20C-0CB8-45EA-BE7B-FE43B01A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E3F-CF59-42AF-8572-956BA841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517-E57C-412B-A6CF-B996D4D2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4EA-2B7D-4240-BE3A-C7C0722A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6DD-3538-41DA-90BD-13C88B8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F95-4652-408F-AFF6-3891FB1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3A1-9792-4370-A101-C112A65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3945-00D1-4C9C-BB97-38431D12C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D6B5-B30C-4E6F-9B19-31228A818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Бекарюковский бор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Шебекинского района Белгородской област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2120" y="40381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звание работы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Бекарюковский б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Автор презентации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епурных  Кристина Сергеев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ца 7 «В» класса МБОУ «Масловопристан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ководитель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епурных Ольга Алексеев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английского язы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БОУ «Масловопристанская средняя общеобразовательная школ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ай относится к лесостепной зоне. В районе насчитывается более 1000 видов растительности, причем виды двух различных зон степи и леса вынуждены сосуществовать вместе. Массив Шебекинского леса составляет около 30 тысяч гект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й породой шебекинских лесов является дуб. Он соседствует с ясенем, вязом, черемухой и другими породами. Хвойные виды представлены сосновыми борами, в том числе реликтовыми мелов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3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ивотный мир края насчитывает около 6000 видов. Среди самых крупных следует назвать лося, косулю и дикого каб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4170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120" y="152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 Шебекинском крае располагаются 8 памятников природы, 5 зоологических заказников, один ботанический заказник. Самым известным памятником природы Шебекинского района является ландшафтно-ботанический заказник «Бекарюковский бор». Он располагается около с. Маломихайловка на правом берегу реки Нежег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ибольшую ценность представляет древний реликт сосна мелов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 территории края известны и деревья-долгожители: 500- и 300 — летние дубы, 100-летняя 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4" descr="Животный мир Белогорья"/>
          <p:cNvPicPr/>
          <p:nvPr/>
        </p:nvPicPr>
        <p:blipFill>
          <a:blip r:embed="rId1"/>
          <a:stretch/>
        </p:blipFill>
        <p:spPr>
          <a:xfrm>
            <a:off x="1036800" y="2324160"/>
            <a:ext cx="761040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ловые сосны Бекарюковского бора в Шебекинском районе - реликт ещё доледниковой эпох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 миллионы лет - это совсем не метафора. Бекарюковский бор не случайно считается одним из уникальнейших природных заповедников. Его история началась в меловой период Мезозойской эры, более 100 миллионов лет назад. Тогда вовсю двигались материки, между ними расширялся океан, а оголившиеся части суши были насыщены меловыми отложени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3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сокие меловые горы из перемолотых временем древних ракушек выросли и на территории современного Шебекинского района, в древности залитого морскими водами. Вдоль гор точно так же, как и в те времена, извивается речка Нежеголь. И когда-то по этим заболоченным у реки участкам ходили динозавр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Животный мир Белогорья"/>
          <p:cNvPicPr/>
          <p:nvPr/>
        </p:nvPicPr>
        <p:blipFill>
          <a:blip r:embed="rId1"/>
          <a:stretch/>
        </p:blipFill>
        <p:spPr>
          <a:xfrm>
            <a:off x="1036800" y="2324160"/>
            <a:ext cx="761040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овые сосны сохранились лишь в нескольких местах планеты: в урочище Водяном и Соснах Воронежской области, горах Артёма Донецкой области и в двух местах на Белгородчине - это лес «Стенки-Изгорья» на реке Оскол и собственно сам Бекарюковский бо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Карта Белгородской обла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3" descr="rayon"/>
          <p:cNvPicPr/>
          <p:nvPr/>
        </p:nvPicPr>
        <p:blipFill>
          <a:blip r:embed="rId1"/>
          <a:stretch/>
        </p:blipFill>
        <p:spPr>
          <a:xfrm>
            <a:off x="1676520" y="274320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01956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ым старым меловым соснам в Бекарюковском бору - более 180 лет. Они растут только на вершинах крутых меловых склонов. Специалисты заповедника «Белогорье» говорят, что меловая сосна занесена в Красную книгу не только потому, что является исчезающим видом. Польза её очевидна и сейчас: с помощью этого древнего растения в лесные посадки можно превращать безжизненные меловые холмы, которыми богата Белгородская обла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1884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овые сосны бора не одиноки в своём древнем происхождении: их окружают и другие реликтовые растения. Это тимьянники, меловые иссопники, копеечник, шлемник приземистый, солнечник узколистый - всё это красивые названия так называемых «живых ископаемых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карюковский бор сохранился во многом благодаря стараниям богатого помещика Бекарюка, в составе чьих угодий был и Бекарюковский бор. За сохранностью деревьев помещик тщательно следил и полюбоваться красотами и поохотиться ходил в лес со всей своей семьё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Прямоугольник 3" descr=""/>
          <p:cNvPicPr/>
          <p:nvPr/>
        </p:nvPicPr>
        <p:blipFill>
          <a:blip r:embed="rId1"/>
          <a:stretch/>
        </p:blipFill>
        <p:spPr>
          <a:xfrm>
            <a:off x="-353880" y="1103400"/>
            <a:ext cx="982656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ебекинский район располагается на юге Белгородской области. Он граничит на западе с Белгородским, на севере с Корочанским, на востоке с Новооскольским и Волоконовским районами. Южная граница является государственной с Украи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6 января 2001 г. утвержден герб Шебекинского района и г. Шебекино. Золотая бревенчатая башня с воротами и прапором на красном поле символизирует ратные подвиги русских воинов по защите южных рубежей Русского государства со времен службы на Нежегольском участке Белгородской Черты в XVII веке до сражений на землях современного района в период Великой Отечественной войны. Две серебряные подковы по сторонам башни символизируют развитые земледелие и промышл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ебекинский район состоит из 1 городского и 14 сельских поселений со 101 населенным пунктом. В настоящее время в нем проживает 93099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дминистративным центром района является город Шебекино, который находится в 39 км к юго-востоку от Белгорода. Он расположен в живописной долине при впадении реки Корень в реку Нежеголь. Население города составляет 45600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60240" y="1619280"/>
            <a:ext cx="782352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ебекинский район расположен в центральной части Русской равнины, на южных склонах Среднерусской возвышенности, в бассейне двух крупных рек Днепра и Дона. Рельеф края однороден, с небольшим понижением к ю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 крае расположены большие залежи высококачественного мела. Над ними располагается слой осадочных пород — глины, мел, мергели и песчаники с включениями кремния, месторождениями фосфоритов и кварца. Большую ценность представляют месторождения руд с высоким содержанием желе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990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 территории Шебекинского района протекают реки Северский Донец, Нежеголь, Короча и Корень, часть Белгородского водохранилища, построенного в 1985 году, искусственные водоемы — рыбоводческие пруды. Ценные источники минеральных вод находятся в окрестностях сел Маслова Пристань и Му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епурных</dc:creator>
  <dc:description/>
  <dc:language>en-US</dc:language>
  <cp:lastModifiedBy>Ольга</cp:lastModifiedBy>
  <dcterms:modified xsi:type="dcterms:W3CDTF">2012-02-12T19:22:28Z</dcterms:modified>
  <cp:revision>12</cp:revision>
  <dc:subject>бекарюковский бор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