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EEE-51C2-4776-815B-C6F25608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DBB-51EC-4E74-879A-939182B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EC9-C4BA-4CCA-8095-01A22CF9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543-1AB1-4E92-9E0B-C3A6EA5D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2C4-A203-49E4-8196-193AB35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50C-2AB5-493D-B8CF-C7EABBF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A0E-B99C-430B-BC55-7EB500C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327-27A8-45F9-AFA4-A99F3B7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2CC-313C-418B-90D9-EE56ADD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21D-5C19-4EE8-AD39-9FD17DC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61D-3981-4E8F-9355-AFCC2C3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C94-2DD4-4F0C-A9B2-9141CC1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EDF-CCBF-4CCF-9975-85C8B8EA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ecker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0" y="333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al 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15:09Z</dcterms:created>
  <dc:creator>Admin</dc:creator>
  <dc:description/>
  <dc:language>en-US</dc:language>
  <cp:lastModifiedBy>Admin</cp:lastModifiedBy>
  <dcterms:modified xsi:type="dcterms:W3CDTF">2010-05-15T14:37:17Z</dcterms:modified>
  <cp:revision>3</cp:revision>
  <dc:subject/>
  <dc:title>Слайд 1</dc:title>
</cp:coreProperties>
</file>