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wmf" ContentType="image/x-wmf"/>
  <Override PartName="/ppt/media/image18.png" ContentType="image/png"/>
  <Override PartName="/ppt/media/type.wav" ContentType="audio/x-wav"/>
  <Override PartName="/ppt/media/image19.png" ContentType="image/png"/>
  <Override PartName="/ppt/media/PROJCTOR.WAV" ContentType="audio/x-wav"/>
  <Override PartName="/ppt/media/image20.png" ContentType="image/png"/>
  <Override PartName="/ppt/media/hammer.wav" ContentType="audio/x-wav"/>
  <Override PartName="/ppt/media/CashReg.wav" ContentType="audio/x-wav"/>
  <Override PartName="/ppt/media/image23.wmf" ContentType="image/x-wmf"/>
  <Override PartName="/ppt/media/image15.png" ContentType="image/png"/>
  <Override PartName="/ppt/media/DrumRoll.wav" ContentType="audio/x-wav"/>
  <Override PartName="/ppt/media/image24.wmf" ContentType="image/x-wmf"/>
  <Override PartName="/ppt/media/image7.png" ContentType="image/png"/>
  <Override PartName="/ppt/media/image8.png" ContentType="image/png"/>
  <Override PartName="/ppt/media/image16.wmf" ContentType="image/x-wmf"/>
  <Override PartName="/ppt/media/image25.png" ContentType="image/png"/>
  <Override PartName="/ppt/media/image2.png" ContentType="image/png"/>
  <Override PartName="/ppt/media/image10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30.wmf" ContentType="image/x-wmf"/>
  <Override PartName="/ppt/media/image5.wmf" ContentType="image/x-wmf"/>
  <Override PartName="/ppt/media/image9.wmf" ContentType="image/x-wmf"/>
  <Override PartName="/ppt/media/Clap.wav" ContentType="audio/x-wav"/>
  <Override PartName="/ppt/media/image26.wmf" ContentType="image/x-wmf"/>
  <Override PartName="/ppt/media/image3.wmf" ContentType="image/x-wmf"/>
  <Override PartName="/ppt/media/Laser.wav" ContentType="audio/x-wav"/>
  <Override PartName="/ppt/media/image6.png" ContentType="image/png"/>
  <Override PartName="/ppt/media/image14.wmf" ContentType="image/x-wmf"/>
  <Override PartName="/ppt/media/image29.wmf" ContentType="image/x-wmf"/>
  <Override PartName="/ppt/media/image1.png" ContentType="image/png"/>
  <Override PartName="/ppt/media/image11.wmf" ContentType="image/x-wmf"/>
  <Override PartName="/ppt/media/Chimes.wav" ContentType="audio/x-wav"/>
  <Override PartName="/ppt/media/image12.wmf" ContentType="image/x-wmf"/>
  <Override PartName="/ppt/media/image13.png" ContentType="image/png"/>
  <Override PartName="/ppt/media/CAMERA.WAV" ContentType="audio/x-wav"/>
  <Override PartName="/ppt/media/APPLAUSE.WAV" ContentType="audio/x-wav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43A5-508A-4552-8DD8-8266D69B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B70-11EA-4762-AB34-23849440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3B6-E517-40BB-99AC-4E60D44D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464-9181-4922-A4C9-39D6290B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A13-066D-4C2C-A4CE-789DBD66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EC7B-90C4-4F5F-BEB9-0401C1CC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055-70BB-432B-A00D-D17230B7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ACB-56FD-4BD6-B4E7-7C296034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C8E-CFD4-4580-84DA-8E0F50C5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95A-27A8-4613-9DCF-D03F4CAA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BCE-1C6F-4872-B7BF-1A3D31ED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AC9-831B-4D10-B565-264ACAAE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90A1-DEEE-4631-9758-EFD15B494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wm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" Target="slide1.xml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audio" Target="../media/Chimes.wav"/><Relationship Id="rId6" Type="http://schemas.openxmlformats.org/officeDocument/2006/relationships/audio" Target="../media/Clap.wav"/><Relationship Id="rId7" Type="http://schemas.openxmlformats.org/officeDocument/2006/relationships/audio" Target="../media/Chimes.wav"/><Relationship Id="rId8" Type="http://schemas.openxmlformats.org/officeDocument/2006/relationships/audio" Target="../media/Clap.wav"/><Relationship Id="rId9" Type="http://schemas.openxmlformats.org/officeDocument/2006/relationships/audio" Target="../media/Chimes.wav"/><Relationship Id="rId10" Type="http://schemas.openxmlformats.org/officeDocument/2006/relationships/audio" Target="../media/Clap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audio" Target="../media/hammer.wav"/><Relationship Id="rId4" Type="http://schemas.openxmlformats.org/officeDocument/2006/relationships/audio" Target="../media/PROJCTO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" Target="slide1.xml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" Target="slide1.xml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wmf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19320" y="685800"/>
            <a:ext cx="6553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8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вузначные числ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205640" y="2924280"/>
            <a:ext cx="6971400" cy="581400"/>
            <a:chOff x="1205640" y="2924280"/>
            <a:chExt cx="6971400" cy="581400"/>
          </a:xfrm>
        </p:grpSpPr>
        <p:sp>
          <p:nvSpPr>
            <p:cNvPr id="44" name="">
              <a:hlinkClick r:id="rId2" action="ppaction://hlinksldjump"/>
            </p:cNvPr>
            <p:cNvSpPr/>
            <p:nvPr/>
          </p:nvSpPr>
          <p:spPr>
            <a:xfrm>
              <a:off x="7667640" y="2995560"/>
              <a:ext cx="509400" cy="304920"/>
            </a:xfrm>
            <a:custGeom>
              <a:avLst/>
              <a:gdLst>
                <a:gd name="textAreaLeft" fmla="*/ 19440 w 509400"/>
                <a:gd name="textAreaRight" fmla="*/ 489960 w 50940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36068" h="21600">
                  <a:moveTo>
                    <a:pt x="0" y="0"/>
                  </a:moveTo>
                  <a:lnTo>
                    <a:pt x="36068" y="0"/>
                  </a:lnTo>
                  <a:lnTo>
                    <a:pt x="36068" y="21600"/>
                  </a:lnTo>
                  <a:lnTo>
                    <a:pt x="0" y="21600"/>
                  </a:lnTo>
                  <a:close/>
                </a:path>
                <a:path fill="lightenLess" w="36068" h="21600">
                  <a:moveTo>
                    <a:pt x="0" y="0"/>
                  </a:moveTo>
                  <a:lnTo>
                    <a:pt x="36068" y="0"/>
                  </a:lnTo>
                  <a:lnTo>
                    <a:pt x="34668" y="1400"/>
                  </a:lnTo>
                  <a:lnTo>
                    <a:pt x="1400" y="1400"/>
                  </a:lnTo>
                  <a:close/>
                </a:path>
                <a:path fill="darken" w="36068" h="21600">
                  <a:moveTo>
                    <a:pt x="36068" y="0"/>
                  </a:moveTo>
                  <a:lnTo>
                    <a:pt x="36068" y="21600"/>
                  </a:lnTo>
                  <a:lnTo>
                    <a:pt x="34668" y="20200"/>
                  </a:lnTo>
                  <a:lnTo>
                    <a:pt x="34668" y="1400"/>
                  </a:lnTo>
                  <a:close/>
                </a:path>
                <a:path fill="darkenLess" w="36068" h="21600">
                  <a:moveTo>
                    <a:pt x="360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668" y="20200"/>
                  </a:lnTo>
                  <a:close/>
                </a:path>
                <a:path fill="lighten" w="360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6068" h="21600">
                  <a:moveTo>
                    <a:pt x="11027" y="3794"/>
                  </a:moveTo>
                  <a:lnTo>
                    <a:pt x="25040" y="10800"/>
                  </a:lnTo>
                  <a:lnTo>
                    <a:pt x="11027" y="1780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05640" y="2924280"/>
              <a:ext cx="208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ДЕСЯТО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1127880" y="3860640"/>
            <a:ext cx="6973200" cy="581400"/>
            <a:chOff x="1127880" y="3860640"/>
            <a:chExt cx="6973200" cy="581400"/>
          </a:xfrm>
        </p:grpSpPr>
        <p:sp>
          <p:nvSpPr>
            <p:cNvPr id="47" name="">
              <a:hlinkClick r:id="rId3" action="ppaction://hlinksldjump"/>
            </p:cNvPr>
            <p:cNvSpPr/>
            <p:nvPr/>
          </p:nvSpPr>
          <p:spPr>
            <a:xfrm>
              <a:off x="7596360" y="4005360"/>
              <a:ext cx="504720" cy="304560"/>
            </a:xfrm>
            <a:custGeom>
              <a:avLst/>
              <a:gdLst>
                <a:gd name="textAreaLeft" fmla="*/ 19440 w 504720"/>
                <a:gd name="textAreaRight" fmla="*/ 485280 w 504720"/>
                <a:gd name="textAreaTop" fmla="*/ 19440 h 304560"/>
                <a:gd name="textAreaBottom" fmla="*/ 285120 h 304560"/>
              </a:gdLst>
              <a:ahLst/>
              <a:rect l="textAreaLeft" t="textAreaTop" r="textAreaRight" b="textAreaBottom"/>
              <a:pathLst>
                <a:path w="35779" h="21600">
                  <a:moveTo>
                    <a:pt x="0" y="0"/>
                  </a:moveTo>
                  <a:lnTo>
                    <a:pt x="35779" y="0"/>
                  </a:lnTo>
                  <a:lnTo>
                    <a:pt x="35779" y="21600"/>
                  </a:lnTo>
                  <a:lnTo>
                    <a:pt x="0" y="21600"/>
                  </a:lnTo>
                  <a:close/>
                </a:path>
                <a:path fill="lightenLess" w="35779" h="21600">
                  <a:moveTo>
                    <a:pt x="0" y="0"/>
                  </a:moveTo>
                  <a:lnTo>
                    <a:pt x="35779" y="0"/>
                  </a:lnTo>
                  <a:lnTo>
                    <a:pt x="34379" y="1400"/>
                  </a:lnTo>
                  <a:lnTo>
                    <a:pt x="1400" y="1400"/>
                  </a:lnTo>
                  <a:close/>
                </a:path>
                <a:path fill="darken" w="35779" h="21600">
                  <a:moveTo>
                    <a:pt x="35779" y="0"/>
                  </a:moveTo>
                  <a:lnTo>
                    <a:pt x="35779" y="21600"/>
                  </a:lnTo>
                  <a:lnTo>
                    <a:pt x="34379" y="20200"/>
                  </a:lnTo>
                  <a:lnTo>
                    <a:pt x="34379" y="1400"/>
                  </a:lnTo>
                  <a:close/>
                </a:path>
                <a:path fill="darkenLess" w="35779" h="21600">
                  <a:moveTo>
                    <a:pt x="3577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379" y="20200"/>
                  </a:lnTo>
                  <a:close/>
                </a:path>
                <a:path fill="lighten" w="3577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779" h="21600">
                  <a:moveTo>
                    <a:pt x="10883" y="3794"/>
                  </a:moveTo>
                  <a:lnTo>
                    <a:pt x="24896" y="10800"/>
                  </a:lnTo>
                  <a:lnTo>
                    <a:pt x="10883" y="1780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127880" y="3860640"/>
              <a:ext cx="36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КРУГЛЫЕ ЧИСЛ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168920" y="4724280"/>
            <a:ext cx="6960240" cy="581400"/>
            <a:chOff x="1168920" y="4724280"/>
            <a:chExt cx="6960240" cy="581400"/>
          </a:xfrm>
        </p:grpSpPr>
        <p:sp>
          <p:nvSpPr>
            <p:cNvPr id="50" name="">
              <a:hlinkClick r:id="rId4" action="ppaction://hlinksldjump"/>
            </p:cNvPr>
            <p:cNvSpPr/>
            <p:nvPr/>
          </p:nvSpPr>
          <p:spPr>
            <a:xfrm>
              <a:off x="7596000" y="4869000"/>
              <a:ext cx="533160" cy="304560"/>
            </a:xfrm>
            <a:custGeom>
              <a:avLst/>
              <a:gdLst>
                <a:gd name="textAreaLeft" fmla="*/ 19440 w 533160"/>
                <a:gd name="textAreaRight" fmla="*/ 513720 w 533160"/>
                <a:gd name="textAreaTop" fmla="*/ 19440 h 304560"/>
                <a:gd name="textAreaBottom" fmla="*/ 285120 h 304560"/>
              </a:gdLst>
              <a:ahLst/>
              <a:rect l="textAreaLeft" t="textAreaTop" r="textAreaRight" b="textAreaBottom"/>
              <a:pathLst>
                <a:path w="37794" h="21600">
                  <a:moveTo>
                    <a:pt x="0" y="0"/>
                  </a:moveTo>
                  <a:lnTo>
                    <a:pt x="37794" y="0"/>
                  </a:lnTo>
                  <a:lnTo>
                    <a:pt x="37794" y="21600"/>
                  </a:lnTo>
                  <a:lnTo>
                    <a:pt x="0" y="21600"/>
                  </a:lnTo>
                  <a:close/>
                </a:path>
                <a:path fill="lightenLess" w="37794" h="21600">
                  <a:moveTo>
                    <a:pt x="0" y="0"/>
                  </a:moveTo>
                  <a:lnTo>
                    <a:pt x="37794" y="0"/>
                  </a:lnTo>
                  <a:lnTo>
                    <a:pt x="36394" y="1400"/>
                  </a:lnTo>
                  <a:lnTo>
                    <a:pt x="1400" y="1400"/>
                  </a:lnTo>
                  <a:close/>
                </a:path>
                <a:path fill="darken" w="37794" h="21600">
                  <a:moveTo>
                    <a:pt x="37794" y="0"/>
                  </a:moveTo>
                  <a:lnTo>
                    <a:pt x="37794" y="21600"/>
                  </a:lnTo>
                  <a:lnTo>
                    <a:pt x="36394" y="20200"/>
                  </a:lnTo>
                  <a:lnTo>
                    <a:pt x="36394" y="1400"/>
                  </a:lnTo>
                  <a:close/>
                </a:path>
                <a:path fill="darkenLess" w="37794" h="21600">
                  <a:moveTo>
                    <a:pt x="377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394" y="20200"/>
                  </a:lnTo>
                  <a:close/>
                </a:path>
                <a:path fill="lighten" w="377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7794" h="21600">
                  <a:moveTo>
                    <a:pt x="11890" y="3794"/>
                  </a:moveTo>
                  <a:lnTo>
                    <a:pt x="25903" y="10800"/>
                  </a:lnTo>
                  <a:lnTo>
                    <a:pt x="11890" y="1780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68920" y="4724280"/>
              <a:ext cx="569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ЧИСЛА ВТОРОГО ДЕСЯТК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189800" y="5661000"/>
            <a:ext cx="6939360" cy="581400"/>
            <a:chOff x="1189800" y="5661000"/>
            <a:chExt cx="6939360" cy="581400"/>
          </a:xfrm>
        </p:grpSpPr>
        <p:sp>
          <p:nvSpPr>
            <p:cNvPr id="53" name="">
              <a:hlinkClick r:id="rId5" action="ppaction://hlinksldjump"/>
            </p:cNvPr>
            <p:cNvSpPr/>
            <p:nvPr/>
          </p:nvSpPr>
          <p:spPr>
            <a:xfrm>
              <a:off x="7596000" y="5661000"/>
              <a:ext cx="533160" cy="304560"/>
            </a:xfrm>
            <a:custGeom>
              <a:avLst/>
              <a:gdLst>
                <a:gd name="textAreaLeft" fmla="*/ 19440 w 533160"/>
                <a:gd name="textAreaRight" fmla="*/ 513720 w 533160"/>
                <a:gd name="textAreaTop" fmla="*/ 19440 h 304560"/>
                <a:gd name="textAreaBottom" fmla="*/ 285120 h 304560"/>
              </a:gdLst>
              <a:ahLst/>
              <a:rect l="textAreaLeft" t="textAreaTop" r="textAreaRight" b="textAreaBottom"/>
              <a:pathLst>
                <a:path w="37794" h="21600">
                  <a:moveTo>
                    <a:pt x="0" y="0"/>
                  </a:moveTo>
                  <a:lnTo>
                    <a:pt x="37794" y="0"/>
                  </a:lnTo>
                  <a:lnTo>
                    <a:pt x="37794" y="21600"/>
                  </a:lnTo>
                  <a:lnTo>
                    <a:pt x="0" y="21600"/>
                  </a:lnTo>
                  <a:close/>
                </a:path>
                <a:path fill="lightenLess" w="37794" h="21600">
                  <a:moveTo>
                    <a:pt x="0" y="0"/>
                  </a:moveTo>
                  <a:lnTo>
                    <a:pt x="37794" y="0"/>
                  </a:lnTo>
                  <a:lnTo>
                    <a:pt x="36394" y="1400"/>
                  </a:lnTo>
                  <a:lnTo>
                    <a:pt x="1400" y="1400"/>
                  </a:lnTo>
                  <a:close/>
                </a:path>
                <a:path fill="darken" w="37794" h="21600">
                  <a:moveTo>
                    <a:pt x="37794" y="0"/>
                  </a:moveTo>
                  <a:lnTo>
                    <a:pt x="37794" y="21600"/>
                  </a:lnTo>
                  <a:lnTo>
                    <a:pt x="36394" y="20200"/>
                  </a:lnTo>
                  <a:lnTo>
                    <a:pt x="36394" y="1400"/>
                  </a:lnTo>
                  <a:close/>
                </a:path>
                <a:path fill="darkenLess" w="37794" h="21600">
                  <a:moveTo>
                    <a:pt x="377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394" y="20200"/>
                  </a:lnTo>
                  <a:close/>
                </a:path>
                <a:path fill="lighten" w="377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7794" h="21600">
                  <a:moveTo>
                    <a:pt x="11890" y="3794"/>
                  </a:moveTo>
                  <a:lnTo>
                    <a:pt x="25903" y="10800"/>
                  </a:lnTo>
                  <a:lnTo>
                    <a:pt x="11890" y="1780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89800" y="5661000"/>
              <a:ext cx="289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ЧИСЛА ОТ 2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514600" y="380880"/>
            <a:ext cx="41911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ребус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20574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00ff"/>
                </a:solidFill>
                <a:latin typeface="Times New Roman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00ff"/>
                </a:solidFill>
                <a:latin typeface="Times New Roman"/>
              </a:rPr>
              <a:t>дцат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236232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1 - оди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н</a:t>
            </a:r>
            <a:r>
              <a:rPr b="0" i="1" lang="en-US" sz="6000" spc="-1" strike="noStrike" u="sng">
                <a:solidFill>
                  <a:srgbClr val="ffffff"/>
                </a:solidFill>
                <a:uFillTx/>
                <a:latin typeface="Times New Roman"/>
              </a:rPr>
              <a:t>н</a:t>
            </a:r>
            <a:r>
              <a:rPr b="0" i="1" lang="en-US" sz="6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дцат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05320" y="4495680"/>
            <a:ext cx="1828800" cy="2210040"/>
            <a:chOff x="3505320" y="4495680"/>
            <a:chExt cx="1828800" cy="221004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3505320" y="4495680"/>
              <a:ext cx="182880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4114800" y="4765680"/>
              <a:ext cx="6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066680" y="34290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А теперь немного исто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836640"/>
            <a:ext cx="830556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Древней Руси вместо чисел использовались буквы, а сверху чертили специальный значок - титло. Вот он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. Например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~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- это 10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 - это 2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3573360"/>
            <a:ext cx="497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Древнем Вавилоне использовали значок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ля обозначения десятка. Число 23 выглядело так -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603576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 римляне записывали десяток так –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435640" y="357336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600200" y="1752480"/>
            <a:ext cx="5943600" cy="1295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467480" y="4800600"/>
            <a:ext cx="1676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0" y="4343400"/>
            <a:ext cx="1752480" cy="2514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1523880" y="1676520"/>
            <a:ext cx="6096240" cy="1371600"/>
          </a:xfrm>
          <a:prstGeom prst="rect">
            <a:avLst/>
          </a:prstGeom>
          <a:ln w="0">
            <a:noFill/>
          </a:ln>
        </p:spPr>
      </p:pic>
      <p:sp>
        <p:nvSpPr>
          <p:cNvPr id="168" name="">
            <a:hlinkClick r:id="rId5" action="ppaction://hlinksldjump"/>
          </p:cNvPr>
          <p:cNvSpPr/>
          <p:nvPr/>
        </p:nvSpPr>
        <p:spPr>
          <a:xfrm>
            <a:off x="8305920" y="3808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600200" y="380880"/>
            <a:ext cx="6172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2700000" blurRad="0" rotWithShape="0">
                    <a:srgbClr val="c0c0c0"/>
                  </a:outerShdw>
                </a:effectLst>
                <a:latin typeface="Impact"/>
              </a:rPr>
              <a:t>числа от 21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07932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301840" y="1679400"/>
            <a:ext cx="4556160" cy="2587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90720" y="4343400"/>
            <a:ext cx="756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звание этих чисел складывается из назван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десятко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и назван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единиц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3 - двадцать + три = двадцать тр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2 - тридцать + два = тридцать д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57400" y="1870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,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057400" y="1828800"/>
          <a:ext cx="5243400" cy="3522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828800"/>
                    <a:ext cx="5243400" cy="35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АЗРЯДНЫЙ СОСТА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410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Любое двузначное число состоит из единиц и десятк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23623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848720" y="2819520"/>
            <a:ext cx="1066680" cy="838080"/>
          </a:xfrm>
          <a:custGeom>
            <a:avLst/>
            <a:gdLst>
              <a:gd name="textAreaLeft" fmla="*/ 243360 w 1066680"/>
              <a:gd name="textAreaRight" fmla="*/ 823320 w 106668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3657600"/>
            <a:ext cx="1296720" cy="995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27160 h 995400"/>
              <a:gd name="textAreaBottom" fmla="*/ 768240 h 99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4365720"/>
            <a:ext cx="1357200" cy="1044360"/>
          </a:xfrm>
          <a:custGeom>
            <a:avLst/>
            <a:gdLst>
              <a:gd name="textAreaLeft" fmla="*/ 309600 w 1357200"/>
              <a:gd name="textAreaRight" fmla="*/ 1047600 w 1357200"/>
              <a:gd name="textAreaTop" fmla="*/ 238320 h 1044360"/>
              <a:gd name="textAreaBottom" fmla="*/ 806040 h 10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987640" y="90792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Запиши числ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39640" y="3933720"/>
            <a:ext cx="4289400" cy="790560"/>
            <a:chOff x="539640" y="3933720"/>
            <a:chExt cx="4289400" cy="790560"/>
          </a:xfrm>
        </p:grpSpPr>
        <p:grpSp>
          <p:nvGrpSpPr>
            <p:cNvPr id="183" name=""/>
            <p:cNvGrpSpPr/>
            <p:nvPr/>
          </p:nvGrpSpPr>
          <p:grpSpPr>
            <a:xfrm>
              <a:off x="3492360" y="3933720"/>
              <a:ext cx="863640" cy="790560"/>
              <a:chOff x="3492360" y="3933720"/>
              <a:chExt cx="863640" cy="790560"/>
            </a:xfrm>
          </p:grpSpPr>
          <p:sp>
            <p:nvSpPr>
              <p:cNvPr id="184" name=""/>
              <p:cNvSpPr/>
              <p:nvPr/>
            </p:nvSpPr>
            <p:spPr>
              <a:xfrm>
                <a:off x="3492360" y="3933720"/>
                <a:ext cx="863640" cy="7905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814560" y="425772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964680" y="425772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79000" y="408276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728520" y="440676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900600" y="440676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051080" y="440676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15520" y="455616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964680" y="455616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793320" y="455616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621600" y="455616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2484360" y="3933720"/>
              <a:ext cx="863640" cy="790560"/>
              <a:chOff x="2484360" y="3933720"/>
              <a:chExt cx="863640" cy="790560"/>
            </a:xfrm>
          </p:grpSpPr>
          <p:sp>
            <p:nvSpPr>
              <p:cNvPr id="196" name=""/>
              <p:cNvSpPr/>
              <p:nvPr/>
            </p:nvSpPr>
            <p:spPr>
              <a:xfrm>
                <a:off x="2484360" y="3933720"/>
                <a:ext cx="863640" cy="7905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06560" y="425772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956680" y="425772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871000" y="408276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720520" y="440676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892600" y="440676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43080" y="440676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107520" y="455616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956680" y="455616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785320" y="455616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613600" y="455616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476000" y="3933720"/>
              <a:ext cx="863640" cy="790560"/>
              <a:chOff x="1476000" y="3933720"/>
              <a:chExt cx="863640" cy="790560"/>
            </a:xfrm>
          </p:grpSpPr>
          <p:sp>
            <p:nvSpPr>
              <p:cNvPr id="208" name=""/>
              <p:cNvSpPr/>
              <p:nvPr/>
            </p:nvSpPr>
            <p:spPr>
              <a:xfrm>
                <a:off x="1476000" y="3933720"/>
                <a:ext cx="863640" cy="7905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98200" y="425772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48320" y="425772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62640" y="408276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712160" y="440676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884240" y="440676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034720" y="440676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099160" y="455616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948320" y="455616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76960" y="455616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5240" y="455616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39640" y="3933720"/>
              <a:ext cx="863640" cy="790560"/>
              <a:chOff x="539640" y="3933720"/>
              <a:chExt cx="863640" cy="790560"/>
            </a:xfrm>
          </p:grpSpPr>
          <p:sp>
            <p:nvSpPr>
              <p:cNvPr id="220" name=""/>
              <p:cNvSpPr/>
              <p:nvPr/>
            </p:nvSpPr>
            <p:spPr>
              <a:xfrm>
                <a:off x="539640" y="3933720"/>
                <a:ext cx="863640" cy="7905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61840" y="425772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011960" y="425772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926280" y="408276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5800" y="440676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947880" y="440676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098360" y="440676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62800" y="455616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011960" y="455616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40600" y="455616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68880" y="455616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4500360" y="4581360"/>
              <a:ext cx="112680" cy="13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16360" y="4581360"/>
              <a:ext cx="112680" cy="13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39640" y="2924280"/>
            <a:ext cx="2633400" cy="790560"/>
            <a:chOff x="539640" y="2924280"/>
            <a:chExt cx="2633400" cy="790560"/>
          </a:xfrm>
        </p:grpSpPr>
        <p:grpSp>
          <p:nvGrpSpPr>
            <p:cNvPr id="234" name=""/>
            <p:cNvGrpSpPr/>
            <p:nvPr/>
          </p:nvGrpSpPr>
          <p:grpSpPr>
            <a:xfrm>
              <a:off x="539640" y="2924280"/>
              <a:ext cx="863280" cy="790560"/>
              <a:chOff x="539640" y="2924280"/>
              <a:chExt cx="863280" cy="790560"/>
            </a:xfrm>
          </p:grpSpPr>
          <p:sp>
            <p:nvSpPr>
              <p:cNvPr id="235" name=""/>
              <p:cNvSpPr/>
              <p:nvPr/>
            </p:nvSpPr>
            <p:spPr>
              <a:xfrm>
                <a:off x="539640" y="2924280"/>
                <a:ext cx="863280" cy="7905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61840" y="324828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011960" y="324828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926280" y="307332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5800" y="339732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947520" y="339732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098000" y="339732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62440" y="354672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11960" y="354672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40600" y="354672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68880" y="354672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1474560" y="2924280"/>
              <a:ext cx="863640" cy="790560"/>
              <a:chOff x="1474560" y="2924280"/>
              <a:chExt cx="863640" cy="790560"/>
            </a:xfrm>
          </p:grpSpPr>
          <p:sp>
            <p:nvSpPr>
              <p:cNvPr id="247" name=""/>
              <p:cNvSpPr/>
              <p:nvPr/>
            </p:nvSpPr>
            <p:spPr>
              <a:xfrm>
                <a:off x="1474560" y="2924280"/>
                <a:ext cx="863640" cy="7905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796760" y="324828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46880" y="324828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61200" y="307332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10720" y="339732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882800" y="339732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033280" y="339732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097720" y="354672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46880" y="354672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775520" y="354672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603800" y="354672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2842920" y="3571920"/>
              <a:ext cx="114480" cy="13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6920" y="3571920"/>
              <a:ext cx="114480" cy="13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58920" y="3571920"/>
              <a:ext cx="114120" cy="13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39640" y="1844640"/>
            <a:ext cx="3929040" cy="790560"/>
            <a:chOff x="539640" y="1844640"/>
            <a:chExt cx="3929040" cy="790560"/>
          </a:xfrm>
        </p:grpSpPr>
        <p:grpSp>
          <p:nvGrpSpPr>
            <p:cNvPr id="262" name=""/>
            <p:cNvGrpSpPr/>
            <p:nvPr/>
          </p:nvGrpSpPr>
          <p:grpSpPr>
            <a:xfrm>
              <a:off x="539640" y="1844640"/>
              <a:ext cx="863640" cy="790560"/>
              <a:chOff x="539640" y="1844640"/>
              <a:chExt cx="863640" cy="790560"/>
            </a:xfrm>
          </p:grpSpPr>
          <p:sp>
            <p:nvSpPr>
              <p:cNvPr id="263" name=""/>
              <p:cNvSpPr/>
              <p:nvPr/>
            </p:nvSpPr>
            <p:spPr>
              <a:xfrm>
                <a:off x="539640" y="1844640"/>
                <a:ext cx="863640" cy="7905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61840" y="216864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11960" y="216864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926280" y="19936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75800" y="231768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947880" y="231768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098360" y="231768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162800" y="246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011960" y="246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40600" y="246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68880" y="246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476360" y="1844640"/>
              <a:ext cx="863640" cy="790560"/>
              <a:chOff x="1476360" y="1844640"/>
              <a:chExt cx="863640" cy="790560"/>
            </a:xfrm>
          </p:grpSpPr>
          <p:sp>
            <p:nvSpPr>
              <p:cNvPr id="275" name=""/>
              <p:cNvSpPr/>
              <p:nvPr/>
            </p:nvSpPr>
            <p:spPr>
              <a:xfrm>
                <a:off x="1476360" y="1844640"/>
                <a:ext cx="863640" cy="7905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798560" y="216864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48680" y="216864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63000" y="19936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712520" y="231768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884600" y="231768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035080" y="231768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99520" y="246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48680" y="246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77320" y="246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605600" y="246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412720" y="1844640"/>
              <a:ext cx="863640" cy="790560"/>
              <a:chOff x="2412720" y="1844640"/>
              <a:chExt cx="863640" cy="790560"/>
            </a:xfrm>
          </p:grpSpPr>
          <p:sp>
            <p:nvSpPr>
              <p:cNvPr id="287" name=""/>
              <p:cNvSpPr/>
              <p:nvPr/>
            </p:nvSpPr>
            <p:spPr>
              <a:xfrm>
                <a:off x="2412720" y="1844640"/>
                <a:ext cx="863640" cy="7905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34920" y="216864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85040" y="216864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799360" y="19936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48880" y="231768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20960" y="231768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71440" y="231768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35880" y="246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885040" y="246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713680" y="246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41960" y="246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4356000" y="2492280"/>
              <a:ext cx="112680" cy="13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24360" y="2492280"/>
              <a:ext cx="114120" cy="13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0000" y="2492280"/>
              <a:ext cx="112680" cy="13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08360" y="2492280"/>
              <a:ext cx="112680" cy="13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92360" y="2492280"/>
              <a:ext cx="114480" cy="13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352680" y="3049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Задание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39640" y="5084640"/>
            <a:ext cx="3354120" cy="790560"/>
            <a:chOff x="539640" y="5084640"/>
            <a:chExt cx="3354120" cy="790560"/>
          </a:xfrm>
        </p:grpSpPr>
        <p:grpSp>
          <p:nvGrpSpPr>
            <p:cNvPr id="305" name=""/>
            <p:cNvGrpSpPr/>
            <p:nvPr/>
          </p:nvGrpSpPr>
          <p:grpSpPr>
            <a:xfrm>
              <a:off x="1476000" y="5084640"/>
              <a:ext cx="863640" cy="790560"/>
              <a:chOff x="1476000" y="5084640"/>
              <a:chExt cx="863640" cy="790560"/>
            </a:xfrm>
          </p:grpSpPr>
          <p:sp>
            <p:nvSpPr>
              <p:cNvPr id="306" name=""/>
              <p:cNvSpPr/>
              <p:nvPr/>
            </p:nvSpPr>
            <p:spPr>
              <a:xfrm>
                <a:off x="1476000" y="5084640"/>
                <a:ext cx="863640" cy="7905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798200" y="540864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948320" y="540864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862640" y="52336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712160" y="555768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884240" y="555768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034720" y="555768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099160" y="570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948320" y="570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776960" y="570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605240" y="570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411280" y="5084640"/>
              <a:ext cx="863640" cy="790560"/>
              <a:chOff x="2411280" y="5084640"/>
              <a:chExt cx="863640" cy="790560"/>
            </a:xfrm>
          </p:grpSpPr>
          <p:sp>
            <p:nvSpPr>
              <p:cNvPr id="318" name=""/>
              <p:cNvSpPr/>
              <p:nvPr/>
            </p:nvSpPr>
            <p:spPr>
              <a:xfrm>
                <a:off x="2411280" y="5084640"/>
                <a:ext cx="863640" cy="7905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733480" y="540864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883600" y="540864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797920" y="52336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647440" y="555768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819520" y="555768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70000" y="555768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34440" y="570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883600" y="570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712240" y="570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540520" y="570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3779640" y="5732280"/>
              <a:ext cx="114120" cy="13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63640" y="5732280"/>
              <a:ext cx="114480" cy="13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539640" y="5084640"/>
              <a:ext cx="863640" cy="790560"/>
              <a:chOff x="539640" y="5084640"/>
              <a:chExt cx="863640" cy="790560"/>
            </a:xfrm>
          </p:grpSpPr>
          <p:sp>
            <p:nvSpPr>
              <p:cNvPr id="332" name=""/>
              <p:cNvSpPr/>
              <p:nvPr/>
            </p:nvSpPr>
            <p:spPr>
              <a:xfrm>
                <a:off x="539640" y="5084640"/>
                <a:ext cx="863640" cy="7905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61840" y="540864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11960" y="540864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926280" y="52336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75800" y="555768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947880" y="555768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098360" y="5557680"/>
                <a:ext cx="113400" cy="1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162800" y="570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011960" y="570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40600" y="570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68880" y="5707080"/>
                <a:ext cx="113400" cy="13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"/>
          <p:cNvSpPr/>
          <p:nvPr/>
        </p:nvSpPr>
        <p:spPr>
          <a:xfrm>
            <a:off x="4859280" y="1916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19640" y="29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400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211640" y="5157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5580000" y="2924280"/>
          <a:ext cx="3263760" cy="1035000"/>
        </p:xfrm>
        <a:graphic>
          <a:graphicData uri="http://schemas.openxmlformats.org/drawingml/2006/table">
            <a:tbl>
              <a:tblPr/>
              <a:tblGrid>
                <a:gridCol w="1633320"/>
                <a:gridCol w="16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сят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диниц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352680" y="3049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Задание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4360" y="90792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Запиши число и нарисуй модел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5280" y="2060640"/>
            <a:ext cx="33116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 дес. 1 ед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 дес. 5 ед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 дес. 6 е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 дес. 6 ед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 дес. 2 ед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35280" y="1989000"/>
            <a:ext cx="720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716360" y="1989000"/>
            <a:ext cx="3237120" cy="576360"/>
            <a:chOff x="4716360" y="1989000"/>
            <a:chExt cx="3237120" cy="576360"/>
          </a:xfrm>
        </p:grpSpPr>
        <p:grpSp>
          <p:nvGrpSpPr>
            <p:cNvPr id="353" name=""/>
            <p:cNvGrpSpPr/>
            <p:nvPr/>
          </p:nvGrpSpPr>
          <p:grpSpPr>
            <a:xfrm>
              <a:off x="6012000" y="1989000"/>
              <a:ext cx="546120" cy="576360"/>
              <a:chOff x="6012000" y="1989000"/>
              <a:chExt cx="546120" cy="576360"/>
            </a:xfrm>
          </p:grpSpPr>
          <p:sp>
            <p:nvSpPr>
              <p:cNvPr id="354" name=""/>
              <p:cNvSpPr/>
              <p:nvPr/>
            </p:nvSpPr>
            <p:spPr>
              <a:xfrm>
                <a:off x="6012000" y="1989000"/>
                <a:ext cx="5461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215760" y="222516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310800" y="222516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256440" y="209772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161400" y="2333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70120" y="2333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65160" y="2333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406200" y="2442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310800" y="2442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202440" y="2442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093720" y="2442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605640" y="1989000"/>
              <a:ext cx="546120" cy="576360"/>
              <a:chOff x="6605640" y="1989000"/>
              <a:chExt cx="546120" cy="576360"/>
            </a:xfrm>
          </p:grpSpPr>
          <p:sp>
            <p:nvSpPr>
              <p:cNvPr id="366" name=""/>
              <p:cNvSpPr/>
              <p:nvPr/>
            </p:nvSpPr>
            <p:spPr>
              <a:xfrm>
                <a:off x="6605640" y="1989000"/>
                <a:ext cx="5461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809400" y="222516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904440" y="222516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850080" y="209772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755040" y="2333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863760" y="2333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958800" y="2333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999840" y="2442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04440" y="2442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796080" y="2442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687360" y="2442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7197840" y="1989000"/>
              <a:ext cx="547560" cy="576360"/>
              <a:chOff x="7197840" y="1989000"/>
              <a:chExt cx="547560" cy="576360"/>
            </a:xfrm>
          </p:grpSpPr>
          <p:sp>
            <p:nvSpPr>
              <p:cNvPr id="378" name=""/>
              <p:cNvSpPr/>
              <p:nvPr/>
            </p:nvSpPr>
            <p:spPr>
              <a:xfrm>
                <a:off x="7197840" y="1989000"/>
                <a:ext cx="54756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402320" y="2225160"/>
                <a:ext cx="7200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497360" y="2225160"/>
                <a:ext cx="7200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443000" y="2097720"/>
                <a:ext cx="7200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347600" y="2333880"/>
                <a:ext cx="7200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456680" y="2333880"/>
                <a:ext cx="7200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552080" y="2333880"/>
                <a:ext cx="7200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593120" y="2442960"/>
                <a:ext cx="7200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497360" y="2442960"/>
                <a:ext cx="7200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388640" y="2442960"/>
                <a:ext cx="7200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79560" y="2442960"/>
                <a:ext cx="7200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7881840" y="2460600"/>
              <a:ext cx="71640" cy="9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5364000" y="1989000"/>
              <a:ext cx="546120" cy="576360"/>
              <a:chOff x="5364000" y="1989000"/>
              <a:chExt cx="546120" cy="576360"/>
            </a:xfrm>
          </p:grpSpPr>
          <p:sp>
            <p:nvSpPr>
              <p:cNvPr id="391" name=""/>
              <p:cNvSpPr/>
              <p:nvPr/>
            </p:nvSpPr>
            <p:spPr>
              <a:xfrm>
                <a:off x="5364000" y="1989000"/>
                <a:ext cx="5461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567760" y="222516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662800" y="222516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608440" y="209772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513400" y="2333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622120" y="2333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17160" y="2333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758200" y="2442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62800" y="2442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554440" y="2442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445720" y="2442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4716360" y="1989000"/>
              <a:ext cx="546120" cy="576360"/>
              <a:chOff x="4716360" y="1989000"/>
              <a:chExt cx="546120" cy="57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716360" y="1989000"/>
                <a:ext cx="5461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920120" y="222516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015160" y="222516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960800" y="209772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865760" y="2333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974480" y="2333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069520" y="2333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110560" y="2442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015160" y="2442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906800" y="2442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98080" y="2442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4643280" y="2997360"/>
            <a:ext cx="1295640" cy="599760"/>
            <a:chOff x="4643280" y="2997360"/>
            <a:chExt cx="1295640" cy="599760"/>
          </a:xfrm>
        </p:grpSpPr>
        <p:sp>
          <p:nvSpPr>
            <p:cNvPr id="415" name=""/>
            <p:cNvSpPr/>
            <p:nvPr/>
          </p:nvSpPr>
          <p:spPr>
            <a:xfrm>
              <a:off x="5702400" y="3500280"/>
              <a:ext cx="71280" cy="9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29160" y="3500280"/>
              <a:ext cx="71640" cy="9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65600" y="3500280"/>
              <a:ext cx="71640" cy="9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92720" y="3500280"/>
              <a:ext cx="71280" cy="9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4643280" y="2997360"/>
              <a:ext cx="546120" cy="576000"/>
              <a:chOff x="4643280" y="2997360"/>
              <a:chExt cx="546120" cy="57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643280" y="2997360"/>
                <a:ext cx="546120" cy="5760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847040" y="323316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942080" y="323316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887720" y="31060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92680" y="334224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901400" y="334224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996440" y="334224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037480" y="345096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942080" y="345096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833720" y="345096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25000" y="345096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867280" y="3500280"/>
              <a:ext cx="71640" cy="9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572000" y="4797360"/>
            <a:ext cx="1800360" cy="600120"/>
            <a:chOff x="4572000" y="4797360"/>
            <a:chExt cx="1800360" cy="600120"/>
          </a:xfrm>
        </p:grpSpPr>
        <p:sp>
          <p:nvSpPr>
            <p:cNvPr id="433" name=""/>
            <p:cNvSpPr/>
            <p:nvPr/>
          </p:nvSpPr>
          <p:spPr>
            <a:xfrm>
              <a:off x="5867280" y="5300640"/>
              <a:ext cx="71640" cy="9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84720" y="5157720"/>
              <a:ext cx="71640" cy="9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40360" y="5157720"/>
              <a:ext cx="71640" cy="95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00720" y="5300640"/>
              <a:ext cx="71640" cy="95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56360" y="5300640"/>
              <a:ext cx="71280" cy="95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12000" y="5300640"/>
              <a:ext cx="72720" cy="95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5219640" y="4797360"/>
              <a:ext cx="546120" cy="576360"/>
              <a:chOff x="5219640" y="4797360"/>
              <a:chExt cx="546120" cy="576360"/>
            </a:xfrm>
          </p:grpSpPr>
          <p:sp>
            <p:nvSpPr>
              <p:cNvPr id="440" name=""/>
              <p:cNvSpPr/>
              <p:nvPr/>
            </p:nvSpPr>
            <p:spPr>
              <a:xfrm>
                <a:off x="5219640" y="4797360"/>
                <a:ext cx="5461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23400" y="503352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18440" y="503352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464080" y="490608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369040" y="514224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477760" y="514224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572800" y="514224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613840" y="525132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518440" y="525132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410080" y="525132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301360" y="525132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4572000" y="4797360"/>
              <a:ext cx="546120" cy="576360"/>
              <a:chOff x="4572000" y="4797360"/>
              <a:chExt cx="546120" cy="576360"/>
            </a:xfrm>
          </p:grpSpPr>
          <p:sp>
            <p:nvSpPr>
              <p:cNvPr id="452" name=""/>
              <p:cNvSpPr/>
              <p:nvPr/>
            </p:nvSpPr>
            <p:spPr>
              <a:xfrm>
                <a:off x="4572000" y="4797360"/>
                <a:ext cx="5461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775760" y="503352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70800" y="503352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816440" y="490608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721400" y="514224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830120" y="514224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25160" y="514224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66200" y="525132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870800" y="525132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762440" y="525132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653720" y="525132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3" name=""/>
          <p:cNvGrpSpPr/>
          <p:nvPr/>
        </p:nvGrpSpPr>
        <p:grpSpPr>
          <a:xfrm>
            <a:off x="4572000" y="3860640"/>
            <a:ext cx="4319640" cy="576360"/>
            <a:chOff x="4572000" y="3860640"/>
            <a:chExt cx="4319640" cy="576360"/>
          </a:xfrm>
        </p:grpSpPr>
        <p:grpSp>
          <p:nvGrpSpPr>
            <p:cNvPr id="464" name=""/>
            <p:cNvGrpSpPr/>
            <p:nvPr/>
          </p:nvGrpSpPr>
          <p:grpSpPr>
            <a:xfrm>
              <a:off x="5724360" y="3860640"/>
              <a:ext cx="546120" cy="576360"/>
              <a:chOff x="5724360" y="3860640"/>
              <a:chExt cx="546120" cy="576360"/>
            </a:xfrm>
          </p:grpSpPr>
          <p:sp>
            <p:nvSpPr>
              <p:cNvPr id="465" name=""/>
              <p:cNvSpPr/>
              <p:nvPr/>
            </p:nvSpPr>
            <p:spPr>
              <a:xfrm>
                <a:off x="5724360" y="3860640"/>
                <a:ext cx="5461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928120" y="409680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023160" y="409680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968800" y="39693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873760" y="420552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982480" y="420552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077520" y="420552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118560" y="431460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023160" y="431460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914800" y="431460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06080" y="431460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6300720" y="3860640"/>
              <a:ext cx="546120" cy="576360"/>
              <a:chOff x="6300720" y="3860640"/>
              <a:chExt cx="546120" cy="576360"/>
            </a:xfrm>
          </p:grpSpPr>
          <p:sp>
            <p:nvSpPr>
              <p:cNvPr id="477" name=""/>
              <p:cNvSpPr/>
              <p:nvPr/>
            </p:nvSpPr>
            <p:spPr>
              <a:xfrm>
                <a:off x="6300720" y="3860640"/>
                <a:ext cx="5461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504480" y="409680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599520" y="409680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545160" y="39693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50120" y="420552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558840" y="420552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653880" y="420552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694920" y="431460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599520" y="431460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491160" y="431460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382440" y="431460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6877080" y="3860640"/>
              <a:ext cx="547560" cy="576360"/>
              <a:chOff x="6877080" y="3860640"/>
              <a:chExt cx="547560" cy="576360"/>
            </a:xfrm>
          </p:grpSpPr>
          <p:sp>
            <p:nvSpPr>
              <p:cNvPr id="489" name=""/>
              <p:cNvSpPr/>
              <p:nvPr/>
            </p:nvSpPr>
            <p:spPr>
              <a:xfrm>
                <a:off x="6877080" y="3860640"/>
                <a:ext cx="54756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081560" y="4096800"/>
                <a:ext cx="7200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176600" y="4096800"/>
                <a:ext cx="7200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122240" y="3969360"/>
                <a:ext cx="7200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026840" y="4205520"/>
                <a:ext cx="7200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35920" y="4205520"/>
                <a:ext cx="7200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231320" y="4205520"/>
                <a:ext cx="7200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272360" y="4314600"/>
                <a:ext cx="7200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176600" y="4314600"/>
                <a:ext cx="7200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67880" y="4314600"/>
                <a:ext cx="7200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958800" y="4314600"/>
                <a:ext cx="7200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5148360" y="3860640"/>
              <a:ext cx="546120" cy="576360"/>
              <a:chOff x="5148360" y="3860640"/>
              <a:chExt cx="546120" cy="576360"/>
            </a:xfrm>
          </p:grpSpPr>
          <p:sp>
            <p:nvSpPr>
              <p:cNvPr id="501" name=""/>
              <p:cNvSpPr/>
              <p:nvPr/>
            </p:nvSpPr>
            <p:spPr>
              <a:xfrm>
                <a:off x="5148360" y="3860640"/>
                <a:ext cx="5461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52120" y="409680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447160" y="409680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92800" y="39693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297760" y="420552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406480" y="420552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501520" y="420552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542560" y="431460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447160" y="431460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38800" y="431460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230080" y="431460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4572000" y="3860640"/>
              <a:ext cx="546120" cy="576360"/>
              <a:chOff x="4572000" y="3860640"/>
              <a:chExt cx="546120" cy="576360"/>
            </a:xfrm>
          </p:grpSpPr>
          <p:sp>
            <p:nvSpPr>
              <p:cNvPr id="513" name=""/>
              <p:cNvSpPr/>
              <p:nvPr/>
            </p:nvSpPr>
            <p:spPr>
              <a:xfrm>
                <a:off x="4572000" y="3860640"/>
                <a:ext cx="5461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775760" y="409680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870800" y="409680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816440" y="39693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721400" y="420552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30120" y="420552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925160" y="420552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966200" y="431460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870800" y="431460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762440" y="431460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53720" y="431460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8675640" y="4149720"/>
              <a:ext cx="71640" cy="95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604360" y="4005360"/>
              <a:ext cx="73080" cy="95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820000" y="3860640"/>
              <a:ext cx="71640" cy="95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675640" y="3860640"/>
              <a:ext cx="71640" cy="95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532720" y="3860640"/>
              <a:ext cx="71640" cy="9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748720" y="4005360"/>
              <a:ext cx="71280" cy="9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8028000" y="3860640"/>
              <a:ext cx="547560" cy="576360"/>
              <a:chOff x="8028000" y="3860640"/>
              <a:chExt cx="547560" cy="576360"/>
            </a:xfrm>
          </p:grpSpPr>
          <p:sp>
            <p:nvSpPr>
              <p:cNvPr id="531" name=""/>
              <p:cNvSpPr/>
              <p:nvPr/>
            </p:nvSpPr>
            <p:spPr>
              <a:xfrm>
                <a:off x="8028000" y="3860640"/>
                <a:ext cx="54756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232480" y="4096800"/>
                <a:ext cx="7200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327520" y="4096800"/>
                <a:ext cx="7200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273160" y="3969360"/>
                <a:ext cx="7200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177760" y="4205520"/>
                <a:ext cx="7200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286840" y="4205520"/>
                <a:ext cx="7200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382240" y="4205520"/>
                <a:ext cx="7200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423280" y="4314600"/>
                <a:ext cx="7200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327520" y="4314600"/>
                <a:ext cx="7200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218800" y="4314600"/>
                <a:ext cx="7200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109720" y="4314600"/>
                <a:ext cx="7200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7451640" y="3860640"/>
              <a:ext cx="547920" cy="576360"/>
              <a:chOff x="7451640" y="3860640"/>
              <a:chExt cx="547920" cy="576360"/>
            </a:xfrm>
          </p:grpSpPr>
          <p:sp>
            <p:nvSpPr>
              <p:cNvPr id="543" name=""/>
              <p:cNvSpPr/>
              <p:nvPr/>
            </p:nvSpPr>
            <p:spPr>
              <a:xfrm>
                <a:off x="7451640" y="3860640"/>
                <a:ext cx="5479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656120" y="4096800"/>
                <a:ext cx="7200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751520" y="4096800"/>
                <a:ext cx="7200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697160" y="3969360"/>
                <a:ext cx="7200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601400" y="4205520"/>
                <a:ext cx="7200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710480" y="4205520"/>
                <a:ext cx="7200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806240" y="4205520"/>
                <a:ext cx="7200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846920" y="4314600"/>
                <a:ext cx="7200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751520" y="4314600"/>
                <a:ext cx="7200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642800" y="4314600"/>
                <a:ext cx="7200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533360" y="4314600"/>
                <a:ext cx="7200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4" name=""/>
          <p:cNvGrpSpPr/>
          <p:nvPr/>
        </p:nvGrpSpPr>
        <p:grpSpPr>
          <a:xfrm>
            <a:off x="4572000" y="5661000"/>
            <a:ext cx="2808360" cy="576360"/>
            <a:chOff x="4572000" y="5661000"/>
            <a:chExt cx="2808360" cy="576360"/>
          </a:xfrm>
        </p:grpSpPr>
        <p:sp>
          <p:nvSpPr>
            <p:cNvPr id="555" name=""/>
            <p:cNvSpPr/>
            <p:nvPr/>
          </p:nvSpPr>
          <p:spPr>
            <a:xfrm>
              <a:off x="7308720" y="6093000"/>
              <a:ext cx="71640" cy="9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5867280" y="5661000"/>
              <a:ext cx="546120" cy="576360"/>
              <a:chOff x="5867280" y="5661000"/>
              <a:chExt cx="546120" cy="576360"/>
            </a:xfrm>
          </p:grpSpPr>
          <p:sp>
            <p:nvSpPr>
              <p:cNvPr id="557" name=""/>
              <p:cNvSpPr/>
              <p:nvPr/>
            </p:nvSpPr>
            <p:spPr>
              <a:xfrm>
                <a:off x="5867280" y="5661000"/>
                <a:ext cx="5461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071040" y="589716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166080" y="589716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11720" y="576972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016680" y="6005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25400" y="6005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220440" y="6005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261480" y="6114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166080" y="6114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57720" y="6114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949000" y="6114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6461280" y="5661000"/>
              <a:ext cx="546120" cy="576360"/>
              <a:chOff x="6461280" y="5661000"/>
              <a:chExt cx="546120" cy="576360"/>
            </a:xfrm>
          </p:grpSpPr>
          <p:sp>
            <p:nvSpPr>
              <p:cNvPr id="569" name=""/>
              <p:cNvSpPr/>
              <p:nvPr/>
            </p:nvSpPr>
            <p:spPr>
              <a:xfrm>
                <a:off x="6461280" y="5661000"/>
                <a:ext cx="5461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665040" y="589716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760080" y="589716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705720" y="576972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610680" y="6005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719400" y="6005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814440" y="6005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855480" y="6114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760080" y="6114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651720" y="6114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543000" y="6114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7093080" y="6093000"/>
              <a:ext cx="71280" cy="9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5219640" y="5661000"/>
              <a:ext cx="546120" cy="576360"/>
              <a:chOff x="5219640" y="5661000"/>
              <a:chExt cx="546120" cy="576360"/>
            </a:xfrm>
          </p:grpSpPr>
          <p:sp>
            <p:nvSpPr>
              <p:cNvPr id="582" name=""/>
              <p:cNvSpPr/>
              <p:nvPr/>
            </p:nvSpPr>
            <p:spPr>
              <a:xfrm>
                <a:off x="5219640" y="5661000"/>
                <a:ext cx="5461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3400" y="589716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518440" y="589716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64080" y="576972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369040" y="6005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77760" y="6005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572800" y="6005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613840" y="6114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518440" y="6114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10080" y="6114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301360" y="6114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4572000" y="5661000"/>
              <a:ext cx="546120" cy="576360"/>
              <a:chOff x="4572000" y="5661000"/>
              <a:chExt cx="546120" cy="576360"/>
            </a:xfrm>
          </p:grpSpPr>
          <p:sp>
            <p:nvSpPr>
              <p:cNvPr id="594" name=""/>
              <p:cNvSpPr/>
              <p:nvPr/>
            </p:nvSpPr>
            <p:spPr>
              <a:xfrm>
                <a:off x="4572000" y="5661000"/>
                <a:ext cx="5461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775760" y="589716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870800" y="589716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816440" y="576972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721400" y="6005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830120" y="6005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925160" y="6005880"/>
                <a:ext cx="71640" cy="95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966200" y="6114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870800" y="6114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762440" y="6114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653720" y="6114960"/>
                <a:ext cx="71640" cy="96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2590920" y="380880"/>
            <a:ext cx="4267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загадки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8680" y="1557360"/>
            <a:ext cx="468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3 богатыря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разлучные друзь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який раз мы их встреча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гда книжечку чита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750960" cy="53316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1547640" y="3645000"/>
            <a:ext cx="781200" cy="78084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2268360" y="3141720"/>
            <a:ext cx="379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 12 братьев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мый меньш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ичего не поделаешь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дился та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589440" y="1700280"/>
            <a:ext cx="16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бук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72360" y="299736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феврал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979640" y="4797360"/>
            <a:ext cx="619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красных холмах 30 белых ко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уг другу навстречу помчатся скор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яды их сойдутся, потом разойдутся,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смирными станут до новых затей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4"/>
          <a:stretch/>
        </p:blipFill>
        <p:spPr>
          <a:xfrm>
            <a:off x="0" y="4941720"/>
            <a:ext cx="1847880" cy="105912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878880" y="4149720"/>
            <a:ext cx="129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зуб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203640" y="476280"/>
            <a:ext cx="374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Задание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68360" y="1341360"/>
            <a:ext cx="618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йди лишнее числ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116000" y="2421000"/>
            <a:ext cx="7467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2                                  36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8                             13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4                                                                                 31                                   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372360" y="2781360"/>
            <a:ext cx="2361960" cy="1219320"/>
          </a:xfrm>
          <a:prstGeom prst="irregularSeal2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>
            <a:hlinkClick r:id="rId2" action="ppaction://hlinksldjump"/>
          </p:cNvPr>
          <p:cNvSpPr/>
          <p:nvPr/>
        </p:nvSpPr>
        <p:spPr>
          <a:xfrm>
            <a:off x="8305920" y="30492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665360" y="260280"/>
            <a:ext cx="6653160" cy="2808360"/>
            <a:chOff x="1665360" y="260280"/>
            <a:chExt cx="6653160" cy="2808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1665360" y="260280"/>
              <a:ext cx="1566720" cy="280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" name=""/>
            <p:cNvGrpSpPr/>
            <p:nvPr/>
          </p:nvGrpSpPr>
          <p:grpSpPr>
            <a:xfrm>
              <a:off x="4356000" y="404640"/>
              <a:ext cx="3962520" cy="1518480"/>
              <a:chOff x="4356000" y="404640"/>
              <a:chExt cx="3962520" cy="1518480"/>
            </a:xfrm>
          </p:grpSpPr>
          <p:sp>
            <p:nvSpPr>
              <p:cNvPr id="58" name=""/>
              <p:cNvSpPr/>
              <p:nvPr/>
            </p:nvSpPr>
            <p:spPr>
              <a:xfrm>
                <a:off x="4356000" y="404640"/>
                <a:ext cx="3962520" cy="1295640"/>
              </a:xfrm>
              <a:prstGeom prst="wedgeRoundRectCallout">
                <a:avLst>
                  <a:gd name="adj1" fmla="val -45671"/>
                  <a:gd name="adj2" fmla="val 73527"/>
                  <a:gd name="adj3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72000" y="549360"/>
                <a:ext cx="360036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Что такое двузначные числа?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1728720" cy="325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11280" y="3213000"/>
            <a:ext cx="4537080" cy="33847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Это числ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записи котор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спользуются дв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цифры (два знак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, 28, 66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826920" y="1773360"/>
            <a:ext cx="7999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Times New Roman"/>
              </a:rPr>
              <a:t>Спасибо за внимание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71640" y="18900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Задание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1844640"/>
            <a:ext cx="723888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9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6                8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                 22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0                       31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                   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116000" y="1052640"/>
            <a:ext cx="8028000" cy="5805360"/>
            <a:chOff x="1116000" y="1052640"/>
            <a:chExt cx="8028000" cy="5805360"/>
          </a:xfrm>
        </p:grpSpPr>
        <p:sp>
          <p:nvSpPr>
            <p:cNvPr id="65" name=""/>
            <p:cNvSpPr/>
            <p:nvPr/>
          </p:nvSpPr>
          <p:spPr>
            <a:xfrm>
              <a:off x="1116000" y="1052640"/>
              <a:ext cx="706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Раздели числа на две групп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7315200" y="4343400"/>
              <a:ext cx="182880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755640" y="1557360"/>
            <a:ext cx="7569360" cy="4825800"/>
          </a:xfrm>
          <a:custGeom>
            <a:avLst/>
            <a:gdLst/>
            <a:ahLst/>
            <a:rect l="l" t="t" r="r" b="b"/>
            <a:pathLst>
              <a:path w="4768" h="3040">
                <a:moveTo>
                  <a:pt x="1272" y="2368"/>
                </a:moveTo>
                <a:cubicBezTo>
                  <a:pt x="1256" y="2488"/>
                  <a:pt x="1192" y="2848"/>
                  <a:pt x="1320" y="2944"/>
                </a:cubicBezTo>
                <a:cubicBezTo>
                  <a:pt x="1448" y="3040"/>
                  <a:pt x="1776" y="2928"/>
                  <a:pt x="2040" y="2944"/>
                </a:cubicBezTo>
                <a:cubicBezTo>
                  <a:pt x="2304" y="2960"/>
                  <a:pt x="2696" y="3040"/>
                  <a:pt x="2904" y="3040"/>
                </a:cubicBezTo>
                <a:cubicBezTo>
                  <a:pt x="3112" y="3040"/>
                  <a:pt x="3136" y="3024"/>
                  <a:pt x="3288" y="2944"/>
                </a:cubicBezTo>
                <a:cubicBezTo>
                  <a:pt x="3440" y="2864"/>
                  <a:pt x="3816" y="2664"/>
                  <a:pt x="3816" y="2560"/>
                </a:cubicBezTo>
                <a:cubicBezTo>
                  <a:pt x="3816" y="2456"/>
                  <a:pt x="3480" y="2336"/>
                  <a:pt x="3288" y="2320"/>
                </a:cubicBezTo>
                <a:cubicBezTo>
                  <a:pt x="3096" y="2304"/>
                  <a:pt x="2832" y="2448"/>
                  <a:pt x="2664" y="2464"/>
                </a:cubicBezTo>
                <a:cubicBezTo>
                  <a:pt x="2496" y="2480"/>
                  <a:pt x="2344" y="2488"/>
                  <a:pt x="2280" y="2416"/>
                </a:cubicBezTo>
                <a:cubicBezTo>
                  <a:pt x="2216" y="2344"/>
                  <a:pt x="2272" y="2136"/>
                  <a:pt x="2280" y="2032"/>
                </a:cubicBezTo>
                <a:cubicBezTo>
                  <a:pt x="2288" y="1928"/>
                  <a:pt x="2192" y="1840"/>
                  <a:pt x="2328" y="1792"/>
                </a:cubicBezTo>
                <a:cubicBezTo>
                  <a:pt x="2464" y="1744"/>
                  <a:pt x="2920" y="1808"/>
                  <a:pt x="3096" y="1744"/>
                </a:cubicBezTo>
                <a:cubicBezTo>
                  <a:pt x="3272" y="1680"/>
                  <a:pt x="3240" y="1504"/>
                  <a:pt x="3384" y="1408"/>
                </a:cubicBezTo>
                <a:cubicBezTo>
                  <a:pt x="3528" y="1312"/>
                  <a:pt x="3816" y="1192"/>
                  <a:pt x="3960" y="1168"/>
                </a:cubicBezTo>
                <a:cubicBezTo>
                  <a:pt x="4104" y="1144"/>
                  <a:pt x="4128" y="1264"/>
                  <a:pt x="4248" y="1264"/>
                </a:cubicBezTo>
                <a:cubicBezTo>
                  <a:pt x="4368" y="1264"/>
                  <a:pt x="4600" y="1240"/>
                  <a:pt x="4680" y="1168"/>
                </a:cubicBezTo>
                <a:cubicBezTo>
                  <a:pt x="4760" y="1096"/>
                  <a:pt x="4728" y="928"/>
                  <a:pt x="4728" y="832"/>
                </a:cubicBezTo>
                <a:cubicBezTo>
                  <a:pt x="4728" y="736"/>
                  <a:pt x="4768" y="632"/>
                  <a:pt x="4680" y="592"/>
                </a:cubicBezTo>
                <a:cubicBezTo>
                  <a:pt x="4592" y="552"/>
                  <a:pt x="4328" y="560"/>
                  <a:pt x="4200" y="592"/>
                </a:cubicBezTo>
                <a:cubicBezTo>
                  <a:pt x="4072" y="624"/>
                  <a:pt x="4024" y="728"/>
                  <a:pt x="3912" y="784"/>
                </a:cubicBezTo>
                <a:cubicBezTo>
                  <a:pt x="3800" y="840"/>
                  <a:pt x="3632" y="864"/>
                  <a:pt x="3528" y="928"/>
                </a:cubicBezTo>
                <a:cubicBezTo>
                  <a:pt x="3424" y="992"/>
                  <a:pt x="3384" y="1104"/>
                  <a:pt x="3288" y="1168"/>
                </a:cubicBezTo>
                <a:cubicBezTo>
                  <a:pt x="3192" y="1232"/>
                  <a:pt x="3056" y="1280"/>
                  <a:pt x="2952" y="1312"/>
                </a:cubicBezTo>
                <a:cubicBezTo>
                  <a:pt x="2848" y="1344"/>
                  <a:pt x="2760" y="1352"/>
                  <a:pt x="2664" y="1360"/>
                </a:cubicBezTo>
                <a:cubicBezTo>
                  <a:pt x="2568" y="1368"/>
                  <a:pt x="2552" y="1408"/>
                  <a:pt x="2376" y="1360"/>
                </a:cubicBezTo>
                <a:cubicBezTo>
                  <a:pt x="2200" y="1312"/>
                  <a:pt x="1760" y="1096"/>
                  <a:pt x="1608" y="1072"/>
                </a:cubicBezTo>
                <a:cubicBezTo>
                  <a:pt x="1456" y="1048"/>
                  <a:pt x="1520" y="1176"/>
                  <a:pt x="1464" y="1216"/>
                </a:cubicBezTo>
                <a:cubicBezTo>
                  <a:pt x="1408" y="1256"/>
                  <a:pt x="1336" y="1288"/>
                  <a:pt x="1272" y="1312"/>
                </a:cubicBezTo>
                <a:cubicBezTo>
                  <a:pt x="1208" y="1336"/>
                  <a:pt x="1168" y="1368"/>
                  <a:pt x="1080" y="1360"/>
                </a:cubicBezTo>
                <a:cubicBezTo>
                  <a:pt x="992" y="1352"/>
                  <a:pt x="800" y="1360"/>
                  <a:pt x="744" y="1264"/>
                </a:cubicBezTo>
                <a:cubicBezTo>
                  <a:pt x="688" y="1168"/>
                  <a:pt x="752" y="880"/>
                  <a:pt x="744" y="784"/>
                </a:cubicBezTo>
                <a:cubicBezTo>
                  <a:pt x="736" y="688"/>
                  <a:pt x="720" y="760"/>
                  <a:pt x="696" y="688"/>
                </a:cubicBezTo>
                <a:cubicBezTo>
                  <a:pt x="672" y="616"/>
                  <a:pt x="624" y="424"/>
                  <a:pt x="600" y="352"/>
                </a:cubicBezTo>
                <a:cubicBezTo>
                  <a:pt x="576" y="280"/>
                  <a:pt x="560" y="296"/>
                  <a:pt x="552" y="256"/>
                </a:cubicBezTo>
                <a:cubicBezTo>
                  <a:pt x="544" y="216"/>
                  <a:pt x="560" y="152"/>
                  <a:pt x="552" y="112"/>
                </a:cubicBezTo>
                <a:cubicBezTo>
                  <a:pt x="544" y="72"/>
                  <a:pt x="576" y="0"/>
                  <a:pt x="504" y="16"/>
                </a:cubicBezTo>
                <a:cubicBezTo>
                  <a:pt x="432" y="32"/>
                  <a:pt x="168" y="8"/>
                  <a:pt x="120" y="208"/>
                </a:cubicBezTo>
                <a:cubicBezTo>
                  <a:pt x="72" y="408"/>
                  <a:pt x="0" y="880"/>
                  <a:pt x="216" y="1216"/>
                </a:cubicBezTo>
                <a:cubicBezTo>
                  <a:pt x="432" y="1552"/>
                  <a:pt x="1240" y="2024"/>
                  <a:pt x="1416" y="2224"/>
                </a:cubicBezTo>
                <a:cubicBezTo>
                  <a:pt x="1592" y="2424"/>
                  <a:pt x="1288" y="2248"/>
                  <a:pt x="1272" y="2368"/>
                </a:cubicBezTo>
                <a:close/>
              </a:path>
            </a:pathLst>
          </a:custGeom>
          <a:solidFill>
            <a:srgbClr val="dbb7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093080" y="0"/>
          <a:ext cx="2050920" cy="12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3080" y="0"/>
                    <a:ext cx="205092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562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ак называется число, в которо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десять едини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исывают его та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названии двузначных чисел встречается «дцать».Так раньше называли десят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9640" y="476280"/>
            <a:ext cx="3962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десяток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580000" y="3357720"/>
            <a:ext cx="2895840" cy="2286000"/>
            <a:chOff x="5580000" y="3357720"/>
            <a:chExt cx="2895840" cy="2286000"/>
          </a:xfrm>
        </p:grpSpPr>
        <p:sp>
          <p:nvSpPr>
            <p:cNvPr id="73" name=""/>
            <p:cNvSpPr/>
            <p:nvPr/>
          </p:nvSpPr>
          <p:spPr>
            <a:xfrm>
              <a:off x="5580000" y="3357720"/>
              <a:ext cx="2895840" cy="22860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61080" y="429444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360" y="429444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77080" y="378936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72360" y="472608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48720" y="472608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53440" y="472608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69440" y="5157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64360" y="5157720"/>
              <a:ext cx="38124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589800" y="5157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3440" y="5157720"/>
              <a:ext cx="38124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940360" y="260280"/>
            <a:ext cx="26686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3248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3049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Задание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92360" y="1219320"/>
            <a:ext cx="600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йди модель десят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3500280"/>
            <a:ext cx="3033720" cy="244332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76640"/>
            <a:ext cx="3384360" cy="252396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429000"/>
            <a:ext cx="3105360" cy="244620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53737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3280" y="53737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3737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486900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486900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43657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486900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5410080"/>
            <a:ext cx="45720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429264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35280" y="378936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328464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328464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27640" y="270828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378936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378936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67280" y="429264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32720" y="4437000"/>
            <a:ext cx="45720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40360" y="378936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429264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429264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93080" y="3933720"/>
            <a:ext cx="45720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80360" y="4437000"/>
            <a:ext cx="45720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80360" y="53737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43640" y="486900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486900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6360" y="53737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53737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93080" y="486900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28000" y="53737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94160" y="602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3392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53440" y="6137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588000" y="2565360"/>
            <a:ext cx="1366920" cy="515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32000" y="2852640"/>
            <a:ext cx="1143000" cy="446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211640" y="5300640"/>
            <a:ext cx="990720" cy="78732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rId5" action="ppaction://hlinksldjump"/>
          </p:cNvPr>
          <p:cNvSpPr/>
          <p:nvPr/>
        </p:nvSpPr>
        <p:spPr>
          <a:xfrm>
            <a:off x="8305920" y="228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43657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17080" y="4221000"/>
            <a:ext cx="457200" cy="381240"/>
          </a:xfrm>
          <a:prstGeom prst="leftArrow">
            <a:avLst>
              <a:gd name="adj1" fmla="val 50000"/>
              <a:gd name="adj2" fmla="val 2998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3504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- деся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 - двадц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 - тридц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рок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 - пятьдеся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 - шестьдеся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 - семьдеся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 - восемьдеся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евяносто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435640" y="2276640"/>
            <a:ext cx="2359080" cy="2917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0920" y="112536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это числа, оканчивающиеся нулем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5715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згадай правило, по которому называются деся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680" y="228600"/>
            <a:ext cx="6782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2700000" blurRad="0" rotWithShape="0">
                    <a:srgbClr val="c0c0c0"/>
                  </a:outerShdw>
                </a:effectLst>
                <a:latin typeface="Impact"/>
              </a:rPr>
              <a:t>круглые десятки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07932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429000" y="457200"/>
            <a:ext cx="272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Задание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12924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кое число убежало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381400"/>
            <a:ext cx="8507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90        40        20      10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80           50           30      6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34240" y="304920"/>
            <a:ext cx="2087640" cy="2871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643280" y="4572000"/>
            <a:ext cx="2362320" cy="228600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57600" y="2590920"/>
            <a:ext cx="32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40 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743200" y="380880"/>
            <a:ext cx="3581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ребус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495288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СОРО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562720" y="419112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8229600" y="304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- один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ц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 - две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ц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 - три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ц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 - четыр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ц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 - пят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ц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 - шест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ц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 - сем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ц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 - восем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ц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- девят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ц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0440" y="2403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152280"/>
            <a:ext cx="7467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2700000" blurRad="0" rotWithShape="0">
                    <a:srgbClr val="c0c0c0"/>
                  </a:outerShdw>
                </a:effectLst>
                <a:latin typeface="Impact"/>
              </a:rPr>
              <a:t>числа второго десятка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07932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1676520"/>
            <a:ext cx="380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звание этих чисел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можно запомн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так: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диницы «встали» на десяток (дцать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на дцать = тринадц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34120" y="4114800"/>
          <a:ext cx="3276360" cy="259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4114800"/>
                    <a:ext cx="32763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18:29:36Z</dcterms:created>
  <dc:creator/>
  <dc:description/>
  <dc:language>en-US</dc:language>
  <cp:lastModifiedBy>User</cp:lastModifiedBy>
  <dcterms:modified xsi:type="dcterms:W3CDTF">2012-02-12T13:41:48Z</dcterms:modified>
  <cp:revision>33</cp:revision>
  <dc:subject/>
  <dc:title>Выпускная работа </dc:title>
</cp:coreProperties>
</file>