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49F-38CC-468C-A767-37D43513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F6E9-C026-433C-86DE-941BAC81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339-E199-4A2D-AFF2-F8DF6E3A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893E-26B6-4E3B-B39D-3B4E8131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9EAB-5075-4CD9-B97D-8C771AE4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D8D4-9F33-45AE-8CEF-A085C9FD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B215-BCDC-4CA6-86F9-B0BA5F1A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829B-701B-4814-B268-F1A584F4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4E43-2120-4B84-913F-A271BF69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C9B8-1093-47F0-B316-9B020D8E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6B84-25A9-45F9-9478-52809611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EE2-4D6A-474E-A12A-5F0577FC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C37B-6A41-492B-9F98-8332AB38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BAF0-4734-450C-AB77-58C92452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0A54-8FBD-4F03-BEE0-6FB368AC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963E-FAD3-494E-A0CA-A7F1A59B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D357-CCD7-46AE-AB71-FE2FD1F9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50C-3497-48E5-82B5-1DBD1992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BF2-EEAE-4CE5-8D58-AD543F51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9C8-5FD7-41A2-BB0A-67E3BEB9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168-37EF-4DBB-81C4-58C893C1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358-0061-4B5D-872C-F4CF44DB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1D6D-80CB-40EC-9E75-14299BC6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3EC2-6285-4CED-8058-A59E7A2A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44E9-1111-4622-B740-75674E42E9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A1A7-4D68-42AE-B544-6DC8F7694069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69120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7d47d"/>
                </a:solidFill>
                <a:uFillTx/>
                <a:latin typeface="Arial Black"/>
              </a:rPr>
              <a:t>Эколого-туристская деятельность в детском саду: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Значение туристско-краеведческой деятельности в воспитании дошкольников и в формировании их экологической культур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10920" y="5373360"/>
            <a:ext cx="64818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Физинструктор ДОУ №3 «Орленок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. Волжс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727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Туристско-краеведческая деятельность в детском саду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2421000"/>
            <a:ext cx="738648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Участие в походах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сширяет кругозор детей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оспитывает любовь к Родин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вивает навыки самообслуживан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учает детей к системному труду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оспитывает инициативу и выдержк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8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8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8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8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ельзя пичкать ребят готовыми знаниями и выводами, надо научить их внимательному наблюдению явлений, умению делать из наблюдений выводы, проверять их дальнейшими наблюдениями, проверять опытом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                                      Н.К.Крупская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274320"/>
            <a:ext cx="69120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Принципы построения и функционирования детского туристско-краеведческого объединения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3640" y="3213000"/>
            <a:ext cx="734364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еемственность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цикличность и бесконечность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новозрастност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Формы деятельност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сследовательская работ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кскурси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леты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рганизация работы на экологической троп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уристические прогулк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ход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2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Принципы программ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916280"/>
            <a:ext cx="73864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оступность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риентация на успех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актичност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ематика работы с родителям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о пользе занятий экологией и туризмом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наши достижени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вместе с нашими детьми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лучшие болельщики - наши родители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6923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уризм является прекрасным закаливающим средством. Люди, проводящие свой отдых в туристских походах, обладают большой выносливостью, способностью сопротивляться различным заболевания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0:44:49Z</dcterms:created>
  <dc:creator>ДОУ № 3</dc:creator>
  <dc:description/>
  <dc:language>en-US</dc:language>
  <cp:lastModifiedBy>WIM</cp:lastModifiedBy>
  <dcterms:modified xsi:type="dcterms:W3CDTF">2012-02-09T09:44:02Z</dcterms:modified>
  <cp:revision>8</cp:revision>
  <dc:subject/>
  <dc:title>Значение туристско-краеведческой деятельности в воспитании дошкольников и в формировании их экологической культуры</dc:title>
</cp:coreProperties>
</file>