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jpeg" ContentType="image/jpeg"/>
  <Override PartName="/ppt/media/image50.png" ContentType="image/png"/>
  <Override PartName="/ppt/media/image28.jpeg" ContentType="image/jpeg"/>
  <Override PartName="/ppt/media/image62.png" ContentType="image/png"/>
  <Override PartName="/ppt/media/image19.jpeg" ContentType="image/jpeg"/>
  <Override PartName="/ppt/media/image6.gif" ContentType="image/gif"/>
  <Override PartName="/ppt/media/image29.jpeg" ContentType="image/jpeg"/>
  <Override PartName="/ppt/media/image7.gif" ContentType="image/gif"/>
  <Override PartName="/ppt/media/image21.jpeg" ContentType="image/jpeg"/>
  <Override PartName="/ppt/media/image65.png" ContentType="image/png"/>
  <Override PartName="/ppt/media/image70.jpeg" ContentType="image/jpeg"/>
  <Override PartName="/ppt/media/image17.jpeg" ContentType="image/jpeg"/>
  <Override PartName="/ppt/media/image12.gif" ContentType="image/gif"/>
  <Override PartName="/ppt/media/image63.png" ContentType="image/png"/>
  <Override PartName="/ppt/media/image4.gif" ContentType="image/gif"/>
  <Override PartName="/ppt/media/image33.jpeg" ContentType="image/jpeg"/>
  <Override PartName="/ppt/media/image22.jpeg" ContentType="image/jpeg"/>
  <Override PartName="/ppt/media/image67.png" ContentType="image/png"/>
  <Override PartName="/ppt/media/image30.png" ContentType="image/png"/>
  <Override PartName="/ppt/media/image37.jpeg" ContentType="image/jpeg"/>
  <Override PartName="/ppt/media/image15.gif" ContentType="image/gif"/>
  <Override PartName="/ppt/media/image3.gif" ContentType="image/gif"/>
  <Override PartName="/ppt/media/image66.png" ContentType="image/png"/>
  <Override PartName="/ppt/media/image64.png" ContentType="image/png"/>
  <Override PartName="/ppt/media/image27.jpeg" ContentType="image/jpeg"/>
  <Override PartName="/ppt/media/image52.png" ContentType="image/png"/>
  <Override PartName="/ppt/media/image68.jpeg" ContentType="image/jpeg"/>
  <Override PartName="/ppt/media/image61.png" ContentType="image/png"/>
  <Override PartName="/ppt/media/image60.png" ContentType="image/png"/>
  <Override PartName="/ppt/media/image49.png" ContentType="image/png"/>
  <Override PartName="/ppt/media/image31.jpeg" ContentType="image/jpeg"/>
  <Override PartName="/ppt/media/image25.jpeg" ContentType="image/jpeg"/>
  <Override PartName="/ppt/media/image23.jpeg" ContentType="image/jpeg"/>
  <Override PartName="/ppt/media/image5.gif" ContentType="image/gif"/>
  <Override PartName="/ppt/media/image38.jpeg" ContentType="image/jpeg"/>
  <Override PartName="/ppt/media/image10.gif" ContentType="image/gif"/>
  <Override PartName="/ppt/media/image53.jpeg" ContentType="image/jpeg"/>
  <Override PartName="/ppt/media/image11.gif" ContentType="image/gif"/>
  <Override PartName="/ppt/media/image26.jpeg" ContentType="image/jpeg"/>
  <Override PartName="/ppt/media/image42.png" ContentType="image/png"/>
  <Override PartName="/ppt/media/image24.jpeg" ContentType="image/jpeg"/>
  <Override PartName="/ppt/media/image59.png" ContentType="image/png"/>
  <Override PartName="/ppt/media/image18.jpeg" ContentType="image/jpeg"/>
  <Override PartName="/ppt/media/image8.gif" ContentType="image/gif"/>
  <Override PartName="/ppt/media/image16.jpeg" ContentType="image/jpeg"/>
  <Override PartName="/ppt/media/image9.gif" ContentType="image/gif"/>
  <Override PartName="/ppt/media/image69.jpeg" ContentType="image/jpeg"/>
  <Override PartName="/ppt/media/image41.png" ContentType="image/png"/>
  <Override PartName="/ppt/media/image1.gif" ContentType="image/gif"/>
  <Override PartName="/ppt/media/image13.gif" ContentType="image/gif"/>
  <Override PartName="/ppt/media/image32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57.png" ContentType="image/png"/>
  <Override PartName="/ppt/media/image2.gif" ContentType="image/gif"/>
  <Override PartName="/ppt/media/image14.gif" ContentType="image/gif"/>
  <Override PartName="/ppt/media/image39.jpeg" ContentType="image/jpe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47E2-4A1D-4655-A1AF-0F0FA0EDE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B262-A2EF-45A9-8090-5BCFC7552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A12D-39C2-4DD1-ACCA-EC38B2DA1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E7ED-0C74-46C6-B5D7-B79688C80E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12CC-6DDE-4CBD-B95D-D7AF7D31E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BFB5-6D66-4EDD-88D5-4787E7D8D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7E90-64C7-4B2A-9500-72B5A9827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9E13-A67E-4CDF-B979-3BA5B1FFD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0D75-1CA6-42D3-952F-488E84105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9273-11E6-438F-838A-A32669A36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095A-D093-4CF8-8151-541F721D6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035B-7098-4D4A-AD57-C1B6CC4D8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8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5920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17A6-BC2F-481A-9B3D-DFF34F90E2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2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0.gif"/><Relationship Id="rId16" Type="http://schemas.openxmlformats.org/officeDocument/2006/relationships/image" Target="../media/image12.gif"/><Relationship Id="rId17" Type="http://schemas.openxmlformats.org/officeDocument/2006/relationships/image" Target="../media/image13.gif"/><Relationship Id="rId18" Type="http://schemas.openxmlformats.org/officeDocument/2006/relationships/image" Target="../media/image14.gif"/><Relationship Id="rId19" Type="http://schemas.openxmlformats.org/officeDocument/2006/relationships/image" Target="../media/image9.gif"/><Relationship Id="rId20" Type="http://schemas.openxmlformats.org/officeDocument/2006/relationships/image" Target="../media/image10.gif"/><Relationship Id="rId21" Type="http://schemas.openxmlformats.org/officeDocument/2006/relationships/image" Target="../media/image15.gif"/><Relationship Id="rId22" Type="http://schemas.openxmlformats.org/officeDocument/2006/relationships/image" Target="../media/image16.jpeg"/><Relationship Id="rId2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252525D0%252525259A%25252525D0%25252525BE%25252525D0%25252525BB%25252525D1%252525258C%25252525D1%2525252581%25252525D0%25252525BA%25252525D0%25252525B8%25252525D0%25252525B9_%25252525D0%25252525BF%25252525D0%25252525BE%25252525D0%25252525BB%25252525D1%2525252583%25252525D0%25252525BE%25252525D1%2525252581%25252525D1%2525252582%25252525D1%2525252580%25252525D0%25252525BE%25252525D0%25252525B2" TargetMode="External"/><Relationship Id="rId2" Type="http://schemas.openxmlformats.org/officeDocument/2006/relationships/hyperlink" Target="http://ru.wikipedia.org/w/index.php?title=%25252525D0%2525252595%25252525D1%2525252580%25252525D0%25252525BC&amp;action=edit&amp;redlink=1" TargetMode="External"/><Relationship Id="rId3" Type="http://schemas.openxmlformats.org/officeDocument/2006/relationships/hyperlink" Target="http://ru.wikipedia.org/wiki/%25252525D0%252525259D%25252525D0%25252525B8%25252525D0%25252525B2%25252525D0%25252525B0_%2525252528%25252525D1%2525252580%25252525D0%25252525B5%25252525D0%25252525BA%25252525D0%25252525B0%2525252529" TargetMode="External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252525D0%252525259E%25252525D0%25252525B7%25252525D0%25252525B5%25252525D1%2525252580%25252525D0%25252525BE" TargetMode="External"/><Relationship Id="rId2" Type="http://schemas.openxmlformats.org/officeDocument/2006/relationships/hyperlink" Target="http://ru.wikipedia.org/wiki/%25252525D0%252525259C%25252525D1%2525252583%25252525D1%2525252580%25252525D0%25252525BC%25252525D0%25252525B0%25252525D0%25252525BD%25252525D1%2525252581%25252525D0%25252525BA%25252525D0%25252525B0%25252525D1%252525258F_%25252525D0%25252525BE%25252525D0%25252525B1%25252525D0%25252525BB%25252525D0%25252525B0%25252525D1%2525252581%25252525D1%2525252582%25252525D1%252525258C" TargetMode="External"/><Relationship Id="rId3" Type="http://schemas.openxmlformats.org/officeDocument/2006/relationships/hyperlink" Target="http://ru.wikipedia.org/wiki/%25252525D0%25252525A1%25252525D0%25252525B5%25252525D0%25252525B2%25252525D0%25252525B5%25252525D1%2525252580" TargetMode="External"/><Relationship Id="rId4" Type="http://schemas.openxmlformats.org/officeDocument/2006/relationships/hyperlink" Target="http://ru.wikipedia.org/wiki/%25252525D0%252525259A%25252525D0%25252525BE%25252525D0%25252525BB%25252525D1%252525258C%25252525D1%2525252581%25252525D0%25252525BA%25252525D0%25252525B8%25252525D0%25252525B9_%25252525D0%25252525BF%25252525D0%25252525BE%25252525D0%25252525BB%25252525D1%2525252583%25252525D0%25252525BE%25252525D1%2525252581%25252525D1%2525252582%25252525D1%2525252580%25252525D0%25252525BE%25252525D0%25252525B2" TargetMode="External"/><Relationship Id="rId5" Type="http://schemas.openxmlformats.org/officeDocument/2006/relationships/hyperlink" Target="http://ru.wikipedia.org/wiki/%25252525D0%2525252591%25252525D0%25252525B0%25252525D1%2525252581%25252525D1%2525252581%25252525D0%25252525B5%25252525D0%25252525B9%25252525D0%25252525BD_%25252525D0%25252525B2%25252525D0%25252525BE%25252525D0%25252525B4%25252525D0%25252525BE%25252525D1%2525252591%25252525D0%25252525BC%25252525D0%25252525B0" TargetMode="External"/><Relationship Id="rId6" Type="http://schemas.openxmlformats.org/officeDocument/2006/relationships/hyperlink" Target="http://ru.wikipedia.org/wiki/%25252525D0%2525252591%25252525D0%25252525B0%25252525D1%2525252580%25252525D0%25252525B5%25252525D0%25252525BD%25252525D1%2525252586%25252525D0%25252525B5%25252525D0%25252525B2%25252525D0%25252525BE_%25252525D0%25252525BC%25252525D0%25252525BE%25252525D1%2525252580%25252525D0%25252525B5" TargetMode="External"/><Relationship Id="rId7" Type="http://schemas.openxmlformats.org/officeDocument/2006/relationships/hyperlink" Target="http://ru.wikipedia.org/wiki/%25252525D0%252525259A%25252525D0%25252525BE%25252525D0%25252525BB%25252525D0%25252525B0_%2525252528%25252525D1%2525252580%25252525D0%25252525B5%25252525D0%25252525BA%25252525D0%25252525B0%2525252529" TargetMode="External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252525D0%252525259A%25252525D0%25252525B8%25252525D0%25252525BB%25252525D1%252525258C%25252525D0%25252525B4%25252525D0%25252525B8%25252525D0%25252525BD" TargetMode="External"/><Relationship Id="rId2" Type="http://schemas.openxmlformats.org/officeDocument/2006/relationships/hyperlink" Target="http://ru.wikipedia.org/wiki/%25252525D0%252525259A%25252525D0%25252525B8%25252525D0%25252525BB%25252525D1%252525258C%25252525D0%25252525B4%25252525D0%25252525B8%25252525D0%25252525BD%25252525D1%2525252581%25252525D0%25252525BA%25252525D0%25252525B8%25252525D0%25252525B9_%25252525D0%25252525BF%25252525D1%2525252580%25252525D0%25252525BE%25252525D0%25252525BB%25252525D0%25252525B8%25252525D0%25252525B2" TargetMode="External"/><Relationship Id="rId3" Type="http://schemas.openxmlformats.org/officeDocument/2006/relationships/hyperlink" Target="http://ru.wikipedia.org/wiki/%25252525D0%2525252592%25252525D0%25252525BE%25252525D1%2525252581%25252525D1%2525252582%25252525D0%25252525BE%25252525D1%2525252587%25252525D0%25252525BD%25252525D1%252525258B%25252525D0%25252525B9_%25252525D0%252525259A%25252525D0%25252525B8%25252525D0%25252525BB%25252525D1%252525258C%25252525D0%25252525B4%25252525D0%25252525B8%25252525D0%25252525BD" TargetMode="External"/><Relationship Id="rId4" Type="http://schemas.openxmlformats.org/officeDocument/2006/relationships/hyperlink" Target="http://ru.wikipedia.org/w/index.php?title=%25252525D0%252525259C%25252525D0%25252525BE%25252525D0%25252525B3%25252525D0%25252525B8%25252525D0%25252525BB%25252525D1%252525258C%25252525D0%25252525BD%25252525D1%252525258B%25252525D0%25252525B9_%2525252528%25252525D0%25252525BC%25252525D1%252525258B%25252525D1%2525252581%2525252529&amp;action=edit&amp;redlink=1" TargetMode="External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252525D0%25252525A0%25252525D0%25252525B5%25252525D0%25252525BA%25252525D0%25252525B0" TargetMode="External"/><Relationship Id="rId2" Type="http://schemas.openxmlformats.org/officeDocument/2006/relationships/hyperlink" Target="http://ru.wikipedia.org/wiki/%25252525D0%252525259F%25252525D0%25252525B5%25252525D1%2525252587%25252525D0%25252525B5%25252525D0%25252525BD%25252525D0%25252525B3%25252525D1%2525252581%25252525D0%25252525BA%25252525D0%25252525B8%25252525D0%25252525B9_%25252525D1%2525252580%25252525D0%25252525B0%25252525D0%25252525B9%25252525D0%25252525BE%25252525D0%25252525BD_%25252525D0%252525259C%25252525D1%2525252583%25252525D1%2525252580%25252525D0%25252525BC%25252525D0%25252525B0%25252525D0%25252525BD%25252525D1%2525252581%25252525D0%25252525BA%25252525D0%25252525BE%25252525D0%25252525B9_%25252525D0%25252525BE%25252525D0%25252525B1%25252525D0%25252525BB%25252525D0%25252525B0%25252525D1%2525252581%25252525D1%2525252582%25252525D0%25252525B8" TargetMode="External"/><Relationship Id="rId3" Type="http://schemas.openxmlformats.org/officeDocument/2006/relationships/hyperlink" Target="http://ru.wikipedia.org/wiki/%25252525D0%252525259C%25252525D1%2525252583%25252525D1%2525252580%25252525D0%25252525BC%25252525D0%25252525B0%25252525D0%25252525BD%25252525D1%2525252581%25252525D0%25252525BA%25252525D0%25252525B0%25252525D1%252525258F_%25252525D0%25252525BE%25252525D0%25252525B1%25252525D0%25252525BB%25252525D0%25252525B0%25252525D1%2525252581%25252525D1%2525252582%25252525D1%252525258C" TargetMode="External"/><Relationship Id="rId4" Type="http://schemas.openxmlformats.org/officeDocument/2006/relationships/hyperlink" Target="http://ru.wikipedia.org/wiki/%25252525D0%252525259A%25252525D0%25252525BC" TargetMode="External"/><Relationship Id="rId5" Type="http://schemas.openxmlformats.org/officeDocument/2006/relationships/hyperlink" Target="http://ru.wikipedia.org/w/index.php?title=%25252525D0%252525259C%25252525D0%25252525BE%25252525D0%25252525BC%25252525D0%25252525B5%25252525D1%2525252582%25252525D1%252525258F%25252525D1%2525252583%25252525D1%2525252580%25252525D0%25252525B8&amp;action=edit&amp;redlink=1" TargetMode="External"/><Relationship Id="rId6" Type="http://schemas.openxmlformats.org/officeDocument/2006/relationships/hyperlink" Target="http://ru.wikipedia.org/wiki/%25252525D0%252525259F%25252525D0%25252525B5%25252525D1%2525252587%25252525D0%25252525B5%25252525D0%25252525BD%25252525D0%25252525B3%25252525D1%2525252581%25252525D0%25252525BA%25252525D0%25252525B0%25252525D1%252525258F_%25252525D0%25252525B3%25252525D1%2525252583%25252525D0%25252525B1%25252525D0%25252525B0" TargetMode="External"/><Relationship Id="rId7" Type="http://schemas.openxmlformats.org/officeDocument/2006/relationships/hyperlink" Target="http://ru.wikipedia.org/wiki/%25252525D0%2525252591%25252525D0%25252525B0%25252525D1%2525252580%25252525D0%25252525B5%25252525D0%25252525BD%25252525D1%2525252586%25252525D0%25252525B5%25252525D0%25252525B2%25252525D0%25252525BE_%25252525D0%25252525BC%25252525D0%25252525BE%25252525D1%2525252580%25252525D0%25252525B5" TargetMode="External"/><Relationship Id="rId8" Type="http://schemas.openxmlformats.org/officeDocument/2006/relationships/image" Target="../media/image53.jpeg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252525D0%252525259C%25252525D1%2525252583%25252525D1%2525252580%25252525D0%25252525BC%25252525D0%25252525B0%25252525D0%25252525BD%25252525D1%2525252581%25252525D0%25252525BA%25252525D0%25252525B0%25252525D1%252525258F_%25252525D0%25252525BE%25252525D0%25252525B1%25252525D0%25252525BB%25252525D0%25252525B0%25252525D1%2525252581%25252525D1%2525252582%25252525D1%252525258C" TargetMode="External"/><Relationship Id="rId2" Type="http://schemas.openxmlformats.org/officeDocument/2006/relationships/hyperlink" Target="http://ru.wikipedia.org/wiki/%25252525D0%25252525A0%25252525D0%25252525BE%25252525D1%2525252581%25252525D1%2525252581%25252525D0%25252525B8%25252525D1%252525258F" TargetMode="External"/><Relationship Id="rId3" Type="http://schemas.openxmlformats.org/officeDocument/2006/relationships/hyperlink" Target="http://ru.wikipedia.org/w/index.php?title=%25252525D0%2525252595%25252525D0%25252525BA%25252525D0%25252525B0%25252525D1%2525252582%25252525D0%25252525B5%25252525D1%2525252580%25252525D0%25252525B8%25252525D0%25252525BD%25252525D0%25252525B8%25252525D0%25252525BD%25252525D1%2525252581%25252525D0%25252525BA%25252525D0%25252525B0%25252525D1%252525258F_%25252525D0%25252525B3%25252525D0%25252525B0%25252525D0%25252525B2%25252525D0%25252525B0%25252525D0%25252525BD%25252525D1%252525258C&amp;action=edit&amp;redlink=1" TargetMode="External"/><Relationship Id="rId4" Type="http://schemas.openxmlformats.org/officeDocument/2006/relationships/hyperlink" Target="http://ru.wikipedia.org/wiki/%25252525D0%252525259A%25252525D0%25252525BE%25252525D0%25252525BB%25252525D1%252525258C%25252525D1%2525252581%25252525D0%25252525BA%25252525D0%25252525B8%25252525D0%25252525B9_%25252525D0%25252525B7%25252525D0%25252525B0%25252525D0%25252525BB%25252525D0%25252525B8%25252525D0%25252525B2" TargetMode="External"/><Relationship Id="rId5" Type="http://schemas.openxmlformats.org/officeDocument/2006/relationships/hyperlink" Target="http://ru.wikipedia.org/wiki/%25252525D0%2525252591%25252525D0%25252525B0%25252525D1%2525252580%25252525D0%25252525B5%25252525D0%25252525BD%25252525D1%2525252586%25252525D0%25252525B5%25252525D0%25252525B2%25252525D0%25252525BE_%25252525D0%25252525BC%25252525D0%25252525BE%25252525D1%2525252580%25252525D0%25252525B5" TargetMode="External"/><Relationship Id="rId6" Type="http://schemas.openxmlformats.org/officeDocument/2006/relationships/hyperlink" Target="http://ru.wikipedia.org/wiki/%25252525D0%252525259C%25252525D1%2525252583%25252525D1%2525252580%25252525D0%25252525BC%25252525D0%25252525B0%25252525D0%25252525BD%25252525D1%2525252581%25252525D0%25252525BA" TargetMode="External"/><Relationship Id="rId7" Type="http://schemas.openxmlformats.org/officeDocument/2006/relationships/hyperlink" Target="http://ru.wikipedia.org/wiki/2010_%25252525D0%25252525B3%25252525D0%25252525BE%25252525D0%25252525B4" TargetMode="External"/><Relationship Id="rId8" Type="http://schemas.openxmlformats.org/officeDocument/2006/relationships/hyperlink" Target="http://ru.wikipedia.org/wiki/%25252525D0%252525259F%25252525D0%25252525BE%25252525D0%25252525BB%25252525D1%252525258F%25252525D1%2525252580%25252525D0%25252525BD%25252525D1%252525258B%25252525D0%25252525B9_%2525252528%25252525D0%25252525B2%25252525D0%25252525BE%25252525D0%25252525B5%25252525D0%25252525BD%25252525D0%25252525BD%25252525D0%25252525BE-%25252525D0%25252525BC%25252525D0%25252525BE%25252525D1%2525252580%25252525D1%2525252581%25252525D0%25252525BA%25252525D0%25252525B0%25252525D1%252525258F_%25252525D0%25252525B1%25252525D0%25252525B0%25252525D0%25252525B7%25252525D0%25252525B0%2525252529" TargetMode="External"/><Relationship Id="rId9" Type="http://schemas.openxmlformats.org/officeDocument/2006/relationships/hyperlink" Target="http://ru.wikipedia.org/wiki/5_%25252525D0%25252525BC%25252525D0%25252525B0%25252525D1%252525258F" TargetMode="External"/><Relationship Id="rId10" Type="http://schemas.openxmlformats.org/officeDocument/2006/relationships/hyperlink" Target="http://ru.wikipedia.org/wiki/2008" TargetMode="External"/><Relationship Id="rId11" Type="http://schemas.openxmlformats.org/officeDocument/2006/relationships/hyperlink" Target="http://ru.wikipedia.org/wiki/%25252525D0%252525259F%25252525D1%2525252580%25252525D0%25252525B5%25252525D0%25252525B7%25252525D0%25252525B8%25252525D0%25252525B4%25252525D0%25252525B5%25252525D0%25252525BD%25252525D1%2525252582_%25252525D0%25252525A0%25252525D0%25252525BE%25252525D1%2525252581%25252525D1%2525252581%25252525D0%25252525B8%25252525D0%25252525B9%25252525D1%2525252581%25252525D0%25252525BA%25252525D0%25252525BE%25252525D0%25252525B9_%25252525D0%25252525A4%25252525D0%25252525B5%25252525D0%25252525B4%25252525D0%25252525B5%25252525D1%2525252580%25252525D0%25252525B0%25252525D1%2525252586%25252525D0%25252525B8%25252525D0%25252525B8" TargetMode="External"/><Relationship Id="rId12" Type="http://schemas.openxmlformats.org/officeDocument/2006/relationships/hyperlink" Target="http://ru.wikipedia.org/wiki/%25252525D0%2525252593%25252525D0%25252525BE%25252525D1%2525252580%25252525D0%25252525BE%25252525D0%25252525B4_%25252525D0%25252525B2%25252525D0%25252525BE%25252525D0%25252525B8%25252525D0%25252525BD%25252525D1%2525252581%25252525D0%25252525BA%25252525D0%25252525BE%25252525D0%25252525B9_%25252525D1%2525252581%25252525D0%25252525BB%25252525D0%25252525B0%25252525D0%25252525B2%25252525D1%252525258B" TargetMode="External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image" Target="../media/image58.png"/><Relationship Id="rId17" Type="http://schemas.openxmlformats.org/officeDocument/2006/relationships/image" Target="../media/image59.png"/><Relationship Id="rId18" Type="http://schemas.openxmlformats.org/officeDocument/2006/relationships/image" Target="../media/image60.png"/><Relationship Id="rId19" Type="http://schemas.openxmlformats.org/officeDocument/2006/relationships/image" Target="../media/image61.png"/><Relationship Id="rId2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252525D0%252525259F%25252525D0%25252525BE%25252525D1%2525252581%25252525D1%2525252591%25252525D0%25252525BB%25252525D0%25252525BE%25252525D0%25252525BA_%25252525D0%25252525B3%25252525D0%25252525BE%25252525D1%2525252580%25252525D0%25252525BE%25252525D0%25252525B4%25252525D1%2525252581%25252525D0%25252525BA%25252525D0%25252525BE%25252525D0%25252525B3%25252525D0%25252525BE_%25252525D1%2525252582%25252525D0%25252525B8%25252525D0%25252525BF%25252525D0%25252525B0" TargetMode="External"/><Relationship Id="rId2" Type="http://schemas.openxmlformats.org/officeDocument/2006/relationships/hyperlink" Target="http://ru.wikipedia.org/wiki/%25252525D0%252525259B%25252525D0%25252525BE%25252525D0%25252525B2%25252525D0%25252525BE%25252525D0%25252525B7%25252525D0%25252525B5%25252525D1%2525252580%25252525D1%2525252581%25252525D0%25252525BA%25252525D0%25252525B8%25252525D0%25252525B9_%25252525D1%2525252580%25252525D0%25252525B0%25252525D0%25252525B9%25252525D0%25252525BE%25252525D0%25252525BD_%25252525D0%252525259C%25252525D1%2525252583%25252525D1%2525252580%25252525D0%25252525BC%25252525D0%25252525B0%25252525D0%25252525BD%25252525D1%2525252581%25252525D0%25252525BA%25252525D0%25252525BE%25252525D0%25252525B9_%25252525D0%25252525BE%25252525D0%25252525B1%25252525D0%25252525BB%25252525D0%25252525B0%25252525D1%2525252581%25252525D1%2525252582%25252525D0%25252525B8" TargetMode="External"/><Relationship Id="rId3" Type="http://schemas.openxmlformats.org/officeDocument/2006/relationships/hyperlink" Target="http://ru.wikipedia.org/wiki/%25252525D0%252525259C%25252525D1%2525252583%25252525D1%2525252580%25252525D0%25252525BC%25252525D0%25252525B0%25252525D0%25252525BD%25252525D1%2525252581%25252525D0%25252525BA%25252525D0%25252525B0%25252525D1%252525258F_%25252525D0%25252525BE%25252525D0%25252525B1%25252525D0%25252525BB%25252525D0%25252525B0%25252525D1%2525252581%25252525D1%2525252582%25252525D1%252525258C" TargetMode="External"/><Relationship Id="rId4" Type="http://schemas.openxmlformats.org/officeDocument/2006/relationships/hyperlink" Target="http://ru.wikipedia.org/wiki/2010_%25252525D0%25252525B3%25252525D0%25252525BE%25252525D0%25252525B4" TargetMode="External"/><Relationship Id="rId5" Type="http://schemas.openxmlformats.org/officeDocument/2006/relationships/hyperlink" Target="http://ru.wikipedia.org/wiki/%25252525D0%25252525A1%25252525D0%25252525B5%25252525D0%25252525B2%25252525D0%25252525B5%25252525D1%2525252580%25252525D0%25252525BD%25252525D0%25252525BE%25252525D1%2525252581%25252525D0%25252525B0%25252525D0%25252525B0%25252525D0%25252525BC%25252525D1%2525252581%25252525D0%25252525BA%25252525D0%25252525B8%25252525D0%25252525B9_%25252525D1%252525258F%25252525D0%25252525B7%25252525D1%252525258B%25252525D0%25252525BA" TargetMode="External"/><Relationship Id="rId6" Type="http://schemas.openxmlformats.org/officeDocument/2006/relationships/hyperlink" Target="http://ru.wikipedia.org/wiki/%25252525D0%25252525A4%25252525D0%25252525B8%25252525D0%25252525BD%25252525D1%2525252581%25252525D0%25252525BA%25252525D0%25252525B8%25252525D0%25252525B9_%25252525D1%252525258F%25252525D0%25252525B7%25252525D1%252525258B%25252525D0%25252525BA" TargetMode="External"/><Relationship Id="rId7" Type="http://schemas.openxmlformats.org/officeDocument/2006/relationships/hyperlink" Target="http://ru.wikipedia.org/wiki/%25252525D0%252525259D%25252525D0%25252525BE%25252525D1%2525252580%25252525D0%25252525B2%25252525D0%25252525B5%25252525D0%25252525B6%25252525D1%2525252581%25252525D0%25252525BA%25252525D0%25252525B8%25252525D0%25252525B9_%25252525D1%252525258F%25252525D0%25252525B7%25252525D1%252525258B%25252525D0%25252525BA" TargetMode="External"/><Relationship Id="rId8" Type="http://schemas.openxmlformats.org/officeDocument/2006/relationships/hyperlink" Target="http://ru.wikipedia.org/wiki/%25252525D0%252525259F%25252525D0%25252525BE%25252525D0%25252525BB%25252525D1%2525252583%25252525D0%25252525BE%25252525D1%2525252581%25252525D1%2525252582%25252525D1%2525252580%25252525D0%25252525BE%25252525D0%25252525B2" TargetMode="External"/><Relationship Id="rId9" Type="http://schemas.openxmlformats.org/officeDocument/2006/relationships/hyperlink" Target="http://ru.wikipedia.org/wiki/%25252525D0%252525259A%25252525D0%25252525BE%25252525D0%25252525BB%25252525D1%252525258C%25252525D1%2525252581%25252525D0%25252525BA%25252525D0%25252525B8%25252525D0%25252525B9_%25252525D0%25252525BF%25252525D0%25252525BE%25252525D0%25252525BB%25252525D1%2525252583%25252525D0%25252525BE%25252525D1%2525252581%25252525D1%2525252582%25252525D1%2525252580%25252525D0%25252525BE%25252525D0%25252525B2" TargetMode="External"/><Relationship Id="rId10" Type="http://schemas.openxmlformats.org/officeDocument/2006/relationships/image" Target="../media/image62.png"/><Relationship Id="rId11" Type="http://schemas.openxmlformats.org/officeDocument/2006/relationships/image" Target="../media/image63.png"/><Relationship Id="rId12" Type="http://schemas.openxmlformats.org/officeDocument/2006/relationships/image" Target="../media/image64.png"/><Relationship Id="rId13" Type="http://schemas.openxmlformats.org/officeDocument/2006/relationships/image" Target="../media/image65.png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252525D0%25252525A4%25252525D0%25252525B8%25252525D0%25252525BD%25252525D1%2525252581%25252525D0%25252525BA%25252525D0%25252525B8%25252525D0%25252525B9_%25252525D1%252525258F%25252525D0%25252525B7%25252525D1%252525258B%25252525D0%25252525BA" TargetMode="External"/><Relationship Id="rId2" Type="http://schemas.openxmlformats.org/officeDocument/2006/relationships/hyperlink" Target="http://ru.wikipedia.org/wiki/%25252525D0%25252525A0%25252525D0%25252525B5%25252525D0%25252525BA%25252525D0%25252525B0" TargetMode="External"/><Relationship Id="rId3" Type="http://schemas.openxmlformats.org/officeDocument/2006/relationships/hyperlink" Target="http://ru.wikipedia.org/wiki/%25252525D0%252525259C%25252525D1%2525252583%25252525D1%2525252580%25252525D0%25252525BC%25252525D0%25252525B0%25252525D0%25252525BD%25252525D1%2525252581%25252525D0%25252525BA%25252525D0%25252525B0%25252525D1%252525258F_%25252525D0%25252525BE%25252525D0%25252525B1%25252525D0%25252525BB%25252525D0%25252525B0%25252525D1%2525252581%25252525D1%2525252582%25252525D1%252525258C" TargetMode="External"/><Relationship Id="rId4" Type="http://schemas.openxmlformats.org/officeDocument/2006/relationships/hyperlink" Target="http://ru.wikipedia.org/wiki/%25252525D0%252525259A%25252525D0%25252525BC" TargetMode="External"/><Relationship Id="rId5" Type="http://schemas.openxmlformats.org/officeDocument/2006/relationships/hyperlink" Target="http://ru.wikipedia.org/w/index.php?title=%25252525D0%252525259A%25252525D0%25252525BE%25252525D1%2525252588%25252525D0%25252525BA%25252525D0%25252525B0%25252525D1%252525258F%25252525D0%25252525B2%25252525D1%2525252580&amp;action=edit&amp;redlink=1" TargetMode="External"/><Relationship Id="rId6" Type="http://schemas.openxmlformats.org/officeDocument/2006/relationships/hyperlink" Target="http://ru.wikipedia.org/w/index.php?title=%25252525D0%25252525A2%25252525D0%25252525B8%25252525D1%2525252582%25252525D0%25252525BE%25252525D0%25252525B2%25252525D0%25252525BA%25252525D0%25252525B0_%2525252528%25252525D0%25252525B3%25252525D1%2525252583%25252525D0%25252525B1%25252525D0%25252525B0%2525252529&amp;action=edit&amp;redlink=1" TargetMode="External"/><Relationship Id="rId7" Type="http://schemas.openxmlformats.org/officeDocument/2006/relationships/hyperlink" Target="http://ru.wikipedia.org/wiki/%25252525D0%252525259C%25252525D0%25252525BE%25252525D1%2525252582%25252525D0%25252525BE%25252525D0%25252525B2%25252525D1%2525252581%25252525D0%25252525BA%25252525D0%25252525B8%25252525D0%25252525B9_%25252525D0%25252525B7%25252525D0%25252525B0%25252525D0%25252525BB%25252525D0%25252525B8%25252525D0%25252525B2" TargetMode="External"/><Relationship Id="rId8" Type="http://schemas.openxmlformats.org/officeDocument/2006/relationships/hyperlink" Target="http://ru.wikipedia.org/wiki/%25252525D0%2525252591%25252525D0%25252525B0%25252525D1%2525252580%25252525D0%25252525B5%25252525D0%25252525BD%25252525D1%2525252586%25252525D0%25252525B5%25252525D0%25252525B2%25252525D0%25252525BE_%25252525D0%25252525BC%25252525D0%25252525BE%25252525D1%2525252580%25252525D0%25252525B5" TargetMode="External"/><Relationship Id="rId9" Type="http://schemas.openxmlformats.org/officeDocument/2006/relationships/hyperlink" Target="http://ru.wikipedia.org/wiki/%25252525D0%25252525A0%25252525D0%25252525B5%25252525D0%25252525BA%25252525D0%25252525B0" TargetMode="External"/><Relationship Id="rId10" Type="http://schemas.openxmlformats.org/officeDocument/2006/relationships/hyperlink" Target="http://ru.wikipedia.org/wiki/%25252525D0%252525259A%25252525D0%25252525BE%25252525D0%25252525BB%25252525D1%252525258C%25252525D1%2525252581%25252525D0%25252525BA%25252525D0%25252525B8%25252525D0%25252525B9_%25252525D0%25252525BF%25252525D0%25252525BE%25252525D0%25252525BB%25252525D1%2525252583%25252525D0%25252525BE%25252525D1%2525252581%25252525D1%2525252582%25252525D1%2525252580%25252525D0%25252525BE%25252525D0%25252525B2" TargetMode="External"/><Relationship Id="rId11" Type="http://schemas.openxmlformats.org/officeDocument/2006/relationships/hyperlink" Target="http://ru.wikipedia.org/wiki/%25252525D0%252525259C%25252525D1%2525252583%25252525D1%2525252580%25252525D0%25252525BC%25252525D0%25252525B0%25252525D0%25252525BD%25252525D1%2525252581%25252525D0%25252525BA%25252525D0%25252525B0%25252525D1%252525258F_%25252525D0%25252525BE%25252525D0%25252525B1%25252525D0%25252525BB%25252525D0%25252525B0%25252525D1%2525252581%25252525D1%2525252582%25252525D1%252525258C" TargetMode="External"/><Relationship Id="rId12" Type="http://schemas.openxmlformats.org/officeDocument/2006/relationships/hyperlink" Target="http://ru.wikipedia.org/wiki/%25252525D0%25252525A0%25252525D0%25252525BE%25252525D1%2525252581%25252525D1%2525252581%25252525D0%25252525B8%25252525D1%252525258F" TargetMode="External"/><Relationship Id="rId13" Type="http://schemas.openxmlformats.org/officeDocument/2006/relationships/hyperlink" Target="http://ru.wikipedia.org/wiki/%25252525D0%252525259A%25252525D0%25252525BC" TargetMode="External"/><Relationship Id="rId14" Type="http://schemas.openxmlformats.org/officeDocument/2006/relationships/hyperlink" Target="http://ru.wikipedia.org/wiki/%25252525D0%252525259A%25252525D0%25252525BC%25252525C2%25252525B2" TargetMode="External"/><Relationship Id="rId15" Type="http://schemas.openxmlformats.org/officeDocument/2006/relationships/hyperlink" Target="http://ru.wikipedia.org/wiki/%25252525D0%252525259D%25252525D0%25252525BE%25252525D1%2525252582%25252525D0%25252525BE%25252525D0%25252525B7%25252525D0%25252525B5%25252525D1%2525252580%25252525D0%25252525BE_%2525252528%25252525D0%25252525B1%25252525D0%25252525B0%25252525D1%2525252581%25252525D1%2525252581%25252525D0%25252525B5%25252525D0%25252525B9%25252525D0%25252525BD_%25252525D0%25252525A2%25252525D1%2525252583%25252525D0%25252525BB%25252525D0%25252525BE%25252525D0%25252525BC%25252525D1%252525258B%2525252529" TargetMode="External"/><Relationship Id="rId16" Type="http://schemas.openxmlformats.org/officeDocument/2006/relationships/hyperlink" Target="http://ru.wikipedia.org/wiki/%25252525D0%252525259A%25252525D0%25252525BE%25252525D0%25252525BB%25252525D1%252525258C%25252525D1%2525252581%25252525D0%25252525BA%25252525D0%25252525B8%25252525D0%25252525B9_%25252525D0%25252525B7%25252525D0%25252525B0%25252525D0%25252525BB%25252525D0%25252525B8%25252525D0%25252525B2" TargetMode="External"/><Relationship Id="rId17" Type="http://schemas.openxmlformats.org/officeDocument/2006/relationships/hyperlink" Target="http://ru.wikipedia.org/wiki/%25252525D0%2525252591%25252525D0%25252525B0%25252525D1%2525252580%25252525D0%25252525B5%25252525D0%25252525BD%25252525D1%2525252586%25252525D0%25252525B5%25252525D0%25252525B2%25252525D0%25252525BE_%25252525D0%25252525BC%25252525D0%25252525BE%25252525D1%2525252580%25252525D0%25252525B5" TargetMode="External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771640" y="2492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276720" y="249228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4140360" y="2492280"/>
            <a:ext cx="50292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4643280" y="2492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5219640" y="256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5724360" y="2492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6227640" y="2492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6732720" y="249228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3708360" y="2565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7236000" y="2492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7740720" y="2492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2411280" y="3284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6"/>
          <a:stretch/>
        </p:blipFill>
        <p:spPr>
          <a:xfrm>
            <a:off x="2987640" y="3284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7"/>
          <a:stretch/>
        </p:blipFill>
        <p:spPr>
          <a:xfrm>
            <a:off x="3492360" y="3284640"/>
            <a:ext cx="57492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8"/>
          <a:stretch/>
        </p:blipFill>
        <p:spPr>
          <a:xfrm>
            <a:off x="3995640" y="3284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9"/>
          <a:stretch/>
        </p:blipFill>
        <p:spPr>
          <a:xfrm>
            <a:off x="4572000" y="3284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0"/>
          <a:stretch/>
        </p:blipFill>
        <p:spPr>
          <a:xfrm>
            <a:off x="5076720" y="3284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1"/>
          <a:stretch/>
        </p:blipFill>
        <p:spPr>
          <a:xfrm>
            <a:off x="5724360" y="3213000"/>
            <a:ext cx="381240" cy="690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7800" y="4071960"/>
            <a:ext cx="44575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Проект подготовили ученики 7а класса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ыхов Ви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Лаконен Сер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ихотский Анатол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анин Серг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Гапенкова Людмила  Пет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5440" y="333360"/>
            <a:ext cx="8267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образования и науки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е областное образовательное учреждение «Минькинская специальная (коррекционна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бщеобразовательная школа-интернат V ви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500040" y="3929040"/>
            <a:ext cx="32385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55680" y="1269720"/>
            <a:ext cx="3827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ДАЛЬНИЕ ЗЕЛЕНЦ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лок в 42 км к ССВ от Туманного на побережье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где-то в 1935 как биостанция Зоологического института (СПб). В поселке около 100 домов, один четырехэтажный, стоят 2 в/ч (погранцы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ВО (занимающиеся обнаружением, а не сбиванием: секретный военный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2882880" cy="1917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88600" y="274680"/>
            <a:ext cx="304920" cy="396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03ab"/>
                </a:solidFill>
                <a:latin typeface="Arial"/>
                <a:ea typeface="Arial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7345440" cy="48690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нский — посёлок городского типа в городском округе Ковдорский район Мурманской области, второй по размеру насел ённый пункт округа. Население — 2026 жителей (2002). Расстояние от районного центра 42 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м предприятием является МУП «Ёнское Жилищно-коммунальное предприятие». В поселке имеются средняя и музыкальная школы, детский сад, почта, больница, пожарная ча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9000" y="274680"/>
            <a:ext cx="385920" cy="549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03ab"/>
                </a:solidFill>
                <a:latin typeface="Arial"/>
                <a:ea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7815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ЗАОЗЕРСК, город в Мурманской области, закрытое административно-территориальное образование (ЗАТО), город областного подчинения, находящийся в ведении федеральных органов; расположен на берегу губы Западная Лица Мотовского залива Баренцева моря, в 37 км к северо-западу от Гаджиево, в 54 км к северо-западу от Мурманска. Население 13,1 тыс жителей (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69760" y="274680"/>
            <a:ext cx="318600" cy="472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a603ab"/>
                </a:solidFill>
                <a:latin typeface="Arial"/>
                <a:ea typeface="Arial"/>
              </a:rPr>
              <a:t>З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1554120" cy="1165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443640" y="3357720"/>
            <a:ext cx="1482840" cy="111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84720" y="5229360"/>
            <a:ext cx="1554480" cy="116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1280"/>
            <a:ext cx="29973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e4940"/>
                </a:solidFill>
                <a:latin typeface="Times New Roman"/>
                <a:ea typeface="Times New Roman"/>
              </a:rPr>
              <a:t>Имандра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зеро в юго-западной част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Кольского полуостро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ыше 140 островов, крупнейший, крупнейший —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Ер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6 км²). Впадает около 20 притоков, вытекает рек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Ни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07040" y="274680"/>
            <a:ext cx="428400" cy="579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603ab"/>
                </a:solidFill>
                <a:latin typeface="Arial"/>
                <a:ea typeface="Arial"/>
              </a:rPr>
              <a:t>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516720" y="1413000"/>
            <a:ext cx="1803240" cy="1193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638680" y="288288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152960" y="1168560"/>
            <a:ext cx="16509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1280"/>
            <a:ext cx="264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Кильдинское —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озер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Мурманской обла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положенное 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север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ольского полуостро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носится к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бассейн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Баренцева мор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ывается с ним через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реку Кол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28520" y="274680"/>
            <a:ext cx="362880" cy="579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603ab"/>
                </a:solidFill>
                <a:latin typeface="Arial"/>
                <a:ea typeface="Arial"/>
              </a:rPr>
              <a:t>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479760" y="1384200"/>
            <a:ext cx="52070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470480" y="274680"/>
            <a:ext cx="461880" cy="549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03ab"/>
                </a:solidFill>
                <a:latin typeface="Arial"/>
                <a:ea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683160" cy="5068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 </a:t>
            </a:r>
            <a:r>
              <a:rPr b="0" lang="en-US" sz="1800" spc="-1" strike="noStrike">
                <a:solidFill>
                  <a:srgbClr val="ff2712"/>
                </a:solidFill>
                <a:latin typeface="Arial Bold"/>
                <a:ea typeface="Arial Bold"/>
              </a:rPr>
              <a:t>Мончегор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 образован в 1937 году благодаря ошибочному мнению геологов, что в данном районе Кольского полуострова имеются огромные залежи медно-никелевых ру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м делом началась разработка месторождений в недрах горы Ниттис, одновременно начали возводить комбинат «Североникель» и город в красивой тундре, среди озер, назван город был - Мончегорск (созвучно с Монче-тундрой, где соответственно, он и располагается по сей ден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02120" y="1455840"/>
            <a:ext cx="3594240" cy="24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 Bold"/>
                <a:ea typeface="Arial Bold"/>
              </a:rPr>
              <a:t>Мунозе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озеро на юго-западе Кольского полуострова на территории Терского района.Относится к бассейну Белого мо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ff27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712"/>
                </a:solidFill>
                <a:latin typeface="Arial Bold"/>
                <a:ea typeface="Arial Bold"/>
              </a:rPr>
              <a:t>Могиль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озеро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о на остров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Кильд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берегу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Кильдинского проли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осёлком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Восточный Кильд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мысом Могильны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003640" y="156204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549600" y="4483080"/>
            <a:ext cx="5321520" cy="10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55CA-C4AF-4813-9DB4-C62E30A3A52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4762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2712"/>
                </a:solidFill>
                <a:latin typeface="Arial Bold"/>
                <a:ea typeface="Arial Bold"/>
              </a:rPr>
              <a:t>Оленегорск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сположен в центре Кольского полуострова. Рельефместности - предгорье и низко-горье. Здесь расположено Колозеро, его площадь - 65 квадратных километров. Оленегорск был заложен в августе 1947 года. Своим рождением он обязан крупному железорудному месторождению, открытому геологами еще в 1932 году, а названием – расположенной рядом железнодорожной станции Оленья (дата образования - 1916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3840" y="189000"/>
            <a:ext cx="407160" cy="502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603ab"/>
                </a:solidFill>
                <a:latin typeface="Arial"/>
                <a:ea typeface="Arial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43720" y="676440"/>
            <a:ext cx="1930320" cy="166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7480" y="876240"/>
            <a:ext cx="1575000" cy="1943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16520" y="3530520"/>
            <a:ext cx="1905120" cy="143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723080" y="2438280"/>
            <a:ext cx="11937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города Оленегорск, использовавшийя в советск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7080" y="8380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Полярные З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амый молодой город Мурманской области. Расстояние от Полярных Зорь до Мурманска - 220 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- электроэнергетика. Она представлена Кольской атомной электростанцией, расположенной на берегу озера Имандра. Кольская АЭС дает половину электроэнергии, производимой в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9040" y="274680"/>
            <a:ext cx="428400" cy="579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603ab"/>
                </a:solidFill>
                <a:latin typeface="Arial"/>
                <a:ea typeface="Arial"/>
              </a:rPr>
              <a:t>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29400" y="27468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83280" y="243828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72280" y="474984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11560" y="5168880"/>
            <a:ext cx="20826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1640"/>
            <a:ext cx="3035160" cy="32133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712"/>
                </a:solidFill>
                <a:latin typeface="Arial Bold"/>
                <a:ea typeface="Arial Bold"/>
              </a:rPr>
              <a:t>Печенга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еченгском рай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урманской 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Длина 110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Исток реки расположен на выходе из озер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ометяу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падает в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еченгскую губ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Баренцева мор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3040" y="274680"/>
            <a:ext cx="428400" cy="579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603ab"/>
                </a:solidFill>
                <a:latin typeface="Arial"/>
                <a:ea typeface="Arial"/>
              </a:rPr>
              <a:t>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588000" y="1484280"/>
            <a:ext cx="2374920" cy="158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4140360" y="3429000"/>
            <a:ext cx="45464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1511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440" y="4038480"/>
            <a:ext cx="3619440" cy="271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038480"/>
            <a:ext cx="3619440" cy="271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36560" y="1511280"/>
            <a:ext cx="339084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880" y="902880"/>
            <a:ext cx="3340080" cy="58294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Полярный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ород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Мурм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Росс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положен на берегу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Екатерининской гава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ольского зали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Баренцева мор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33 км о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Мурманс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селение — 16037 человек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2010 г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В городе расположе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военно-морская база Северного фло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5 м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200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казом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Президента Российской Федер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ярному присвоено почётное звание Российской Федерации «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Город воинской слав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5440" y="274680"/>
            <a:ext cx="472680" cy="655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a603ab"/>
                </a:solidFill>
                <a:latin typeface="Arial"/>
                <a:ea typeface="Arial"/>
              </a:rPr>
              <a:t>П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4203720" y="1295280"/>
            <a:ext cx="2031840" cy="1346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7035840" y="1803240"/>
            <a:ext cx="1143000" cy="146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5"/>
          <a:stretch/>
        </p:blipFill>
        <p:spPr>
          <a:xfrm>
            <a:off x="5541840" y="2641680"/>
            <a:ext cx="1397160" cy="1787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6"/>
          <a:stretch/>
        </p:blipFill>
        <p:spPr>
          <a:xfrm>
            <a:off x="3809880" y="4699080"/>
            <a:ext cx="1524240" cy="1130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7"/>
          <a:stretch/>
        </p:blipFill>
        <p:spPr>
          <a:xfrm>
            <a:off x="5537160" y="457200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8"/>
          <a:stretch/>
        </p:blipFill>
        <p:spPr>
          <a:xfrm>
            <a:off x="7264440" y="4800600"/>
            <a:ext cx="1523880" cy="927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9"/>
          <a:stretch/>
        </p:blipFill>
        <p:spPr>
          <a:xfrm>
            <a:off x="5473800" y="57276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3480" y="1169640"/>
            <a:ext cx="3568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712"/>
                </a:solidFill>
                <a:latin typeface="Arial Bold"/>
                <a:ea typeface="Arial Bold"/>
              </a:rPr>
              <a:t>Рев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сёлок городского ти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овозерском райо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урм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самый крупный населённый пункт района.  Население — 9344 жителя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010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712"/>
                </a:solidFill>
                <a:latin typeface="Arial Bold"/>
                <a:ea typeface="Arial Bold"/>
              </a:rPr>
              <a:t>Рыбачий (п-ов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стров Рыбчий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с.-саамск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iehkirnjárga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фин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lastajasaarento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норв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skerhalvøya) —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полуостр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евер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Кольского полуостро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1720" y="274680"/>
            <a:ext cx="419400" cy="609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03ab"/>
                </a:solidFill>
                <a:latin typeface="Arial"/>
                <a:ea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305240" y="1168560"/>
            <a:ext cx="1143000" cy="1320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6146640" y="1168560"/>
            <a:ext cx="2540160" cy="1346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4876920" y="369576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393840" y="5727600"/>
            <a:ext cx="1523880" cy="1016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00960" y="6464160"/>
            <a:ext cx="237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защитникам полуостр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407880"/>
            <a:ext cx="2933640" cy="61214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2712"/>
                </a:solidFill>
                <a:latin typeface="Arial Bold"/>
                <a:ea typeface="Arial Bold"/>
              </a:rPr>
              <a:t>Тито́вк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ин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Vaalesjoki) —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ек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урманской област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Длина 83 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м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Исток реки расположен на выходе из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зера Кошкаявр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впадает в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губу Титовк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отовского залив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Баренцева моря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2712"/>
                </a:solidFill>
                <a:latin typeface="Arial Bold"/>
                <a:ea typeface="Arial Bold"/>
              </a:rPr>
              <a:t>Туло́м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рек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Кольском полуостров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Мурманской област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Росси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 Длина 64 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км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Площадь бассейна 6 250 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км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Исток реки расположен на выходе из озера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Нотозеро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впадает в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Кольский зали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Баренцева мор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42120" y="274680"/>
            <a:ext cx="390240" cy="609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03ab"/>
                </a:solidFill>
                <a:latin typeface="Arial"/>
                <a:ea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8"/>
          <a:stretch/>
        </p:blipFill>
        <p:spPr>
          <a:xfrm>
            <a:off x="4572000" y="87624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9"/>
          <a:stretch/>
        </p:blipFill>
        <p:spPr>
          <a:xfrm>
            <a:off x="4902120" y="3924360"/>
            <a:ext cx="317520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56080" y="274680"/>
            <a:ext cx="419400" cy="609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03ab"/>
                </a:solidFill>
                <a:latin typeface="Arial"/>
                <a:ea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бины - самые высокие за полярным кругом России горы,  соответственно, из за разряжённого арктического воздуха условия в Хибинах сильно приближенны к высокогорью. Наивысшая отметка в Хибинах - 1200 мет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3024000" cy="2016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539400">
            <a:off x="6153120" y="256032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 rot="21180000">
            <a:off x="5508360" y="4286160"/>
            <a:ext cx="238104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www.monchegorsk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ru.wikipedia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географической номенклатурой Мурманской области и систематизировать географические объекты в виде азб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ctr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довательность наше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Определили тему проекта, поставили  цели и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Запланировали направления работы каждого участника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аждый подбирал материал на определённую букву алфавита и оформляли в виде презентации или Word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Провели исследование «Мы родом из…» в виде опроса. Цель: узнать о том, знают ли ребята где они родились. От куда приехало больше всего учеников в нашу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Полученные результаты проанализировали, систематизировали  и оформили в виде электронной азбуки - презен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6520" y="907920"/>
            <a:ext cx="2921040" cy="2184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56080" y="1760400"/>
            <a:ext cx="232704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21320" y="274680"/>
            <a:ext cx="233280" cy="27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03ab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09760" y="4089240"/>
            <a:ext cx="233676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62320" y="4089240"/>
            <a:ext cx="2921040" cy="2184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21360" y="2122560"/>
            <a:ext cx="279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800" spc="-1" strike="noStrike">
                <a:solidFill>
                  <a:srgbClr val="dd252e"/>
                </a:solidFill>
                <a:latin typeface="Arial Bold"/>
                <a:ea typeface="Arial Bold"/>
              </a:rPr>
              <a:t>Апат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ата основания 1924 г., когда возник поселок Белоречен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 1966 г. – город областного подчи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236000" y="189000"/>
            <a:ext cx="112536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31000" y="274680"/>
            <a:ext cx="276120" cy="35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603ab"/>
                </a:solidFill>
                <a:latin typeface="Arial"/>
                <a:ea typeface="Arial"/>
              </a:rPr>
              <a:t>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3640" y="2182680"/>
            <a:ext cx="2552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9212f"/>
                </a:solidFill>
                <a:latin typeface="Arial Bold"/>
                <a:ea typeface="Arial Bold"/>
              </a:rPr>
              <a:t>    </a:t>
            </a:r>
            <a:r>
              <a:rPr b="0" lang="en-US" sz="1800" spc="-1" strike="noStrike">
                <a:solidFill>
                  <a:srgbClr val="c9212f"/>
                </a:solidFill>
                <a:latin typeface="Arial Bold"/>
                <a:ea typeface="Arial Bold"/>
              </a:rPr>
              <a:t>Абрам -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егенда гласит, что Абрам-мыс назван в честь кольского церковника Варлаама Керетск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06640" y="2340000"/>
            <a:ext cx="2921040" cy="2184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5360" y="976320"/>
            <a:ext cx="2921040" cy="218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34920" y="4272120"/>
            <a:ext cx="2921040" cy="21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06080" y="1130400"/>
            <a:ext cx="4368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1" lang="en-US" sz="18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Варзуг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ело в Терском районе Мурманской области. Население — 351 житель (2002). Расстояние от районного центра 140 км. Село расположено на двух берегах реки Варзуге в 22 км от ее впадения в Белое море. Левая, более древняя сторона села носит название Никольской, а правая — Пречистенской, или Успенской стороны (по названиям храмов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280" y="333360"/>
            <a:ext cx="259200" cy="320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603ab"/>
                </a:solidFill>
                <a:latin typeface="Arial"/>
                <a:ea typeface="Arial"/>
              </a:rPr>
              <a:t>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174840" cy="165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2952720" cy="38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762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ция во многом уникальна. Она является самой крупной на Кольском полуострове, ее Уст. мощность – 268 МегаВт. Причем первоначально этот показатель составил 228 МегаВт, однако после проведения комплекса работ по модернизации генераторов и другого оборудования его удалось существенно увеличить. Кроме того, это одна из трех подземных ГЭС на территории Мурманской области. Если до сооружения станции и плотины река Тулома на отрезке в 2,5 км имела перепад 28 метров, то благодаря размещенному под землей машинному залу ГЭС напор воды составил здесь 60 метро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000" y="333360"/>
            <a:ext cx="259200" cy="320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603ab"/>
                </a:solidFill>
                <a:latin typeface="Arial"/>
                <a:ea typeface="Arial"/>
              </a:rPr>
              <a:t>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7352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619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Гаджие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ород в Мурманской области, (ЗАТО Скалистый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00 чел. (2005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967 года, будучи посёлком, город Скалистый именовался Ягельная Губа. 16 октября 1967 года получил название Гаджиево, в память о Герое Советского Союза капитане 2 ранга Магомете Имадутиновиче Гаджиеве, погибшем 12 мая 1942 года в бою на подводной лодке К-2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17280" y="404640"/>
            <a:ext cx="225720" cy="320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603ab"/>
                </a:solidFill>
                <a:latin typeface="Arial"/>
                <a:ea typeface="Arial"/>
              </a:rPr>
              <a:t>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24360" y="1411200"/>
            <a:ext cx="194328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04000" y="465300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19432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/>
  <cp:revision>0</cp:revision>
  <dc:subject/>
  <dc:title>Слайд 1</dc:title>
</cp:coreProperties>
</file>