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0ED-DFD2-4ED7-BFC0-0091CC1A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748-7291-44AD-BCBB-6059E53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DF7-BC9F-4FE0-8462-2414B7BE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0ED-7311-46A6-B629-EDC3925C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6ECCF-F550-4969-A441-8A949318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07B0-C1B5-47E4-8671-574A9C49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6FA70-9A60-4886-8F1E-977D4E21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8745B-AE58-4C14-A8B1-65F08B3A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15B29-1AB7-4A7C-9DB4-414FCFA5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A35FA-97E2-4B0D-9D80-330FBB5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96955-AA4D-4F93-A7FC-693BF50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DDD-8DD4-4D6F-ADE7-588279DD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6736D-D9F5-400F-AB88-1BE9681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89A48-A716-4C73-B54A-25EAA755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0D0B7-5FF4-4D28-913A-53451B8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D8922-B408-4040-9351-DFF03DD3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77D8C-3670-4C05-BAAE-A82BCE46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169-FEA0-44FF-8A88-61360334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768-3010-4933-B6BC-66BA68BD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3AE-98E5-4F6D-B20C-63AEFA9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85C-BC66-440F-AAE4-CC9DA10A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75B-954B-484B-A5ED-483D99A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49B-BB46-4E48-A979-A974698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B16-4743-4168-89B8-1F37CBE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481D-C0FB-48B8-829D-34C3CF038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1D2A-CAAD-4DAE-8803-24188E46FB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edi.belki.info/wp-content/uploads/2010/12/image_thumb56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Тесты «Звуки и буквы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Тылик Татьяна Иванов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учитель-логопе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МОУ Газ-Салинская СОШ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Тазовского района ЯНА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се звуки русского языка 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делятся н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042920" y="2133720"/>
            <a:ext cx="360036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сные и неглас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979640" y="3716280"/>
            <a:ext cx="3744720" cy="86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сные и соглас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276720" y="5373720"/>
            <a:ext cx="439236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сные и несоглас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8" descr="Картинка 14 из 95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1152720" cy="113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0983547"/>
          <p:cNvPicPr/>
          <p:nvPr/>
        </p:nvPicPr>
        <p:blipFill>
          <a:blip r:embed="rId3"/>
          <a:stretch/>
        </p:blipFill>
        <p:spPr>
          <a:xfrm>
            <a:off x="4643280" y="1989000"/>
            <a:ext cx="1032120" cy="103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0983547"/>
          <p:cNvPicPr/>
          <p:nvPr/>
        </p:nvPicPr>
        <p:blipFill>
          <a:blip r:embed="rId4"/>
          <a:stretch/>
        </p:blipFill>
        <p:spPr>
          <a:xfrm>
            <a:off x="7667640" y="53244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колько всего в русском языке гласных звуков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539640" y="2276640"/>
            <a:ext cx="2449800" cy="720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908000" y="3141720"/>
            <a:ext cx="2303640" cy="720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067280" y="486900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132000" y="4005360"/>
            <a:ext cx="2016360" cy="720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Картинка 8 из 2177"/>
          <p:cNvPicPr/>
          <p:nvPr/>
        </p:nvPicPr>
        <p:blipFill>
          <a:blip r:embed="rId1"/>
          <a:stretch/>
        </p:blipFill>
        <p:spPr>
          <a:xfrm>
            <a:off x="4211640" y="2846520"/>
            <a:ext cx="1003320" cy="10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0983547"/>
          <p:cNvPicPr/>
          <p:nvPr/>
        </p:nvPicPr>
        <p:blipFill>
          <a:blip r:embed="rId2"/>
          <a:stretch/>
        </p:blipFill>
        <p:spPr>
          <a:xfrm>
            <a:off x="2987640" y="1984320"/>
            <a:ext cx="1013040" cy="101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0983547"/>
          <p:cNvPicPr/>
          <p:nvPr/>
        </p:nvPicPr>
        <p:blipFill>
          <a:blip r:embed="rId3"/>
          <a:stretch/>
        </p:blipFill>
        <p:spPr>
          <a:xfrm>
            <a:off x="5148360" y="385776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0983547"/>
          <p:cNvPicPr/>
          <p:nvPr/>
        </p:nvPicPr>
        <p:blipFill>
          <a:blip r:embed="rId4"/>
          <a:stretch/>
        </p:blipFill>
        <p:spPr>
          <a:xfrm>
            <a:off x="6300720" y="4673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буквы не обозначают звуков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684360" y="1916280"/>
            <a:ext cx="2736720" cy="93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ahoma"/>
              </a:rPr>
              <a:t>Я,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6372360" y="5084640"/>
            <a:ext cx="2520720" cy="936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ahoma"/>
              </a:rPr>
              <a:t>И,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4140360" y="4076640"/>
            <a:ext cx="2592360" cy="936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ahoma"/>
              </a:rPr>
              <a:t>Ъ,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2195640" y="2997360"/>
            <a:ext cx="2735280" cy="865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ahoma"/>
              </a:rPr>
              <a:t>Е,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колько звуков в слове </a:t>
            </a: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ЯМ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1" descr="100_6827"/>
          <p:cNvPicPr/>
          <p:nvPr/>
        </p:nvPicPr>
        <p:blipFill>
          <a:blip r:embed="rId1"/>
          <a:srcRect l="0" t="0" r="51275" b="0"/>
          <a:stretch/>
        </p:blipFill>
        <p:spPr>
          <a:xfrm>
            <a:off x="5580000" y="1700280"/>
            <a:ext cx="1368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100_6827"/>
          <p:cNvPicPr/>
          <p:nvPr/>
        </p:nvPicPr>
        <p:blipFill>
          <a:blip r:embed="rId2"/>
          <a:srcRect l="50199" t="0" r="0" b="0"/>
          <a:stretch/>
        </p:blipFill>
        <p:spPr>
          <a:xfrm>
            <a:off x="6948360" y="1700280"/>
            <a:ext cx="1214640" cy="2305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7"/>
          <p:cNvSpPr/>
          <p:nvPr/>
        </p:nvSpPr>
        <p:spPr>
          <a:xfrm>
            <a:off x="2124000" y="220500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2124000" y="4508640"/>
            <a:ext cx="2089080" cy="100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0" descr="100_6827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651640" y="4149720"/>
            <a:ext cx="2511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колько звуков в слове </a:t>
            </a: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КОНЬ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195640" y="4797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124000" y="270828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100_7538"/>
          <p:cNvPicPr/>
          <p:nvPr/>
        </p:nvPicPr>
        <p:blipFill>
          <a:blip r:embed="rId1"/>
          <a:stretch/>
        </p:blipFill>
        <p:spPr>
          <a:xfrm>
            <a:off x="5580000" y="206064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100_7538"/>
          <p:cNvPicPr/>
          <p:nvPr/>
        </p:nvPicPr>
        <p:blipFill>
          <a:blip r:embed="rId2">
            <a:grayscl/>
          </a:blip>
          <a:stretch/>
        </p:blipFill>
        <p:spPr>
          <a:xfrm>
            <a:off x="5435640" y="44370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Отлично"/>
          <p:cNvPicPr/>
          <p:nvPr/>
        </p:nvPicPr>
        <p:blipFill>
          <a:blip r:embed="rId1"/>
          <a:stretch/>
        </p:blipFill>
        <p:spPr>
          <a:xfrm>
            <a:off x="2268360" y="2349360"/>
            <a:ext cx="51120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Интернет-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http://ledi.belki.info/wp-content/uploads/2010/12/image_thumb56.p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смайл-улыб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http://www.live4.ru/board/img_flintir_26586_0.jpg смайл-девоч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http://notrg.ucoz.ru/_fr/0/0983547.jpg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грустный смай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http://blestki.com/blagodarnosti/vostorg/blagoda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Фотограф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з личного арх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1:42:16Z</dcterms:created>
  <dc:creator>Тылик</dc:creator>
  <dc:description/>
  <dc:language>en-US</dc:language>
  <cp:lastModifiedBy>Пользователь Windows</cp:lastModifiedBy>
  <dcterms:modified xsi:type="dcterms:W3CDTF">2011-04-07T17:01:31Z</dcterms:modified>
  <cp:revision>5</cp:revision>
  <dc:subject/>
  <dc:title>Тесты</dc:title>
</cp:coreProperties>
</file>