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55E-F22F-4FCB-AA48-369BCD7A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A1D-418A-4836-B4EB-BB6B02DB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589-FB20-4408-B7DE-D376AECB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69D-CF59-4B5D-8F6F-A8D86A4C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631-6476-44AE-8573-EC500419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E72-76DE-4A0A-AF7D-AA4BBA9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F6D-E20D-4C70-BA09-5D5ED0B0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6E0-9C79-412C-8AAF-4BD5D349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286-8C36-4996-A027-D92D0F38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679-C935-4CAB-B064-198ABE4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F2E-BCFB-4140-9713-CBE3293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657-75A8-46FA-80EE-A3D39C3A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4DDB-FCC0-4B91-91F5-A2C17506D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19.radikal.ru/i192/1105/7e/1fa2daebfa0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Sun-ExtB"/>
              </a:rPr>
              <a:t>Л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8 из 144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754280"/>
            <a:ext cx="65530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ий вид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си - самый большой из оленей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откое туловище и очень высокие но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ая, тяжелая, вытянутая и узкая го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вистые, массивные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ши большие, дл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я короткая, мускул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ст очень короткий, незаме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с, лесостепь, тундра, тай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сь населяет всю лесную зону России, а так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вроп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220032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ется л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старниками и тра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хами, лишайниками и гриб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ными раст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ой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ждение лос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цы начинают ухаживать за самками в начале авгу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сята рождаются вес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ыши сначала кормятся только ветками и листьями, а затем обучаются есть траву, ползая на колен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3280" y="1805040"/>
            <a:ext cx="4043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ди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си быстро бегаю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60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 пла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жат голову под водой больше мину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щищаются от хищников ударами передних 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си плохо видят, но имеют развитый слух и обоня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3280" y="2554200"/>
            <a:ext cx="40388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6:09:47Z</dcterms:created>
  <dc:creator>Сергей</dc:creator>
  <dc:description/>
  <dc:language>en-US</dc:language>
  <cp:lastModifiedBy>Admin</cp:lastModifiedBy>
  <dcterms:modified xsi:type="dcterms:W3CDTF">2012-02-13T06:15:32Z</dcterms:modified>
  <cp:revision>7</cp:revision>
  <dc:subject/>
  <dc:title>ЛОСЬ</dc:title>
</cp:coreProperties>
</file>