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9.png" ContentType="image/png"/>
  <Override PartName="/ppt/media/image7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1566-C4BE-4DC7-8D91-8EFEDDEE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5C86-5BEC-40C3-B293-81093E46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B807-8083-4016-85F8-8A443BFA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D0C5-D792-403F-A910-BB949BE0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F966-2B41-4B87-8C8E-EE9B37FB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C6C5-947E-4DFF-AAB4-D67CEAA0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3A2-32B4-4731-8A00-8783A4FB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E59-E280-404D-81FE-E5F4EDF3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AB11-761B-4568-A553-EFF105A5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C00C-AB26-4FE5-9613-2974C235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34A7-D1D0-44FB-BDC2-8EC44444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99BB-2BD4-4CBD-BA01-A49BE91A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2F2F-9B48-420C-8E50-422052625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7.png"/><Relationship Id="rId4" Type="http://schemas.openxmlformats.org/officeDocument/2006/relationships/slide" Target="slide7.xml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3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11917" t="0" r="0" b="0"/>
          <a:stretch/>
        </p:blipFill>
        <p:spPr>
          <a:xfrm>
            <a:off x="7236000" y="4797360"/>
            <a:ext cx="865080" cy="73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48320" y="1447920"/>
            <a:ext cx="4114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Урок русского языка в 4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УМК «Гармония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2286000"/>
            <a:ext cx="3786120" cy="3809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743200" y="3962520"/>
            <a:ext cx="281952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реч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2017800" cy="2114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43400" y="62164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Автор: Дробаха О.В., учитель начальных классов гимназии №4 г. Мурма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rcRect l="11917" t="0" r="0" b="0"/>
          <a:stretch/>
        </p:blipFill>
        <p:spPr>
          <a:xfrm>
            <a:off x="7467480" y="0"/>
            <a:ext cx="1676520" cy="1433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2556000" y="692280"/>
            <a:ext cx="35398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команд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rcRect l="16227" t="20756" r="18932" b="0"/>
          <a:stretch/>
        </p:blipFill>
        <p:spPr>
          <a:xfrm>
            <a:off x="0" y="0"/>
            <a:ext cx="117000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2971800" y="2133720"/>
            <a:ext cx="2926440" cy="906480"/>
            <a:chOff x="2971800" y="2133720"/>
            <a:chExt cx="2926440" cy="906480"/>
          </a:xfrm>
        </p:grpSpPr>
        <p:grpSp>
          <p:nvGrpSpPr>
            <p:cNvPr id="221" name="Group 13"/>
            <p:cNvGrpSpPr/>
            <p:nvPr/>
          </p:nvGrpSpPr>
          <p:grpSpPr>
            <a:xfrm>
              <a:off x="3124080" y="2133720"/>
              <a:ext cx="2774160" cy="905040"/>
              <a:chOff x="3124080" y="2133720"/>
              <a:chExt cx="2774160" cy="905040"/>
            </a:xfrm>
          </p:grpSpPr>
          <p:sp>
            <p:nvSpPr>
              <p:cNvPr id="222" name="Line 10"/>
              <p:cNvSpPr/>
              <p:nvPr/>
            </p:nvSpPr>
            <p:spPr>
              <a:xfrm>
                <a:off x="5898240" y="2133720"/>
                <a:ext cx="0" cy="9050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1"/>
              <p:cNvSpPr/>
              <p:nvPr/>
            </p:nvSpPr>
            <p:spPr>
              <a:xfrm>
                <a:off x="3124080" y="2133720"/>
                <a:ext cx="27741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2"/>
              <p:cNvSpPr/>
              <p:nvPr/>
            </p:nvSpPr>
            <p:spPr>
              <a:xfrm>
                <a:off x="3124080" y="2133720"/>
                <a:ext cx="0" cy="5997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2971800" y="2735640"/>
              <a:ext cx="304560" cy="304560"/>
              <a:chOff x="2971800" y="2735640"/>
              <a:chExt cx="304560" cy="304560"/>
            </a:xfrm>
          </p:grpSpPr>
          <p:sp>
            <p:nvSpPr>
              <p:cNvPr id="226" name=""/>
              <p:cNvSpPr/>
              <p:nvPr/>
            </p:nvSpPr>
            <p:spPr>
              <a:xfrm>
                <a:off x="2971800" y="2735640"/>
                <a:ext cx="304560" cy="3045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2971800" y="2735640"/>
                <a:ext cx="304560" cy="3045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"/>
          <p:cNvSpPr txBox="1"/>
          <p:nvPr/>
        </p:nvSpPr>
        <p:spPr>
          <a:xfrm>
            <a:off x="4724280" y="3124080"/>
            <a:ext cx="2286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нареч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666880" y="3124080"/>
            <a:ext cx="762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31640" y="4581360"/>
            <a:ext cx="27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стоим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6200" y="5157720"/>
            <a:ext cx="40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мя прилага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56400" y="4076640"/>
            <a:ext cx="43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мя 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85080" y="4005360"/>
            <a:ext cx="14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68000" y="4653000"/>
            <a:ext cx="17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е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61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61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2.96296E-006 L -0.46389 -0.0074 E">
                                      <p:cBhvr>
                                        <p:cTn id="619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7.40741E-007 L -0.43351 -0.00116 E">
                                      <p:cBhvr>
                                        <p:cTn id="621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68400" y="1125360"/>
            <a:ext cx="62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ботает честно, на совесть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70920" y="2276640"/>
            <a:ext cx="714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елает нарочно, преднамеренно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69120" y="3429000"/>
            <a:ext cx="53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писал опрятно, чисто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rcRect l="11917" t="0" r="0" b="0"/>
          <a:stretch/>
        </p:blipFill>
        <p:spPr>
          <a:xfrm>
            <a:off x="6443640" y="4508640"/>
            <a:ext cx="2036880" cy="17413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0" y="1700280"/>
            <a:ext cx="3247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обросовест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3280" y="2997360"/>
            <a:ext cx="3248280" cy="37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ециаль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0" y="4076640"/>
            <a:ext cx="3247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ккурат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trips dir="ld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36520" y="2890800"/>
            <a:ext cx="1800360" cy="23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48520" y="2819520"/>
            <a:ext cx="1800000" cy="23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635280" y="3429000"/>
            <a:ext cx="1909440" cy="2379960"/>
            <a:chOff x="3635280" y="3429000"/>
            <a:chExt cx="1909440" cy="2379960"/>
          </a:xfrm>
        </p:grpSpPr>
        <p:sp>
          <p:nvSpPr>
            <p:cNvPr id="245" name=""/>
            <p:cNvSpPr/>
            <p:nvPr/>
          </p:nvSpPr>
          <p:spPr>
            <a:xfrm>
              <a:off x="3635280" y="3429000"/>
              <a:ext cx="1909440" cy="237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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93920" y="4606920"/>
              <a:ext cx="8888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46200" y="4911840"/>
              <a:ext cx="646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 txBox="1"/>
          <p:nvPr/>
        </p:nvSpPr>
        <p:spPr>
          <a:xfrm>
            <a:off x="1908000" y="765000"/>
            <a:ext cx="5472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Твоё настроение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rcRect l="11917" t="0" r="0" b="0"/>
          <a:stretch/>
        </p:blipFill>
        <p:spPr>
          <a:xfrm>
            <a:off x="4067280" y="2133720"/>
            <a:ext cx="1244520" cy="1063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rcRect l="11917" t="0" r="0" b="0"/>
          <a:stretch/>
        </p:blipFill>
        <p:spPr>
          <a:xfrm>
            <a:off x="2195640" y="4797360"/>
            <a:ext cx="1244520" cy="10638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4852800" cy="5085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0" y="1341360"/>
            <a:ext cx="374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- Молодцы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rcRect l="11917" t="0" r="0" b="0"/>
          <a:stretch/>
        </p:blipFill>
        <p:spPr>
          <a:xfrm>
            <a:off x="611280" y="3860640"/>
            <a:ext cx="2819160" cy="241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19640" y="549360"/>
            <a:ext cx="518472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rcRect l="3228" t="1930" r="55067" b="80726"/>
          <a:stretch/>
        </p:blipFill>
        <p:spPr>
          <a:xfrm>
            <a:off x="3780000" y="907920"/>
            <a:ext cx="4538520" cy="2595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755640" y="1268280"/>
            <a:ext cx="2352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имназия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859280" y="5084640"/>
            <a:ext cx="2352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реч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356000" y="1052640"/>
            <a:ext cx="16002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ят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3" name="" descr="">
            <a:hlinkClick r:id="rId2" action="ppaction://hlinksldjump"/>
          </p:cNvPr>
          <p:cNvPicPr/>
          <p:nvPr/>
        </p:nvPicPr>
        <p:blipFill>
          <a:blip r:embed="rId3"/>
          <a:srcRect l="16489" t="1138" r="9285" b="0"/>
          <a:stretch/>
        </p:blipFill>
        <p:spPr>
          <a:xfrm>
            <a:off x="2771640" y="620640"/>
            <a:ext cx="1371600" cy="135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6516720" y="2637000"/>
            <a:ext cx="1419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п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5" name="" descr="">
            <a:hlinkClick r:id="rId4" action="ppaction://hlinksldjump"/>
          </p:cNvPr>
          <p:cNvPicPr/>
          <p:nvPr/>
        </p:nvPicPr>
        <p:blipFill>
          <a:blip r:embed="rId5"/>
          <a:srcRect l="5316" t="21340" r="9448" b="20005"/>
          <a:stretch/>
        </p:blipFill>
        <p:spPr>
          <a:xfrm>
            <a:off x="6372360" y="3429000"/>
            <a:ext cx="1628640" cy="1119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059280" y="5157720"/>
            <a:ext cx="1981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манд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87280" y="2708280"/>
            <a:ext cx="141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зл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116000" y="3429000"/>
            <a:ext cx="1517760" cy="1271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rcRect l="11917" t="0" r="0" b="0"/>
          <a:stretch/>
        </p:blipFill>
        <p:spPr>
          <a:xfrm>
            <a:off x="3132000" y="2205000"/>
            <a:ext cx="2819520" cy="2411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rcRect l="16227" t="20756" r="18932" b="0"/>
          <a:stretch/>
        </p:blipFill>
        <p:spPr>
          <a:xfrm>
            <a:off x="5292720" y="4724280"/>
            <a:ext cx="1036800" cy="14860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5003640" y="3357720"/>
            <a:ext cx="935280" cy="934920"/>
            <a:chOff x="5003640" y="3357720"/>
            <a:chExt cx="935280" cy="934920"/>
          </a:xfrm>
        </p:grpSpPr>
        <p:sp>
          <p:nvSpPr>
            <p:cNvPr id="62" name=""/>
            <p:cNvSpPr/>
            <p:nvPr/>
          </p:nvSpPr>
          <p:spPr>
            <a:xfrm>
              <a:off x="5003640" y="3357720"/>
              <a:ext cx="935280" cy="93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19640" y="3357720"/>
              <a:ext cx="336600" cy="93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5290920" y="3428280"/>
              <a:ext cx="360360" cy="935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979640" y="54936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прят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16489" t="1138" r="9285" b="0"/>
          <a:stretch/>
        </p:blipFill>
        <p:spPr>
          <a:xfrm>
            <a:off x="0" y="0"/>
            <a:ext cx="1371600" cy="1359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rcRect l="11917" t="0" r="0" b="0"/>
          <a:stretch/>
        </p:blipFill>
        <p:spPr>
          <a:xfrm>
            <a:off x="7543800" y="0"/>
            <a:ext cx="1600200" cy="1368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676520"/>
            <a:ext cx="8893080" cy="5181480"/>
          </a:xfrm>
          <a:prstGeom prst="cloudCallout">
            <a:avLst>
              <a:gd name="adj1" fmla="val 35092"/>
              <a:gd name="adj2" fmla="val -60018"/>
            </a:avLst>
          </a:prstGeom>
          <a:solidFill>
            <a:srgbClr val="d3fe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8252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ечие – это ___________ часть речи, которая обознач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_______________ _________________________и отвечает  на вопрос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8252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27640" y="2565360"/>
            <a:ext cx="342900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амостоятель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484360" y="4869000"/>
            <a:ext cx="3657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как? где? когд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5373720"/>
            <a:ext cx="7345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очему? зачем? в какой степени? и д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80000" y="3429000"/>
            <a:ext cx="3581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изнак действи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79640" y="4005360"/>
            <a:ext cx="4495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изнак другого призн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1628640"/>
            <a:ext cx="8076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енью в лесу земля покрыта разноцветными листьями. Утром там на лужайке весело резвились листопаднички. Очень интересную игру они придумали – прятки в листве. Вдруг сзади среди кустов показался чей-то серый хвост! Страшно! Быстро прыгнули зайчата вперёд и побежали дом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9640" y="476280"/>
            <a:ext cx="815184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сенью  в  лесу  земля  покры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ноцветными  листьями.  Утром  там  н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ужайке  весело  резвились листопаднич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чень  интересную  игру  они придумали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ятки  в  листве. Вдруг  сзади среди куст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казался  чей-то  серый  хвост!  Страшно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Быстро  прыгнули  зайчата  вперёд  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бежали   дом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300720" y="981000"/>
            <a:ext cx="2286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68360" y="260280"/>
            <a:ext cx="2286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14600" y="1828800"/>
            <a:ext cx="838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о.д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067280" y="3357720"/>
            <a:ext cx="838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о.д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164360" y="4149720"/>
            <a:ext cx="838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о.д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619280" y="4869000"/>
            <a:ext cx="838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о.д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443640" y="4869000"/>
            <a:ext cx="304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08720" y="5661000"/>
            <a:ext cx="304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51640" y="3357720"/>
            <a:ext cx="3045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380360" y="1052640"/>
            <a:ext cx="3045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19320" y="2590920"/>
            <a:ext cx="5331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ст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pic>
        <p:nvPicPr>
          <p:cNvPr id="87" name="" descr="">
            <a:hlinkClick r:id="rId2" action="ppaction://hlinksldjump"/>
          </p:cNvPr>
          <p:cNvPicPr/>
          <p:nvPr/>
        </p:nvPicPr>
        <p:blipFill>
          <a:blip r:embed="rId3"/>
          <a:srcRect l="11917" t="0" r="0" b="0"/>
          <a:stretch/>
        </p:blipFill>
        <p:spPr>
          <a:xfrm>
            <a:off x="8077320" y="5945040"/>
            <a:ext cx="1066680" cy="91296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2411280" y="2565360"/>
            <a:ext cx="1219320" cy="0"/>
            <a:chOff x="2411280" y="2565360"/>
            <a:chExt cx="1219320" cy="0"/>
          </a:xfrm>
        </p:grpSpPr>
        <p:sp>
          <p:nvSpPr>
            <p:cNvPr id="89" name=""/>
            <p:cNvSpPr/>
            <p:nvPr/>
          </p:nvSpPr>
          <p:spPr>
            <a:xfrm>
              <a:off x="2411280" y="2565360"/>
              <a:ext cx="304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68480" y="25653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97080" y="2565360"/>
              <a:ext cx="304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54280" y="256536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148360" y="4149720"/>
            <a:ext cx="1218600" cy="0"/>
            <a:chOff x="5148360" y="4149720"/>
            <a:chExt cx="1218600" cy="0"/>
          </a:xfrm>
        </p:grpSpPr>
        <p:sp>
          <p:nvSpPr>
            <p:cNvPr id="94" name=""/>
            <p:cNvSpPr/>
            <p:nvPr/>
          </p:nvSpPr>
          <p:spPr>
            <a:xfrm>
              <a:off x="5148360" y="4149720"/>
              <a:ext cx="304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05200" y="4149720"/>
              <a:ext cx="75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33800" y="4149720"/>
              <a:ext cx="304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1000" y="4149720"/>
              <a:ext cx="75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708360" y="4149720"/>
            <a:ext cx="1219320" cy="0"/>
            <a:chOff x="3708360" y="4149720"/>
            <a:chExt cx="1219320" cy="0"/>
          </a:xfrm>
        </p:grpSpPr>
        <p:sp>
          <p:nvSpPr>
            <p:cNvPr id="99" name=""/>
            <p:cNvSpPr/>
            <p:nvPr/>
          </p:nvSpPr>
          <p:spPr>
            <a:xfrm>
              <a:off x="3708360" y="4149720"/>
              <a:ext cx="304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65560" y="414972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94160" y="4149720"/>
              <a:ext cx="304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51360" y="414972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826920" y="3357720"/>
            <a:ext cx="1219320" cy="0"/>
            <a:chOff x="826920" y="3357720"/>
            <a:chExt cx="1219320" cy="0"/>
          </a:xfrm>
        </p:grpSpPr>
        <p:sp>
          <p:nvSpPr>
            <p:cNvPr id="104" name=""/>
            <p:cNvSpPr/>
            <p:nvPr/>
          </p:nvSpPr>
          <p:spPr>
            <a:xfrm>
              <a:off x="826920" y="3357720"/>
              <a:ext cx="304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84120" y="335772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12720" y="3357720"/>
              <a:ext cx="304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69920" y="335772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732720" y="4869000"/>
            <a:ext cx="1523160" cy="0"/>
            <a:chOff x="6732720" y="4869000"/>
            <a:chExt cx="1523160" cy="0"/>
          </a:xfrm>
        </p:grpSpPr>
        <p:sp>
          <p:nvSpPr>
            <p:cNvPr id="109" name=""/>
            <p:cNvSpPr/>
            <p:nvPr/>
          </p:nvSpPr>
          <p:spPr>
            <a:xfrm>
              <a:off x="6732720" y="48690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04040" y="4869000"/>
              <a:ext cx="95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89520" y="48690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60840" y="4869000"/>
              <a:ext cx="95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258920" y="5737320"/>
            <a:ext cx="1371240" cy="0"/>
            <a:chOff x="1258920" y="5737320"/>
            <a:chExt cx="1371240" cy="0"/>
          </a:xfrm>
        </p:grpSpPr>
        <p:sp>
          <p:nvSpPr>
            <p:cNvPr id="114" name=""/>
            <p:cNvSpPr/>
            <p:nvPr/>
          </p:nvSpPr>
          <p:spPr>
            <a:xfrm>
              <a:off x="1258920" y="5737320"/>
              <a:ext cx="34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73000" y="5737320"/>
              <a:ext cx="85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30040" y="5737320"/>
              <a:ext cx="34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44480" y="5737320"/>
              <a:ext cx="85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076720" y="6308640"/>
            <a:ext cx="1219320" cy="0"/>
            <a:chOff x="5076720" y="6308640"/>
            <a:chExt cx="1219320" cy="0"/>
          </a:xfrm>
        </p:grpSpPr>
        <p:sp>
          <p:nvSpPr>
            <p:cNvPr id="119" name=""/>
            <p:cNvSpPr/>
            <p:nvPr/>
          </p:nvSpPr>
          <p:spPr>
            <a:xfrm>
              <a:off x="5076720" y="6308640"/>
              <a:ext cx="304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33920" y="63086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62520" y="6308640"/>
              <a:ext cx="304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19720" y="63086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300720" y="5661000"/>
            <a:ext cx="1219320" cy="0"/>
            <a:chOff x="6300720" y="5661000"/>
            <a:chExt cx="1219320" cy="0"/>
          </a:xfrm>
        </p:grpSpPr>
        <p:sp>
          <p:nvSpPr>
            <p:cNvPr id="124" name=""/>
            <p:cNvSpPr/>
            <p:nvPr/>
          </p:nvSpPr>
          <p:spPr>
            <a:xfrm>
              <a:off x="6300720" y="5661000"/>
              <a:ext cx="304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57920" y="566100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86520" y="5661000"/>
              <a:ext cx="304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43720" y="566100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763640" y="1052640"/>
            <a:ext cx="1219320" cy="0"/>
            <a:chOff x="1763640" y="1052640"/>
            <a:chExt cx="1219320" cy="0"/>
          </a:xfrm>
        </p:grpSpPr>
        <p:sp>
          <p:nvSpPr>
            <p:cNvPr id="129" name=""/>
            <p:cNvSpPr/>
            <p:nvPr/>
          </p:nvSpPr>
          <p:spPr>
            <a:xfrm>
              <a:off x="1763640" y="1052640"/>
              <a:ext cx="304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20840" y="10526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49440" y="1052640"/>
              <a:ext cx="304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06640" y="10526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796000" y="1920960"/>
            <a:ext cx="1066320" cy="0"/>
            <a:chOff x="5796000" y="1920960"/>
            <a:chExt cx="1066320" cy="0"/>
          </a:xfrm>
        </p:grpSpPr>
        <p:sp>
          <p:nvSpPr>
            <p:cNvPr id="134" name=""/>
            <p:cNvSpPr/>
            <p:nvPr/>
          </p:nvSpPr>
          <p:spPr>
            <a:xfrm>
              <a:off x="5796000" y="1920960"/>
              <a:ext cx="266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95960" y="1920960"/>
              <a:ext cx="66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95760" y="1920960"/>
              <a:ext cx="266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95720" y="1920960"/>
              <a:ext cx="66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164360" y="1996560"/>
            <a:ext cx="761760" cy="0"/>
            <a:chOff x="7164360" y="1996560"/>
            <a:chExt cx="761760" cy="0"/>
          </a:xfrm>
        </p:grpSpPr>
        <p:sp>
          <p:nvSpPr>
            <p:cNvPr id="139" name=""/>
            <p:cNvSpPr/>
            <p:nvPr/>
          </p:nvSpPr>
          <p:spPr>
            <a:xfrm>
              <a:off x="7164360" y="1996560"/>
              <a:ext cx="190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49840" y="1996560"/>
              <a:ext cx="47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92760" y="1996560"/>
              <a:ext cx="190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78600" y="1996560"/>
              <a:ext cx="47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rcRect l="11917" t="0" r="0" b="0"/>
          <a:stretch/>
        </p:blipFill>
        <p:spPr>
          <a:xfrm>
            <a:off x="684360" y="692280"/>
            <a:ext cx="792000" cy="677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11917" t="0" r="0" b="0"/>
          <a:stretch/>
        </p:blipFill>
        <p:spPr>
          <a:xfrm>
            <a:off x="7596360" y="765000"/>
            <a:ext cx="792000" cy="67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rcRect l="11917" t="0" r="0" b="0"/>
          <a:stretch/>
        </p:blipFill>
        <p:spPr>
          <a:xfrm>
            <a:off x="7667640" y="5516640"/>
            <a:ext cx="792000" cy="677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rcRect l="11917" t="0" r="0" b="0"/>
          <a:stretch/>
        </p:blipFill>
        <p:spPr>
          <a:xfrm>
            <a:off x="7667640" y="2924280"/>
            <a:ext cx="792000" cy="677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rcRect l="11917" t="0" r="0" b="0"/>
          <a:stretch/>
        </p:blipFill>
        <p:spPr>
          <a:xfrm>
            <a:off x="611280" y="2852640"/>
            <a:ext cx="792000" cy="677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rcRect l="11917" t="0" r="0" b="0"/>
          <a:stretch/>
        </p:blipFill>
        <p:spPr>
          <a:xfrm>
            <a:off x="3924360" y="5516640"/>
            <a:ext cx="792000" cy="677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"/>
          <a:srcRect l="11917" t="0" r="0" b="0"/>
          <a:stretch/>
        </p:blipFill>
        <p:spPr>
          <a:xfrm>
            <a:off x="611280" y="5589720"/>
            <a:ext cx="792000" cy="677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979640" y="69228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физмину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692360" y="907920"/>
            <a:ext cx="21564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4696 C -0.01163 0.10526 0.07483 0.1536 0.18038 0.1536 C 0.30469 0.1536 0.34965 0.10017 0.36858 0.06801 L 0.38802 0.02499 C 0.40746 -0.00647 0.45521 -0.05968 0.59566 -0.05968 C 0.68559 -0.05968 0.78785 -0.01226 0.78785 0.04696 C 0.78785 0.10526 0.68559 0.1536 0.59566 0.1536 C 0.45521 0.1536 0.40746 0.10017 0.38802 0.06801 L 0.36858 0.02499 C 0.34965 -0.00647 0.30469 -0.05968 0.18038 -0.05968 C 0.07483 -0.05968 -0.01163 -0.01226 -0.01163 0.04696 Z">
                                      <p:cBhvr>
                                        <p:cTn id="32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5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4557 C -0.00017 0.11451 -0.08455 0.17118 -0.1868 0.17118 C -0.30746 0.17118 -0.35087 0.10826 -0.36927 0.07056 L -0.38802 0.02036 C -0.40712 -0.01734 -0.45312 -0.08003 -0.58958 -0.08003 C -0.67691 -0.08003 -0.77552 -0.02359 -0.77552 0.04557 C -0.77552 0.11451 -0.67691 0.17118 -0.58958 0.17118 C -0.45312 0.17118 -0.40712 0.10826 -0.38802 0.07056 L -0.36927 0.02036 C -0.35087 -0.01734 -0.30746 -0.08003 -0.1868 -0.08003 C -0.08455 -0.08003 -0.00017 -0.02359 -0.00017 0.04557 Z">
                                      <p:cBhvr>
                                        <p:cTn id="336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1" nodeType="after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78742E-006 C -0.06649 -0.00532 -0.11875 -0.08304 -0.11476 -0.17303 C -0.1099 -0.27897 -0.04653 -0.31205 -0.00938 -0.32547 L 0.03976 -0.33796 C 0.07743 -0.3516 0.13958 -0.38746 0.14496 -0.50705 C 0.14826 -0.58362 0.09774 -0.67499 0.03055 -0.68031 C -0.03576 -0.68563 -0.09531 -0.60305 -0.09879 -0.52671 C -0.10417 -0.40712 -0.04427 -0.36132 -0.00868 -0.34189 L 0.03889 -0.32176 C 0.07517 -0.30233 0.13368 -0.25931 0.12899 -0.15336 C 0.12483 -0.06361 0.06701 0.00555 1.11111E-006 -2.78742E-006 Z">
                                      <p:cBhvr>
                                        <p:cTn id="352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9000"/>
                            </p:stCondLst>
                            <p:childTnLst>
                              <p:par>
                                <p:cTn id="3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3 0.05228 C -0.03907 0.04534 -0.04202 0.03493 -0.04827 0.0266 C -0.05573 0.01666 -0.06129 0.0044 -0.06875 -0.00555 C -0.07362 -0.01203 -0.07882 -0.01758 -0.08316 -0.02475 C -0.08907 -0.03447 -0.09219 -0.04626 -0.09896 -0.05528 C -0.09983 -0.05806 -0.1 -0.06107 -0.10139 -0.06338 C -0.10903 -0.07703 -0.10365 -0.05991 -0.10851 -0.07286 C -0.11355 -0.08605 -0.12084 -0.09924 -0.12778 -0.1115 C -0.13004 -0.12075 -0.13559 -0.12931 -0.13993 -0.13717 C -0.14237 -0.14712 -0.15191 -0.16054 -0.15677 -0.16933 C -0.16302 -0.18066 -0.16719 -0.19477 -0.17483 -0.20449 C -0.17917 -0.21605 -0.18473 -0.22623 -0.19046 -0.23664 C -0.19167 -0.23895 -0.19184 -0.24219 -0.19289 -0.24474 C -0.19566 -0.25144 -0.19948 -0.25746 -0.20243 -0.26394 C -0.20712 -0.27411 -0.21094 -0.28406 -0.2158 -0.29447 C -0.22223 -0.30789 -0.23004 -0.31992 -0.23507 -0.33449 C -0.2415 -0.35323 -0.24427 -0.37451 -0.25191 -0.39232 C -0.25521 -0.39995 -0.25487 -0.40851 -0.26042 -0.41337 C -0.26493 -0.42262 -0.26771 -0.43303 -0.2724 -0.44205 C -0.27535 -0.45408 -0.28247 -0.46195 -0.28559 -0.47421 C -0.28733 -0.48115 -0.29358 -0.48508 -0.29532 -0.49202 C -0.29688 -0.4978 -0.29896 -0.50358 -0.30018 -0.5096 C -0.30035 -0.51052 -0.30157 -0.52024 -0.30243 -0.52232 C -0.30243 -0.52232 -0.30851 -0.53435 -0.30973 -0.53689 C -0.31094 -0.53921 -0.31112 -0.54245 -0.31216 -0.54499 C -0.31285 -0.54661 -0.31372 -0.548 -0.31459 -0.54962 C -0.31719 -0.56003 -0.32223 -0.56859 -0.32535 -0.57853 C -0.33334 -0.60444 -0.33855 -0.6322 -0.34827 -0.65718 C -0.35105 -0.67152 -0.36042 -0.68193 -0.36632 -0.69419 C -0.36719 -0.69604 -0.3632 -0.69327 -0.36164 -0.69257 C -0.35365 -0.68957 -0.36302 -0.69211 -0.3507 -0.68933 C -0.33351 -0.68008 -0.31493 -0.67199 -0.29653 -0.66852 C -0.26285 -0.65348 -0.28802 -0.66366 -0.20851 -0.66204 C -0.05625 -0.6625 0.09583 -0.66366 0.24809 -0.66366 C 0.25625 -0.66366 0.25486 -0.66412 0.25659 -0.65718 C 0.25694 -0.647 0.25694 -0.63683 0.25763 -0.62665 C 0.2585 -0.61369 0.26406 -0.60051 0.26736 -0.58825 C 0.2743 -0.56303 0.27899 -0.53666 0.28541 -0.51122 C 0.2875 -0.50266 0.29079 -0.49433 0.2927 -0.48554 C 0.29687 -0.46634 0.29618 -0.44298 0.30468 -0.42609 C 0.30503 -0.42401 0.30486 -0.42123 0.3059 -0.41961 C 0.30816 -0.41614 0.31441 -0.41175 0.31441 -0.41175 C 0.32013 -0.39602 0.31649 -0.40227 0.32395 -0.39232 C 0.32656 -0.37913 0.32343 -0.39255 0.3276 -0.38122 C 0.32986 -0.3752 0.32795 -0.37566 0.33003 -0.36826 C 0.33194 -0.36132 0.33541 -0.35369 0.33836 -0.34744 C 0.34027 -0.33171 0.34479 -0.31575 0.3493 -0.30095 C 0.35086 -0.29031 0.35191 -0.27782 0.35416 -0.26717 C 0.35694 -0.25399 0.36163 -0.2415 0.36493 -0.22854 C 0.36961 -0.21027 0.36475 -0.22114 0.36979 -0.21096 C 0.37222 -0.19223 0.37847 -0.17441 0.38298 -0.15637 C 0.38993 -0.12884 0.39618 -0.10039 0.40833 -0.0761 C 0.40954 -0.06963 0.41093 -0.06361 0.41198 -0.0569 C 0.41232 -0.0495 0.4125 -0.04187 0.41319 -0.03447 C 0.41336 -0.03285 0.41406 -0.03123 0.41441 -0.02961 C 0.41527 -0.02429 0.41684 -0.01365 0.41684 -0.01365 C 0.41458 -0.00185 0.40781 -0.01041 0.40104 -0.01365 C 0.39027 -0.01874 0.37395 -0.02776 0.3625 -0.02799 C 0.32725 -0.02891 0.29184 -0.02915 0.25659 -0.02961 C 0.16788 -0.02544 0.19149 -0.02614 0.03732 -0.02475 C 0.02621 -0.01989 0.03263 -0.02174 0.01788 -0.01989 C 0.00347 -0.0148 -0.01181 -0.01388 -0.02657 -0.01203 C -0.03299 -0.01249 -0.03959 -0.01156 -0.04584 -0.01365 C -0.04705 -0.01411 -0.0448 -0.01665 -0.04462 -0.01827 C -0.04323 -0.03608 -0.04566 -0.03955 -0.04115 -0.05205 C -0.03855 -0.05922 -0.03455 -0.06361 -0.03264 -0.07125 C -0.02865 -0.08698 -0.02379 -0.1034 -0.02066 -0.11959 C -0.01754 -0.13578 -0.01372 -0.15175 -0.0073 -0.16609 C -0.00504 -0.1839 -0.00816 -0.16817 -0.00243 -0.18205 C 0.00312 -0.1957 0.00399 -0.21258 0.00833 -0.22692 C 0.01093 -0.23571 0.0125 -0.24381 0.01441 -0.25283 C 0.0151 -0.25607 0.01684 -0.26232 0.01684 -0.26232 C 0.01788 -0.28799 0.0217 -0.3183 0.01562 -0.34258 C 0.01718 -0.37682 0.01684 -0.3597 0.01684 -0.39394 E">
                                      <p:cBhvr>
                                        <p:cTn id="358" dur="3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4000"/>
                            </p:stCondLst>
                            <p:childTnLst>
                              <p:par>
                                <p:cTn id="3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6000"/>
                            </p:stCondLst>
                            <p:childTnLst>
                              <p:par>
                                <p:cTn id="3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rcRect l="11917" t="0" r="0" b="0"/>
          <a:stretch/>
        </p:blipFill>
        <p:spPr>
          <a:xfrm>
            <a:off x="7467480" y="0"/>
            <a:ext cx="1676520" cy="1433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3132000" y="549360"/>
            <a:ext cx="26053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леп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rcRect l="5316" t="21340" r="9448" b="20005"/>
          <a:stretch/>
        </p:blipFill>
        <p:spPr>
          <a:xfrm>
            <a:off x="0" y="0"/>
            <a:ext cx="1981080" cy="1362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124080" y="1752480"/>
            <a:ext cx="5410440" cy="2133720"/>
          </a:xfrm>
          <a:prstGeom prst="cloudCallout">
            <a:avLst>
              <a:gd name="adj1" fmla="val 29166"/>
              <a:gd name="adj2" fmla="val -64287"/>
            </a:avLst>
          </a:prstGeom>
          <a:solidFill>
            <a:srgbClr val="db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речие – неизменяемая часть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0480" y="3789360"/>
            <a:ext cx="77155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Образуйте наречия от сл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ордый, лето, лев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очь, ша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260280"/>
            <a:ext cx="1059120" cy="9874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052000" y="1413000"/>
            <a:ext cx="2062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ордый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ето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евая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чь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шаг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11917" t="0" r="0" b="0"/>
          <a:stretch/>
        </p:blipFill>
        <p:spPr>
          <a:xfrm>
            <a:off x="7467480" y="0"/>
            <a:ext cx="1676520" cy="1433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rcRect l="5316" t="21340" r="9448" b="20005"/>
          <a:stretch/>
        </p:blipFill>
        <p:spPr>
          <a:xfrm>
            <a:off x="0" y="0"/>
            <a:ext cx="1981080" cy="1362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141800" y="1413000"/>
            <a:ext cx="13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ор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66920" y="2349360"/>
            <a:ext cx="14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3357720"/>
            <a:ext cx="30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лева, нал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68720" y="4365720"/>
            <a:ext cx="15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ч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7280" y="5300640"/>
            <a:ext cx="14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ша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148360" y="1267920"/>
            <a:ext cx="359640" cy="361800"/>
            <a:chOff x="5148360" y="1267920"/>
            <a:chExt cx="359640" cy="361800"/>
          </a:xfrm>
        </p:grpSpPr>
        <p:sp>
          <p:nvSpPr>
            <p:cNvPr id="167" name=""/>
            <p:cNvSpPr/>
            <p:nvPr/>
          </p:nvSpPr>
          <p:spPr>
            <a:xfrm flipV="1">
              <a:off x="5148360" y="1267920"/>
              <a:ext cx="179640" cy="36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5327640" y="1267920"/>
              <a:ext cx="180360" cy="36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859280" y="2133720"/>
            <a:ext cx="646920" cy="361440"/>
            <a:chOff x="4859280" y="2133720"/>
            <a:chExt cx="646920" cy="361440"/>
          </a:xfrm>
        </p:grpSpPr>
        <p:sp>
          <p:nvSpPr>
            <p:cNvPr id="170" name=""/>
            <p:cNvSpPr/>
            <p:nvPr/>
          </p:nvSpPr>
          <p:spPr>
            <a:xfrm flipV="1">
              <a:off x="4859280" y="2133720"/>
              <a:ext cx="322920" cy="36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5181840" y="2133720"/>
              <a:ext cx="324360" cy="36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877080" y="3141720"/>
            <a:ext cx="359640" cy="361440"/>
            <a:chOff x="6877080" y="3141720"/>
            <a:chExt cx="359640" cy="361440"/>
          </a:xfrm>
        </p:grpSpPr>
        <p:sp>
          <p:nvSpPr>
            <p:cNvPr id="173" name=""/>
            <p:cNvSpPr/>
            <p:nvPr/>
          </p:nvSpPr>
          <p:spPr>
            <a:xfrm flipV="1">
              <a:off x="6877080" y="3141720"/>
              <a:ext cx="179640" cy="36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7056360" y="3141720"/>
              <a:ext cx="180360" cy="36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148360" y="4149720"/>
            <a:ext cx="359640" cy="361440"/>
            <a:chOff x="5148360" y="4149720"/>
            <a:chExt cx="359640" cy="361440"/>
          </a:xfrm>
        </p:grpSpPr>
        <p:sp>
          <p:nvSpPr>
            <p:cNvPr id="176" name=""/>
            <p:cNvSpPr/>
            <p:nvPr/>
          </p:nvSpPr>
          <p:spPr>
            <a:xfrm flipV="1">
              <a:off x="5148360" y="4149720"/>
              <a:ext cx="179640" cy="36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5327640" y="4149720"/>
              <a:ext cx="180360" cy="36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932360" y="5084280"/>
            <a:ext cx="576000" cy="361800"/>
            <a:chOff x="4932360" y="5084280"/>
            <a:chExt cx="576000" cy="361800"/>
          </a:xfrm>
        </p:grpSpPr>
        <p:sp>
          <p:nvSpPr>
            <p:cNvPr id="179" name=""/>
            <p:cNvSpPr/>
            <p:nvPr/>
          </p:nvSpPr>
          <p:spPr>
            <a:xfrm flipV="1">
              <a:off x="4932360" y="5084280"/>
              <a:ext cx="287280" cy="36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5219640" y="5084280"/>
              <a:ext cx="288720" cy="36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067280" y="3357720"/>
            <a:ext cx="431640" cy="144360"/>
            <a:chOff x="4067280" y="3357720"/>
            <a:chExt cx="431640" cy="144360"/>
          </a:xfrm>
        </p:grpSpPr>
        <p:sp>
          <p:nvSpPr>
            <p:cNvPr id="182" name=""/>
            <p:cNvSpPr/>
            <p:nvPr/>
          </p:nvSpPr>
          <p:spPr>
            <a:xfrm>
              <a:off x="4067280" y="3357720"/>
              <a:ext cx="431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98920" y="3357720"/>
              <a:ext cx="0" cy="144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651640" y="3357720"/>
            <a:ext cx="431640" cy="144360"/>
            <a:chOff x="5651640" y="3357720"/>
            <a:chExt cx="431640" cy="144360"/>
          </a:xfrm>
        </p:grpSpPr>
        <p:sp>
          <p:nvSpPr>
            <p:cNvPr id="185" name=""/>
            <p:cNvSpPr/>
            <p:nvPr/>
          </p:nvSpPr>
          <p:spPr>
            <a:xfrm>
              <a:off x="5651640" y="3357720"/>
              <a:ext cx="431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3280" y="3357720"/>
              <a:ext cx="0" cy="144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148360" y="3141720"/>
            <a:ext cx="359640" cy="361440"/>
            <a:chOff x="5148360" y="3141720"/>
            <a:chExt cx="359640" cy="361440"/>
          </a:xfrm>
        </p:grpSpPr>
        <p:sp>
          <p:nvSpPr>
            <p:cNvPr id="188" name=""/>
            <p:cNvSpPr/>
            <p:nvPr/>
          </p:nvSpPr>
          <p:spPr>
            <a:xfrm flipV="1">
              <a:off x="5148360" y="3141720"/>
              <a:ext cx="179640" cy="36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5327640" y="3141720"/>
              <a:ext cx="180360" cy="36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rcRect l="11917" t="0" r="0" b="0"/>
          <a:stretch/>
        </p:blipFill>
        <p:spPr>
          <a:xfrm>
            <a:off x="7620120" y="0"/>
            <a:ext cx="1523880" cy="1303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3203640" y="620640"/>
            <a:ext cx="288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пазл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76520" cy="1405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826920" y="1844640"/>
            <a:ext cx="281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нони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508720" y="177336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тони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48360" y="2565360"/>
            <a:ext cx="302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верх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дленн .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прав .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терес . н .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2637000"/>
            <a:ext cx="28958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дос . н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ол . дн .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ч . льн .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кру .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195640" y="2637000"/>
            <a:ext cx="21564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195640" y="4941720"/>
            <a:ext cx="144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692360" y="4221000"/>
            <a:ext cx="21564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56000" y="3573360"/>
            <a:ext cx="2156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195640" y="2781360"/>
            <a:ext cx="21564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771640" y="4221000"/>
            <a:ext cx="216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451640" y="4869000"/>
            <a:ext cx="216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020000" y="3429000"/>
            <a:ext cx="216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692360" y="3500280"/>
            <a:ext cx="2156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588000" y="4149720"/>
            <a:ext cx="216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77080" y="4797360"/>
            <a:ext cx="216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148360" y="2708280"/>
            <a:ext cx="43164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148360" y="4149720"/>
            <a:ext cx="43164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148360" y="2637000"/>
            <a:ext cx="431640" cy="144360"/>
            <a:chOff x="5148360" y="2637000"/>
            <a:chExt cx="431640" cy="144360"/>
          </a:xfrm>
        </p:grpSpPr>
        <p:sp>
          <p:nvSpPr>
            <p:cNvPr id="211" name=""/>
            <p:cNvSpPr/>
            <p:nvPr/>
          </p:nvSpPr>
          <p:spPr>
            <a:xfrm>
              <a:off x="5148360" y="2637000"/>
              <a:ext cx="431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80000" y="2637000"/>
              <a:ext cx="0" cy="144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148360" y="4076640"/>
            <a:ext cx="431640" cy="144360"/>
            <a:chOff x="5148360" y="4076640"/>
            <a:chExt cx="431640" cy="144360"/>
          </a:xfrm>
        </p:grpSpPr>
        <p:sp>
          <p:nvSpPr>
            <p:cNvPr id="214" name=""/>
            <p:cNvSpPr/>
            <p:nvPr/>
          </p:nvSpPr>
          <p:spPr>
            <a:xfrm>
              <a:off x="5148360" y="4076640"/>
              <a:ext cx="431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80000" y="4076640"/>
              <a:ext cx="0" cy="144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 flipV="1">
            <a:off x="6877080" y="4941720"/>
            <a:ext cx="360360" cy="216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1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0:40:42Z</dcterms:created>
  <dc:creator>Ольга</dc:creator>
  <dc:description/>
  <dc:language>en-US</dc:language>
  <cp:lastModifiedBy>kabinet</cp:lastModifiedBy>
  <dcterms:modified xsi:type="dcterms:W3CDTF">2010-12-20T12:26:03Z</dcterms:modified>
  <cp:revision>17</cp:revision>
  <dc:subject/>
  <dc:title>Слайд 1</dc:title>
</cp:coreProperties>
</file>