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2CF-710F-467A-B7E6-A28A570A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C07-AEB1-481B-B093-BED731E3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212-DEA9-49EC-97C0-6C389C57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2B1-58F7-4224-9CA2-0EB4C318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1A2-3874-4264-8F9A-21BAF322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CAD-0666-4F7E-A0E1-D904EE1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4DD-3882-4578-85BD-837F31F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F5A-9CC1-4B8D-A980-C6EDB23B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048-030E-49C1-B13F-50A70C3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686-279A-47C3-B462-A6DF522A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9E5-4538-46CD-9C36-BED4D5AA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D4A-7850-477A-BF9C-4F4DC11E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E63B-E8B5-44B2-8774-D2DF0AB4C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71760" y="3071880"/>
            <a:ext cx="6400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ниц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ИННИКОВОЙ АНАСТА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РЕХОВА ТАТЬЯН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804960" y="858960"/>
            <a:ext cx="7242120" cy="222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2d7dc"/>
              </a:gs>
              <a:gs pos="100000">
                <a:srgbClr val="eaf4f6"/>
              </a:gs>
            </a:gsLst>
            <a:lin ang="16200000"/>
          </a:gradFill>
          <a:ln w="9360">
            <a:solidFill>
              <a:srgbClr val="407e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Постоянно ищет чужого одобр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ик стремится угодить другим, чтобы ему не приходилось делать. Он отказывается действовать от своего собственного лица. Он отдаёт другим право создать себе собственное мн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C:\Documents and Settings\Татьяна Ивановна\Мои документы\вредные привычки\Наркомания\NEWSru_com  От 3 до 5 миллионов россиян пробовали наркотики.files\439011_20020626165522.jpg"/>
          <p:cNvPicPr/>
          <p:nvPr/>
        </p:nvPicPr>
        <p:blipFill>
          <a:blip r:embed="rId1"/>
          <a:stretch/>
        </p:blipFill>
        <p:spPr>
          <a:xfrm>
            <a:off x="428760" y="2714760"/>
            <a:ext cx="3705120" cy="276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2d7dc"/>
              </a:gs>
              <a:gs pos="100000">
                <a:srgbClr val="eaf4f6"/>
              </a:gs>
            </a:gsLst>
            <a:lin ang="16200000"/>
          </a:gradFill>
          <a:ln w="9360">
            <a:solidFill>
              <a:srgbClr val="407e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Он не знает чего хочет от жизн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ща одобрения у окружающих, он видит жизнь сквозь очки немедленного вознаграждения. Его мнения и суждения меняются быстрее, чем у прощелыги-политика. Он искренне не понимает себя до конца для того, чтобы найти цели в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C:\Documents and Settings\Татьяна Ивановна\Мои документы\Для исследов\нарк\Путеводитель наркомании\КАРТИНКИ\girl.gif"/>
          <p:cNvPicPr/>
          <p:nvPr/>
        </p:nvPicPr>
        <p:blipFill>
          <a:blip r:embed="rId1"/>
          <a:stretch/>
        </p:blipFill>
        <p:spPr>
          <a:xfrm>
            <a:off x="5072040" y="1857240"/>
            <a:ext cx="3286080" cy="430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aced"/>
              </a:gs>
              <a:gs pos="100000">
                <a:srgbClr val="fae8fb"/>
              </a:gs>
            </a:gsLst>
            <a:lin ang="16200000"/>
          </a:gradFill>
          <a:ln w="9360">
            <a:solidFill>
              <a:srgbClr val="9e49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е знакомые - угроза и вам. Выбирайте правильных друзей и отучайте себя от аналогичных привыч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C:\Documents and Settings\Татьяна Ивановна\Мои документы\МС\Неделя развив. обуч\День здоровья\PICT0049.JPG"/>
          <p:cNvPicPr/>
          <p:nvPr/>
        </p:nvPicPr>
        <p:blipFill>
          <a:blip r:embed="rId1"/>
          <a:stretch/>
        </p:blipFill>
        <p:spPr>
          <a:xfrm>
            <a:off x="17930880" y="14287680"/>
            <a:ext cx="24383880" cy="1828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Documents and Settings\Татьяна Ивановна\Рабочий стол\Анимашки\ТТ\стесняюсь.gif"/>
          <p:cNvPicPr/>
          <p:nvPr/>
        </p:nvPicPr>
        <p:blipFill>
          <a:blip r:embed="rId2"/>
          <a:stretch/>
        </p:blipFill>
        <p:spPr>
          <a:xfrm>
            <a:off x="1214280" y="1428840"/>
            <a:ext cx="752760" cy="132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Documents and Settings\Татьяна Ивановна\Рабочий стол\Анимашки\спортивные анимации\столовая.jpg"/>
          <p:cNvPicPr/>
          <p:nvPr/>
        </p:nvPicPr>
        <p:blipFill>
          <a:blip r:embed="rId3"/>
          <a:stretch/>
        </p:blipFill>
        <p:spPr>
          <a:xfrm>
            <a:off x="357120" y="3143160"/>
            <a:ext cx="3890880" cy="255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01760" y="237960"/>
            <a:ext cx="8340480" cy="125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ДАЧНИК - </a:t>
            </a:r>
            <a:r>
              <a:rPr b="0" lang="ru-RU" sz="3200" spc="-1" strike="noStrike" u="sng">
                <a:solidFill>
                  <a:srgbClr val="0d0d0d"/>
                </a:solidFill>
                <a:uFillTx/>
                <a:latin typeface="Calibri"/>
              </a:rPr>
              <a:t>человек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му не везёт ни в чё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удачн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 неудачливый человек… (Современный толковый словарь русского языка Ефремов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УДАЧН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неудачливый человек. В ученье был он неудачник. Вересаев. … (Толковый словарь Ушак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28760"/>
            <a:ext cx="5400720" cy="569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рудно признавать себя неудачником даже тогда, когда сам громко заявляешь об этом. Заявления такого рода призваны побудить окружающих на похвалы и высокую оценку. Именно потому очень не хочется находить в себе черты неудачника на самом деле: это так неприятно. Но не зная врага, его невозможно победи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20.jpg"/>
          <p:cNvPicPr/>
          <p:nvPr/>
        </p:nvPicPr>
        <p:blipFill>
          <a:blip r:embed="rId1"/>
          <a:stretch/>
        </p:blipFill>
        <p:spPr>
          <a:xfrm>
            <a:off x="6072120" y="1206360"/>
            <a:ext cx="2571840" cy="378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ому давайте изучим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мь привычек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удачника, а потом уже будем от них избавляться, если встрет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Documents and Settings\Татьяна Ивановна\Рабочий стол\Анимашки\ТТ\грустно.bmp"/>
          <p:cNvPicPr/>
          <p:nvPr/>
        </p:nvPicPr>
        <p:blipFill>
          <a:blip r:embed="rId1"/>
          <a:srcRect l="26615" t="6524" r="20166" b="8694"/>
          <a:stretch/>
        </p:blipFill>
        <p:spPr>
          <a:xfrm>
            <a:off x="5857920" y="1785960"/>
            <a:ext cx="2890800" cy="341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2d7dc"/>
              </a:gs>
              <a:gs pos="100000">
                <a:srgbClr val="eaf4f6"/>
              </a:gs>
            </a:gsLst>
            <a:lin ang="16200000"/>
          </a:gradFill>
          <a:ln w="9360">
            <a:solidFill>
              <a:srgbClr val="407e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Неудачник видит проблемы в каждой возмож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57400" y="2214360"/>
            <a:ext cx="4825800" cy="395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ик видит плохое даже в абсолютно хорошем, он ищет и придумывает возможные плохие последствия, лишь бы оправдать своё безделье. Он часто говорит об удачливости других для того, чтобы скрыть своё неумение добиваться чего-то значитель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C:\Documents and Settings\Татьяна Ивановна\Мои документы\Мои рисунки\анима\СПИД\26.jpg"/>
          <p:cNvPicPr/>
          <p:nvPr/>
        </p:nvPicPr>
        <p:blipFill>
          <a:blip r:embed="rId1"/>
          <a:srcRect l="35164" t="0" r="0" b="0"/>
          <a:stretch/>
        </p:blipFill>
        <p:spPr>
          <a:xfrm>
            <a:off x="500040" y="2201760"/>
            <a:ext cx="3000240" cy="354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2d7dc"/>
              </a:gs>
              <a:gs pos="100000">
                <a:srgbClr val="eaf4f6"/>
              </a:gs>
            </a:gsLst>
            <a:lin ang="16200000"/>
          </a:gradFill>
          <a:ln w="9360">
            <a:solidFill>
              <a:srgbClr val="407e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Он перекладывает ответственнос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ая уверенность в себе приводит к тому, что неудачник видит себя жертвой жестокого окружения. Он чувствует, что другие виноваты в его неудач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Documents and Settings\Татьяна Ивановна\Мои документы\Для исследов\нарк\Путеводитель наркомании\КАРТИНКИ\2z.jpg"/>
          <p:cNvPicPr/>
          <p:nvPr/>
        </p:nvPicPr>
        <p:blipFill>
          <a:blip r:embed="rId1"/>
          <a:stretch/>
        </p:blipFill>
        <p:spPr>
          <a:xfrm>
            <a:off x="500040" y="2533680"/>
            <a:ext cx="3786120" cy="31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2d7dc"/>
              </a:gs>
              <a:gs pos="100000">
                <a:srgbClr val="eaf4f6"/>
              </a:gs>
            </a:gsLst>
            <a:lin ang="16200000"/>
          </a:gradFill>
          <a:ln w="9360">
            <a:solidFill>
              <a:srgbClr val="407e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 Он любит враждебные фраз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часто употребляет выражения вроде “Это не моё дело”, “Не я за это отвечаю” в ответ на предложения и замеч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C:\Documents and Settings\Татьяна Ивановна\Мои документы\Мои рисунки\анима\наркомания\7.jpg"/>
          <p:cNvPicPr/>
          <p:nvPr/>
        </p:nvPicPr>
        <p:blipFill>
          <a:blip r:embed="rId1"/>
          <a:stretch/>
        </p:blipFill>
        <p:spPr>
          <a:xfrm>
            <a:off x="5000760" y="2214720"/>
            <a:ext cx="3368520" cy="388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2d7dc"/>
              </a:gs>
              <a:gs pos="100000">
                <a:srgbClr val="eaf4f6"/>
              </a:gs>
            </a:gsLst>
            <a:lin ang="16200000"/>
          </a:gradFill>
          <a:ln w="9360">
            <a:solidFill>
              <a:srgbClr val="407e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Он быстро смиряется с поражени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удачник может часто менять место работы или даже карьеру, отказываясь от мечты во имя новой мечты, но всегда находит способ оправдать ничегонеделание. его уверенность в работе или карьере длится ровно до того момента как он находит другую работу или карьер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C:\Documents and Settings\Татьяна Ивановна\Мои документы\Для исследов\Курен\Приложения\Рисунок 2.bmp"/>
          <p:cNvPicPr/>
          <p:nvPr/>
        </p:nvPicPr>
        <p:blipFill>
          <a:blip r:embed="rId1"/>
          <a:stretch/>
        </p:blipFill>
        <p:spPr>
          <a:xfrm>
            <a:off x="500040" y="2571840"/>
            <a:ext cx="3951360" cy="28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2d7dc"/>
              </a:gs>
              <a:gs pos="100000">
                <a:srgbClr val="eaf4f6"/>
              </a:gs>
            </a:gsLst>
            <a:lin ang="16200000"/>
          </a:gradFill>
          <a:ln w="9360">
            <a:solidFill>
              <a:srgbClr val="407e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. Он подсел на ТВ и лотере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ик проводит больше времени за экраном ТВ, чем за полезными занятиями. Кроме того он мечтает разбогатеть в одно мгновение, от того он падок на всевозможные лоте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C:\Documents and Settings\Татьяна Ивановна\Мои документы\Мои рисунки\анима\наркомания\10.jpg"/>
          <p:cNvPicPr/>
          <p:nvPr/>
        </p:nvPicPr>
        <p:blipFill>
          <a:blip r:embed="rId1"/>
          <a:stretch/>
        </p:blipFill>
        <p:spPr>
          <a:xfrm>
            <a:off x="5000760" y="2500200"/>
            <a:ext cx="3344760" cy="33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Ивановна</cp:lastModifiedBy>
  <dcterms:modified xsi:type="dcterms:W3CDTF">2012-02-13T17:13:17Z</dcterms:modified>
  <cp:revision>14</cp:revision>
  <dc:subject/>
  <dc:title>Слайд 1</dc:title>
</cp:coreProperties>
</file>